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DDA-D99E-4772-A0B6-720DD6E5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A185-FB75-4B30-BC4D-A650B7B2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D4D-1F71-48FB-8504-8DFEA4EA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395D-1D1C-4004-94F4-4182E70D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27DC-7888-44A6-9F7D-D0D91BD6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8A6-8494-4F7B-AD61-C8822EF1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F833-9DD4-4563-860C-EA9BAAEF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41A-838A-4A9A-889A-EAEAC4DC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0F4-ADB0-4EEC-A980-5FF736FE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7D8-4B0B-4AB8-AD8E-1BED213E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64AF-F954-43E2-92E1-BA02AA0F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D4C0-CCB8-4FBC-A77A-4470FFC7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3846-83E8-4C1F-BD1A-CF2243065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илищная рефор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.Г. Я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ля расходов на ЖКУ в бюджете домохозяй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1557360"/>
          <a:ext cx="8229600" cy="3236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е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уг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кс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539640" y="4941720"/>
            <a:ext cx="828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учая ЖКУ по субсидированным ценам, российские домохозяйства тратят на них из своего бюджета, по официальным данным, 10,8% доходов (2004 г., в 2001 г. – 7,1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екс соотношения цен и до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редняя цена стандартной квартиры пл. 54 м   и среднего годового совокупного денежного дохода семьи из 3-х челове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вропейская норма – 3-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я, 2007 г. – 5,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бережения – 30% дохода. Купить квартиру – 16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2133720"/>
            <a:ext cx="216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92720" y="76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7129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декс соотношения цен и доходов в мир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16000" y="1963800"/>
            <a:ext cx="68407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едний размер жилья в России и странах ЕС, кв. 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97040"/>
            <a:ext cx="8229600" cy="4330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623736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та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ousing statistics in the European Union 2005/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словия ипотечного кредит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няя семья вчера могла получить ипотечный кредит для приобретения 25 м    жилья с первоначальным взносом 30% стоимости жил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007 г. приобрели жилье на рынке 2,5 млн. или 4,8% общего числа домохозяйств. Это 26,7% тех, кто имел деньги на жилье.  Из них 11% домохозяйств имели потребность. Всего потребность у 60% домохозяй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12000" y="1989000"/>
            <a:ext cx="360360" cy="1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пределение домохозяйств (3 человека) по возможностям приобретения жилья на различных сегментах рынка жиль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4705200" cy="3552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390920" y="1890720"/>
            <a:ext cx="2552760" cy="67464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упно приобретение жилья по цене о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1,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ыс. руб./кв.м.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кущи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словиям кредит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75080" y="2637000"/>
            <a:ext cx="2552760" cy="60948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упно приобретение жилья по цене о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1,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ыс. руб./кв.м.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ы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м кредит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65720" y="3284640"/>
            <a:ext cx="2552760" cy="60948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упно приобретение жилья по цене о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1,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ыс. руб./кв.м.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ы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словиям кредит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65720" y="3943440"/>
            <a:ext cx="2552760" cy="60948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упно приобретение жилья по цене о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ыс. руб./кв.м.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ы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словиям кредит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65720" y="4626000"/>
            <a:ext cx="2552760" cy="60948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упно приобретение жилья на рынке без специальной поддержки со стороны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1080" y="21330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2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-1684800" y="3276000"/>
            <a:ext cx="44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реднедушевые доходы, тыс. руб. в ме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699560"/>
            <a:ext cx="6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ма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720" y="37886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80" y="33570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1080" y="29235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3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720" y="4941000"/>
            <a:ext cx="6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0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по те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обенности жилищного ры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лищное хозяйство в СССР и первые шаги преобразований. Приватизация жил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ждународный опы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кандин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Восточная Евр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временный этап жилищной реформы в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форма ЖКХ и политика до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КХ, местное самоуправление и низовая демокра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сновные показатели обеспеченности жильем в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2920" y="1363680"/>
          <a:ext cx="8893080" cy="5402160"/>
        </p:xfrm>
        <a:graphic>
          <a:graphicData uri="http://schemas.openxmlformats.org/drawingml/2006/table">
            <a:tbl>
              <a:tblPr/>
              <a:tblGrid>
                <a:gridCol w="5724360"/>
                <a:gridCol w="1152720"/>
                <a:gridCol w="1008000"/>
                <a:gridCol w="1008000"/>
              </a:tblGrid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 в действие жилья (млн.м</a:t>
                      </a:r>
                      <a:r>
                        <a:rPr b="0" lang="en-US" sz="24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лой фонд (млн. м</a:t>
                      </a:r>
                      <a:r>
                        <a:rPr b="0" lang="en-US" sz="2400" spc="-1" strike="noStrike" baseline="32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 площадь жилых помещений на одного ж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я семей, состоявших на учете как нуждающиеся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атизировано от начала приватизации (% от числа жилых помещений, подлежащих приватизац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я в структуре собственности на жилые помещения в 1990 – 2004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1989000"/>
          <a:ext cx="8496000" cy="3232440"/>
        </p:xfrm>
        <a:graphic>
          <a:graphicData uri="http://schemas.openxmlformats.org/drawingml/2006/table">
            <a:tbl>
              <a:tblPr/>
              <a:tblGrid>
                <a:gridCol w="3522600"/>
                <a:gridCol w="1535040"/>
                <a:gridCol w="1609560"/>
                <a:gridCol w="1828800"/>
              </a:tblGrid>
              <a:tr h="528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собств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общего жилищного фон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ределение жилого фонда по категориям собственности в скандинавских стра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1700280"/>
          <a:ext cx="9144000" cy="2917800"/>
        </p:xfrm>
        <a:graphic>
          <a:graphicData uri="http://schemas.openxmlformats.org/drawingml/2006/table">
            <a:tbl>
              <a:tblPr/>
              <a:tblGrid>
                <a:gridCol w="1254240"/>
                <a:gridCol w="1620720"/>
                <a:gridCol w="1401840"/>
                <a:gridCol w="1253880"/>
                <a:gridCol w="1417680"/>
                <a:gridCol w="1457280"/>
                <a:gridCol w="738360"/>
              </a:tblGrid>
              <a:tr h="504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собств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ые домохозяйства (прямая собствен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ямая, коллективная собств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ные прибыльные комп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енный сектор, на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 сектор или социальный на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ве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е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лян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лан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намика структуры собственности на жилье и расселения домохозяйств в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50920" y="1125360"/>
          <a:ext cx="8435880" cy="5319720"/>
        </p:xfrm>
        <a:graphic>
          <a:graphicData uri="http://schemas.openxmlformats.org/drawingml/2006/table">
            <a:tbl>
              <a:tblPr/>
              <a:tblGrid>
                <a:gridCol w="2808360"/>
                <a:gridCol w="936360"/>
                <a:gridCol w="863640"/>
                <a:gridCol w="936720"/>
                <a:gridCol w="1008000"/>
                <a:gridCol w="936720"/>
                <a:gridCol w="946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овладельцы (собственники домов – жильцы)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7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8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5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9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8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ендаторы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5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8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ендаторы в домах публичной собственности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арендаторы, получающие субсидии, тыс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468360" y="64911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, Malpezzi, 2003, p.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уктура собственности на жилье в странах Центральной и Восточной Европы в 1990-1994 гг.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836640"/>
          <a:ext cx="8964720" cy="5592600"/>
        </p:xfrm>
        <a:graphic>
          <a:graphicData uri="http://schemas.openxmlformats.org/drawingml/2006/table">
            <a:tbl>
              <a:tblPr/>
              <a:tblGrid>
                <a:gridCol w="1522440"/>
                <a:gridCol w="936720"/>
                <a:gridCol w="1150920"/>
                <a:gridCol w="865080"/>
                <a:gridCol w="863640"/>
                <a:gridCol w="792360"/>
                <a:gridCol w="888840"/>
                <a:gridCol w="865080"/>
                <a:gridCol w="10796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ая и муниципальная собств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ная а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ое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г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ак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Центр. Евро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б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г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ва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мы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/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Юго-Вост. Евро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611280" y="649116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, Tsenkova, p.12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исок «переходных» стран с показателями доли приватизированной за 1990-1994 гг. части общественного жилого фонда (%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2205000"/>
          <a:ext cx="8229600" cy="3105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б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гр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мы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сто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ак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ва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х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гар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в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826920" y="602136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, Tsenkova,2003, p.4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пы роста тарифов на ЖКУ, инфляции и номинального располагаемого дохода населения относительного базового 199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42920" y="1341360"/>
          <a:ext cx="7416720" cy="528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341360"/>
                    <a:ext cx="7416720" cy="52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5:18:08Z</dcterms:created>
  <dc:creator>yassin</dc:creator>
  <dc:description/>
  <dc:language>en-US</dc:language>
  <cp:lastModifiedBy>yassin</cp:lastModifiedBy>
  <dcterms:modified xsi:type="dcterms:W3CDTF">2011-02-07T13:41:26Z</dcterms:modified>
  <cp:revision>8</cp:revision>
  <dc:subject/>
  <dc:title>Тема 20 Жилищная реформа</dc:title>
</cp:coreProperties>
</file>