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531-6B38-4943-AF46-3DF98AE4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62F-FC03-4FCF-97A5-53A82679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DDC-DB6D-48F0-8B2D-DE788232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593-2E88-402B-B87F-58CE3EA9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754E-6475-4B4C-A27E-30E99EBC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47C9-780A-4813-9580-03E4CEA1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84F1-7166-4898-A509-9C04F9F0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9964-4ED2-4C77-B7DD-5A0E270A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5386-94D1-418F-A71F-9EF29610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15EA-2853-4AD7-B911-8492B37F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77F5-45DF-486F-BEF7-C04D55BB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704F-0184-4BE1-8F8E-6DE34BFB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9D89-F75B-4744-9C5D-D1E912A7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B89B-18EE-4AB1-9C99-C5AAAB8F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8FE0-060B-406F-AF85-53841571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C613-AB64-4DB8-B575-107AF272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5DDB-2B85-466E-BC9E-D82A0334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D26-A8D4-4A80-8A74-0A366555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7D4-132A-47E5-B624-CD35B62B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7C6-9C58-4DA4-8D96-E74534F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6D5-8BA2-4861-9887-CD9C84B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1D8-EA5F-4D06-9812-A2379205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BC2-1D78-462C-B896-9C37AD66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DF3-B513-442A-9481-16291BF8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2A3C-0C44-4AE8-BE4C-92C75D555AA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F671-AA6D-42C2-9768-2D8C422573C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2880" y="19810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иды и способы стерилизации медицинских инструментов и материал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5720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захстанско – Российский  медицинский уни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федра ВК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II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урс пропедевтики внутренних болезней и сестринского де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28600" y="3962520"/>
            <a:ext cx="8229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.И.О. студент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акульте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ур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упп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ери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914400" y="5257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Алматы 2010г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Мытьё каждого изделия в моющем растворе при помощи ерша или ватно-марлевого тампона.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ремя выдержки 0,5 м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Ополаскивание проточной водой.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ремя выдержки 10 м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Ополаскивание дистиллированной водой.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ремя выдержки 0,5 м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Сушка горячим воздухом в сушильном шкафу.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ервоначальная температура раствора 85. До полного исчезновения влаг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6840" y="1519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3 этап - стерилизация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Для стерилизации инструмент укладывается на решетки, и для контроля качества стерилизации закладывается температурно-временной индикатор - винар-лента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Открытым методом стерилизуется в воздушном стерилизаторе в течение 1 ч при температуре 180°С. В журнале отмечается время начала и окончания стерилизации, а также подклеивается температурно-временной индикатор, который после стерилизации изменяет свой цвет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Comic Sans MS"/>
              </a:rPr>
              <a:t>Перевязочный материал, вату, белье стерилизуют в биксах или двухслойных мешках методом автоклавирования при температуре 120°C при давлении 1,1 атм. в течение 45 мин. На биксах ставится дата и часы стерилизации.</a:t>
            </a:r>
            <a:br>
              <a:rPr sz="2300"/>
            </a:b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00036611"/>
          <p:cNvPicPr/>
          <p:nvPr/>
        </p:nvPicPr>
        <p:blipFill>
          <a:blip r:embed="rId1"/>
          <a:stretch/>
        </p:blipFill>
        <p:spPr>
          <a:xfrm>
            <a:off x="6324480" y="4978440"/>
            <a:ext cx="23781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офилактическая дезинфекция и стерилизация различных объектов терапевтического отде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ермометры ртутные, медицинск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2% р-ра хлорамина- 15 минут. При полном погружении, затем промыть водой, хранить в сухом виде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Шпатель металл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Кипячение в дистиллированной воде -30 минут или обработка сухим воздухом при температуре 120 градусов С – 45 мину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Обработка сухим воздухом при температуре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=180 градусов С- 60 мину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уше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Кушетка полностью покрыта клеенкой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% р-ра хлорамина, двукратное протирание или 3% р-ра хлорамина , двукратное протирание, если загрязнена кровью и ее компонентами или другими биологическими жидкостям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ожницы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Кипячение в дистиллированной воде – 30 минут или в 2% содовом растворе -15 минут. При полном погружени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Мочалки для мытья пациенто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Кипячение в дистиллированной воде- 30 мину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Стерилизация паровым методом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08668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Стерилизующим агентом является водяной насыщенный пар под избыточным давлением стерилизацию производят в паровых стерилизаторах в течение 20—22 мин при давлении пара в стерилизационной камере 2 ± 0,2 кгс/см2 (0,2 ± 0,02 МПа) и температуре 132 ± 2°. Паровым методом стерилизуют изделия из текстильных материалов, стекла, коррозионно-устойчивого металла, резин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Для достижения необходимого прогрева необходимо полное удаление воздуха из стерилизационной камеры и стерилизуемых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объектов                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Стерилизация воздушным методом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уществляется сухим горячим воздухом в воздушных стерилизаторах при температуре 180° в течение 60—65 мин или при температуре 160° в течение 150 мин. Стерилизуют изделия из металла, стекла и силиконовой резины, а также разрушающиеся под действием влаги. Их укладывают в пакеты из крафт-бумаги. Воздушный метод нельзя применять при стерилизации термолабильных материалов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152280"/>
            <a:ext cx="70167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Химические метод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яются в закрытых емкостях, покрытых неповрежденной эмалью, а также сделанных из стекла или пластмассы. Стерилизуемые объекты погружают в раствор при температуре 18 ± 2°. Время стерилизационной выдержки в 6% растворе перекиси водорода — 60 ± 5 мин, дезоксоне-1 — 45—50 мин. После стерилизации изделия промывают стерильной водой в асептических условия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ерильный стол накрывается 2 раза в день. Растворы дезинфекции инструментов и перчаток также меняются 2 раза в день. Дезинфицирующие средства готовятся централизованно в отдельном помещении. Для работы применяют 3%-ный раствор хлорамина для обработки инструмента, перчаток, ветоши; 1%-ный раствор хлорамина для обработки поверхностей, термометров, мытья полов, кушеток; 0,5%-ный раствор хлорамина для обработки ру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00036641"/>
          <p:cNvPicPr/>
          <p:nvPr/>
        </p:nvPicPr>
        <p:blipFill>
          <a:blip r:embed="rId1"/>
          <a:stretch/>
        </p:blipFill>
        <p:spPr>
          <a:xfrm>
            <a:off x="5029200" y="4191120"/>
            <a:ext cx="35971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ндивидуальные мочалка и мы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н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Дезинфекция 3%р-ом хлорной извести, двукратное протирание ( или1 % р-р хлорамина, экспозиции 60 минут или другой рнегламентированный раство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Натирать ветошью с моющее-дезинфецирующим или чистящее- дезинфицирующим средством из расчета 1-2 г на 100кв.см ,экспозиции 5 минут, затем ополоснуть в проточной вод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новые коврики в душевой комнат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5% р-ра хлорамина с 5 грамами моющего средства в 1 литре раство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Полное погружение на30 минут или натереть , но не смывать до полного высыха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ув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5 % р-ра формалина или 40% р-ра уксусной кислоты, уложить в полиэтиленовый пакет на три часа, проветрить до исчезновения запах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дно, мочеприемни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3% осветленный р-р хлорной извести- 1ч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полное погружение ,последующее ополаскивание, хранение в сухом мест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Присуш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345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елки ,пузырьки для льда, резиновые круж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Двукратное протирание 1%р-ом хлорами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Промыть горячей водой с мылом , ополоснуть , высушить хронить в сухом мест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конечники клизменные , катетор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3% раствора хлорамина- 60 мину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0.5 % моющий растворе при температуре 46 градусов С – 15 минут, или кипячении в 2% содовом р-ре -15 минут, с последующей мойк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Автоклавирован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ензур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1% р-р хлорамина- 60 минут , ополаскивание или кипячение – 30 мину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чат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3% р-р хлорамина -60 минут или другой регламентированный дезраствор, полное погружен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0.5% моющий раствор- 15 мину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Автоклавировиние, щядящий режи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петки глазны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Кипячение в дистиллированной воде- 30 минут, стерилизация в щядящем режиме автоклава в разобранном вид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 мы видим, что существует разные виды стерилизации и методы осуществления их. И для разных медицинских инструментов по-разно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апы стерилиз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эта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зинфек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этап – предстерилизационная обработк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енолфталеиновая проб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зопирамовая проб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этап - стерилизац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тоды стерилиз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филактическая дезинфекция и стерилизация различных объектов терапевтического отдел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32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каз № 408 «О мерах по снижению заболеваемости вирусным гепатитом в стране» от 12.07.89 г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овы сестринского дела. Автор Обуховец Т.П. , Ростов на Дону «Феникс» 2007г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42160" indent="-542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стринское дело в хирургии. Автор Обуховец Т.П. , Ростов на Дону «Феникс» 2007г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175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вед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обходимо строго соблюдать правила использования дезинфекции, предстерилизационной очистки и стерилизации медицинского инструментария, оборудования, при проведении манипуляций, связанных с нарушением целостности кожных покровов соблюдать ОСТ 42-21-2-85. В поликлинике централизованное стерилизационное отделение, где работают два медицинских работника в две смены. Они отвечают за отработку медицинского инструмента, а также перевязочный материал… («Приказ № 408 «О мерах по снижению заболеваемости вирусным гепатитом в стране» от 12.07.89 г.»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оды стерилиза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ерилизация медицинского инструмента осуществляется воздушным, химическим, паровым метод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00036578"/>
          <p:cNvPicPr/>
          <p:nvPr/>
        </p:nvPicPr>
        <p:blipFill>
          <a:blip r:embed="rId1"/>
          <a:stretch/>
        </p:blipFill>
        <p:spPr>
          <a:xfrm>
            <a:off x="4267080" y="3429000"/>
            <a:ext cx="4664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099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апы стерилиз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этап - дезинфекц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ле использования медицинский инструментарий и перчатки погружают в емкость с дезинфицирующим средством в 3%-ном растворе хлорамина на 1 ч, затем промывают под проточной водой до исчезновения запаха хлора, дезинфекция кипячением металлических инструментов, стек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этап - предстерилизационная обработ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мент и перчатки замачивают в моющем растворе (33%-ный раствор перекиси водорода - 14 г, моющее средство - «Лотос» - 5 г, дистиллированная вода - 981 г) на 15 мин при температуре 50°С. каждое изделие моется 20 с, а затем в течение 10 мин промывается под проточной вод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ле предстерилизационной обработки проводятся контрольные пробы - на отмывку от щелочи (фенолфталеиновая) и на скрытую кровь - азопирамова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454040" y="53352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ерилизационная обработ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5" descr="1_-0047-1"/>
          <p:cNvPicPr/>
          <p:nvPr/>
        </p:nvPicPr>
        <p:blipFill>
          <a:blip r:embed="rId1"/>
          <a:stretch/>
        </p:blipFill>
        <p:spPr>
          <a:xfrm>
            <a:off x="6553080" y="5410080"/>
            <a:ext cx="18288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енолфталеиновая проб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ряется 1% из партии, но не менее 3-5 изделий каждого наименования. Методика пробы. Ватой, смоченной в 1%-ном растворе фенолфталеина, протирают рабочие поверхности, места соединения. Проба считается положительной (некачественная промывка), если появляется розовое окрашивание. В данном случае вся партия подвергается повторной промывк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251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зопирамовая проб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варительно готовят раствор, состоящий из азопирама и 3%-ного раствора перекиси водорода в равных количествах. Приготовленный раствор испытывают на пригодность ватой с кровью. Появление фиолетового окрашивания, быстро переходящего в розово-сиреневый цвет, говорит о пригодности препарата. Рабочий раствор можно использовать не более 2 ч. Чистый раствор азопирама хранится в холодильнике сроком до 2 месяцев. При проведении азопирамовой пробы результат трактуется следующим образом: при появлении фиолетового окрашивания вся партия инструментов обрабатывается повторно - была произведена некачественная предстерилизационная очист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835344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авила предстерилизационной обработ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дицинских издел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По завершению дезинфекции медицинские инструментарии ополаскиваются проточной водой.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ремя выдержки 0,5 мин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тем: замачиваются при полном погружении в один из растворов моющего средства разрешенных уполномоченным органом в области санитарно-эпидемиологического благополучия населения.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ервоначальная температура раствора 20-25, время выдержки 15 ми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ka</cp:lastModifiedBy>
  <dcterms:modified xsi:type="dcterms:W3CDTF">2014-10-13T16:38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