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0F4-2461-4452-B82A-4C1198D0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19B-DAEE-4FA2-9B68-1E9F219C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408-286E-45C4-854A-7BD6D331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5D6-CCFE-444C-AD0D-C507F096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4C33-2EC6-442B-B646-A49880BF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337B-57B6-4656-BB3C-BB9A67CE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974F-6142-403B-9B06-52C05DA1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D4B4-BE3A-4E49-A7B6-DC875A1D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CDF6-3637-4983-851B-B97B33A5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562A-004E-4F15-BBDC-653AE28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08E2-A6D9-46E7-BF89-2EE692FC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499-41CD-4FC8-A0B1-535CA021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D2F6-4237-4C3D-9078-02BD8665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47F0-9D29-4242-AFE8-C3E6E5C3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6F0E-321E-478D-B501-27DA92FC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5AB9-8A82-44B8-964E-126F8146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1C64-05FD-4DCB-90B0-5DAE0B87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E50-28DF-43AD-831F-175ACF24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696-E71D-4855-9212-D31FE1AF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C46-93CA-4494-8E55-646A44D6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A90-F3E0-46F1-A196-03336B8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B2B-B16A-474C-9971-9C19958F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57B-85A2-4B73-B377-19301D9F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956-9AC4-4534-8541-EB7EDBE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CF94-1219-4CF3-9DA8-13B576AFAD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E9A0-5B85-42A9-9A8A-C85D231875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zemljaki.mybb.ru/uploads/0000/59/f0/6367-2-f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zemljaki.mybb.ru/uploads/0000/59/f0/6367-3-f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0920" y="2016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Жостовские подн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742680"/>
            <a:ext cx="8388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остовские подносы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алеко от Москвы в очень живописном месте находится село Жостов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село прославилось не только в нашей стране, но и за рубежом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знаменито оно тем, что никто лучше местных умельцев не может рисовать цветы на железных подносах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ческий жостовский поднос – это крупные и сочные садовые и полевые цветы в окружении свежей листвы, как будто бы брошенные на подготовленный фон. Всем известные колокольчики, ромашки и васильки, но созданные густым широким мазком, играют по-новом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очный букет жостовского подноса очень прост по своей композиции. Объёмная форма букета сочетается с продуманностью цветового решения. Бортики подносов часто украшены лёгким золотым рисун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же возникло это удивительное ремесло? В XIX веке на Руси широкое распространение получает заморский напиток – чай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вытеснил традиционно русский сбитень, медовуху и различные травяные настои. Возникла целая церемония чаепити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льские мастера принялись за изготовление самоваров. Вместе с самоваром на стол ставился и поднос, который также стал непременным участником русского чаеп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476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енежка Прокла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этого следует "бликовка", то есть нанесение белильных мазков (иногда слегка подцвеченных), уточняющих все объемы - операция завершает лепку форм, их условную материальность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дущая операция "чертежка" размещает детали, быстро и легко очерчивает лепестки и листья, прожилки и семенца в чашечках цветов, выразительно подчеркивая по контрасту их сочную живоп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   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2200320" cy="1486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283068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4076640"/>
            <a:ext cx="2105280" cy="164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533760" y="2662200"/>
            <a:ext cx="2076480" cy="1533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24360" y="638640"/>
            <a:ext cx="521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ликовка Черте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ершает письмо "привязка" - тонкие травка и усики, объединяющие все изображение в букете и мягким переходом связывающие его с фоном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намент Черте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 сложившиеся в промысле традиционные приемы каждый мастер использует по-своему, творчески обыгрывая декоративные возможности кистевого письма (например, "бликовка" может мягко "сплавляться" с "прокладкой", а может четко выделяться на ней; мазки разной силы и очертаний в одних случаях спокойно лепят форму, в других - ложатся на ней своеобразным узором и т.д.)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появляются бесконечные варианты сходных мотивов и образов, но никогда не увидеть среди них буквальных копий или повтор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2257560" cy="150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2219400" cy="1457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2219400" cy="1486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097080" cy="38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3640" y="413640"/>
            <a:ext cx="619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ое время в центральной России использовались подносы из папье-маше. Их изготавливали наряду со шкатулками и табакеркам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огатых домах встречались и металлические подносы, изготовленные на Урале и в Санкт-Петербур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от в первой четверти XIX века в селе Жостово кто-то решил, что технологию лаковой обработки коробочек из папье-маше можно перенести на железо: тот же грунт, тот же лак, те же масляные краски. Надо отметить, что Жостово славилось кузнецами, поэтому идея жостовского подноса попала наблагодатную почву. В старых книгах нашлись записи о том, что в 1825 году местный крестьянин Филипп Вишняков с сыном открыл мастерскую по изготовлению металлических расписных подносов. Вслед за ним открывались и другие мастерские. Жостовские подносы изготавливались различных размеров и форм. Трактирные подносы достигали размеров стола, маленькие «закусочные» - не больше тарелки; шести и восьмиугольные, овальные, прямоугольные, круглые и даже треугольные для угловых стол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5040360" cy="3384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5640" y="407376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стовский поднос жив и по сей день. Процесс изготовления несколько изменился – металл теперь не куют, а прессуют, используют другие краски. Но ощущение праздника и радости жостовский поднос сохран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нце XIX – начале XX столетий промысел села Жостово пришел в упадок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в 1928 году несколько артелей объединились в одну – «Металлоподнос». Жостовская фабрика декоративной росписи и по сей день выпускает настоящее жостовское чуд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8240" y="92160"/>
            <a:ext cx="48117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пись выполняется исключительно вручную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Характерные виды росписи жостовских подносов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ы (классический вид росписи) - букет цветов на черном фон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фон (фоновая роспись) - букет цветов на цветном фон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фрукты - роспись с использованием изображений различных фру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увеличить"/>
          <p:cNvPicPr/>
          <p:nvPr/>
        </p:nvPicPr>
        <p:blipFill>
          <a:blip r:embed="rId1"/>
          <a:stretch/>
        </p:blipFill>
        <p:spPr>
          <a:xfrm>
            <a:off x="468360" y="4005360"/>
            <a:ext cx="3048120" cy="2085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увеличить"/>
          <p:cNvPicPr/>
          <p:nvPr/>
        </p:nvPicPr>
        <p:blipFill>
          <a:blip r:embed="rId2"/>
          <a:stretch/>
        </p:blipFill>
        <p:spPr>
          <a:xfrm>
            <a:off x="3635280" y="4400640"/>
            <a:ext cx="3048120" cy="2457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увеличить"/>
          <p:cNvPicPr/>
          <p:nvPr/>
        </p:nvPicPr>
        <p:blipFill>
          <a:blip r:embed="rId3"/>
          <a:stretch/>
        </p:blipFill>
        <p:spPr>
          <a:xfrm>
            <a:off x="6095880" y="2708280"/>
            <a:ext cx="3048120" cy="2400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увеличить"/>
          <p:cNvPicPr/>
          <p:nvPr/>
        </p:nvPicPr>
        <p:blipFill>
          <a:blip r:embed="rId4"/>
          <a:stretch/>
        </p:blipFill>
        <p:spPr>
          <a:xfrm>
            <a:off x="5651640" y="0"/>
            <a:ext cx="3047760" cy="24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36734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0" y="3354480"/>
            <a:ext cx="3960720" cy="2882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337860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омпозициях много места отводится гладкому фону, который обладает красивой поверхностью подноса, эффектно играющей на свету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ображение цветов на лицевой поверхности подноса отличается особой мягкостью и округлостью рисунк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1082520"/>
            <a:ext cx="39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м распространенным видом жостовской росписи подносов является букет, расположенный в центре подноса и обрамленный по борту мелким золотистым узором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9080" y="0"/>
            <a:ext cx="58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иды росписи жостовских подно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5640" y="118872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кет превращается в нарядную группу цветов, свободно положенную на блестящий лаковый фон. Три-четыре крупных цветка (роза, тюльпан, георгин, а порой и более скромные анютины глазки, вьюнки и т.п.) окружались россыпью более мелких цветочков и бутонов, связанных между собой гибкими стебельками и легкой "травкой", то есть небольшими веточками и листочками. Изображение словно рождается из мерцающей глубины, растворяясь в ней прозрачными тенями и вспыхивая яркими бликами на поверхности подноса. Чуть "утоленные" в фоне цветы кажутся легкими, полуобъемными, тактично данные ракурсы и повороты венчиков не прорывали зрительно плоскости предмета. Мастера умеют находить красивые и выразительные очертания букета в целом на подносе. Верх часто завершается двумя-тремя плавно и широко расходящимися в стороны веточками, изгибы которых следовали за формой самой вещи. Легкое узорное кружево из разнообразной "травки" окружает букет по краям, вписывая его в гладкий фон подно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4292640"/>
            <a:ext cx="38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стовские металлические подносы разнообразны по форме; подносы многоугольные, подносы круглые, подносы овальные, подносы комбинирован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49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3241800" cy="345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38134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увеличить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0"/>
            <a:ext cx="3048120" cy="2828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увеличить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3284640"/>
            <a:ext cx="3048120" cy="3009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05264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зготовления жостовских металлических поднос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готовляются жостовские подносы из листового желез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вка подносов осуществляется на механических прессах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кованные изделия грунтуют, шпаклюют, шлифуют и лакируют, что делает их поверхность безукоризненно ровной, затем расписывают масляными красками и покрывают сверху несколькими слоями прозрачного бесцветного ла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более важной операцией, требующей подлинного творчества, является роспись, изображающая чаще всего красочные букеты цвет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пись выполняется в несколько приемов. Кратко опишем 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инается она с "замалевки": разбеленными красками намечается общий силуэт изображения (цветов и листьев), расположение основных пятен. "Замалеванные" подносы сушатся в печах в течение несколь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154764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ледующим приемом на просохшем замалевке лессировочными (прозрачными) красками накладываются тени. 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Этот прием "тенежка" погружает букет в глубину фона, выявляет теневые места растений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Затем следует "прокладка" - плотное корпусное письмо яркими красками, наиболее ответственный этап живописи. 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Формы букетов обретают плоть, уточняются, высветляются, возникает контрастный или гармоничный колорит композици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2181240" cy="1571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19880" y="4295880"/>
            <a:ext cx="2181240" cy="154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6:28:47Z</dcterms:created>
  <dc:creator>Администратор</dc:creator>
  <dc:description/>
  <dc:language>en-US</dc:language>
  <cp:lastModifiedBy>Администратор</cp:lastModifiedBy>
  <dcterms:modified xsi:type="dcterms:W3CDTF">2009-12-05T17:32:34Z</dcterms:modified>
  <cp:revision>2</cp:revision>
  <dc:subject/>
  <dc:title>Слайд 1</dc:title>
</cp:coreProperties>
</file>