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8B69-AF0F-43CD-BD8A-637AD70F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170A-D59E-4B20-A9C8-E0D9EA3B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E015-83E0-4D7A-8D2C-1CDB8C9F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90AD-1FF9-43AA-8C9C-FF7EB6E7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7FCC-4E64-46C0-B6B8-C1BEEDB5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B1A9-A899-4D45-910A-E3833203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5803-A365-4386-98E1-A8E68056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5F22-9A5A-4A1E-92B8-578D1DBA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B11C-AB50-4778-82A1-03282511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20A4-769B-4465-B7F1-F21A9272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981B-6C46-4D39-9DD2-BE2F507C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2991-E983-4DBF-AD51-1C0687CC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7EA0-2812-4584-B644-76878569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1810-8250-41B5-BC21-56F58E43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361E-73DF-4A86-A716-BF6CBD30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6511-B5A5-40E7-B950-04410B69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7F44-3504-4F06-8DE6-CCCB1D98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352-1326-40E0-A20D-E96223C1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68A-3473-4E5A-B0C2-850B209A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13B-10F8-4275-84E0-1FBA3FF3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0023-51C0-4EBE-A3E7-E8CD2FFD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D784-F719-4938-BC70-7C2A040B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BE2-103A-4B15-A936-CF6F441C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09AF-C732-4299-B3A6-E010EC89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CF9C-1E92-4417-9315-E090748976F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C1B6-8919-4506-B359-615733B985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zemljaki.mybb.ru/uploads/0000/59/f0/6367-2-f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zemljaki.mybb.ru/uploads/0000/59/f0/6367-3-f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0920" y="20160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00"/>
                </a:solidFill>
                <a:latin typeface="Arial"/>
              </a:rPr>
              <a:t>Жостовские подно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742680"/>
            <a:ext cx="83883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остовские подносы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едалеко от Москвы в очень живописном месте находится село Жостово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село прославилось не только в нашей стране, но и за рубежом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знаменито оно тем, что никто лучше местных умельцев не может рисовать цветы на железных подносах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ический жостовский поднос – это крупные и сочные садовые и полевые цветы в окружении свежей листвы, как будто бы брошенные на подготовленный фон. Всем известные колокольчики, ромашки и васильки, но созданные густым широким мазком, играют по-новому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веточный букет жостовского подноса очень прост по своей композиции. Объёмная форма букета сочетается с продуманностью цветового решения. Бортики подносов часто украшены лёгким золотым рисун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же возникло это удивительное ремесло? В XIX веке на Руси широкое распространение получает заморский напиток – чай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 вытеснил традиционно русский сбитень, медовуху и различные травяные настои. Возникла целая церемония чаепития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льские мастера принялись за изготовление самоваров. Вместе с самоваром на стол ставился и поднос, который также стал непременным участником русского чаепи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55640" y="47628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енежка Проклад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 этого следует "бликовка", то есть нанесение белильных мазков (иногда слегка подцвеченных), уточняющих все объемы - операция завершает лепку форм, их условную материальность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дущая операция "чертежка" размещает детали, быстро и легко очерчивает лепестки и листья, прожилки и семенца в чашечках цветов, выразительно подчеркивая по контрасту их сочную живопис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                             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76720" y="3716280"/>
            <a:ext cx="2200320" cy="1486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2830680" cy="304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867280" y="4076640"/>
            <a:ext cx="2105280" cy="1647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533760" y="2662200"/>
            <a:ext cx="2076480" cy="1533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24360" y="638640"/>
            <a:ext cx="5219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ликовка Чертеж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вершает письмо "привязка" - тонкие травка и усики, объединяющие все изображение в букете и мягким переходом связывающие его с фоном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рнамент Чертеж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и сложившиеся в промысле традиционные приемы каждый мастер использует по-своему, творчески обыгрывая декоративные возможности кистевого письма (например, "бликовка" может мягко "сплавляться" с "прокладкой", а может четко выделяться на ней; мазки разной силы и очертаний в одних случаях спокойно лепят форму, в других - ложатся на ней своеобразным узором и т.д.)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езультате появляются бесконечные варианты сходных мотивов и образов, но никогда не увидеть среди них буквальных копий или повтор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2257560" cy="1504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2219400" cy="1457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042920" y="4581360"/>
            <a:ext cx="2219400" cy="1486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3097080" cy="3816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03640" y="413640"/>
            <a:ext cx="6192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лгое время в центральной России использовались подносы из папье-маше. Их изготавливали наряду со шкатулками и табакерками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богатых домах встречались и металлические подносы, изготовленные на Урале и в Санкт-Петербург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вот в первой четверти XIX века в селе Жостово кто-то решил, что технологию лаковой обработки коробочек из папье-маше можно перенести на железо: тот же грунт, тот же лак, те же масляные краски. Надо отметить, что Жостово славилось кузнецами, поэтому идея жостовского подноса попала наблагодатную почву. В старых книгах нашлись записи о том, что в 1825 году местный крестьянин Филипп Вишняков с сыном открыл мастерскую по изготовлению металлических расписных подносов. Вслед за ним открывались и другие мастерские. Жостовские подносы изготавливались различных размеров и форм. Трактирные подносы достигали размеров стола, маленькие «закусочные» - не больше тарелки; шести и восьмиугольные, овальные, прямоугольные, круглые и даже треугольные для угловых стол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340000" y="549360"/>
            <a:ext cx="5040360" cy="3384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55640" y="407376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остовский поднос жив и по сей день. Процесс изготовления несколько изменился – металл теперь не куют, а прессуют, используют другие краски. Но ощущение праздника и радости жостовский поднос сохрани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онце XIX – начале XX столетий промысел села Жостово пришел в упадок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в 1928 году несколько артелей объединились в одну – «Металлоподнос». Жостовская фабрика декоративной росписи и по сей день выпускает настоящее жостовское чудо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8240" y="92160"/>
            <a:ext cx="481176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пись выполняется исключительно вручную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Характерные виды росписи жостовских подносов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веты (классический вид росписи) - букет цветов на черном фон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фон (фоновая роспись) - букет цветов на цветном фон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фрукты - роспись с использованием изображений различных фрук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увеличить"/>
          <p:cNvPicPr/>
          <p:nvPr/>
        </p:nvPicPr>
        <p:blipFill>
          <a:blip r:embed="rId1"/>
          <a:stretch/>
        </p:blipFill>
        <p:spPr>
          <a:xfrm>
            <a:off x="468360" y="4005360"/>
            <a:ext cx="3048120" cy="2085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увеличить"/>
          <p:cNvPicPr/>
          <p:nvPr/>
        </p:nvPicPr>
        <p:blipFill>
          <a:blip r:embed="rId2"/>
          <a:stretch/>
        </p:blipFill>
        <p:spPr>
          <a:xfrm>
            <a:off x="3635280" y="4400640"/>
            <a:ext cx="3048120" cy="2457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увеличить"/>
          <p:cNvPicPr/>
          <p:nvPr/>
        </p:nvPicPr>
        <p:blipFill>
          <a:blip r:embed="rId3"/>
          <a:stretch/>
        </p:blipFill>
        <p:spPr>
          <a:xfrm>
            <a:off x="6095880" y="2708280"/>
            <a:ext cx="3048120" cy="2400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увеличить"/>
          <p:cNvPicPr/>
          <p:nvPr/>
        </p:nvPicPr>
        <p:blipFill>
          <a:blip r:embed="rId4"/>
          <a:stretch/>
        </p:blipFill>
        <p:spPr>
          <a:xfrm>
            <a:off x="5651640" y="0"/>
            <a:ext cx="3047760" cy="245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3673440" cy="2592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0" y="3354480"/>
            <a:ext cx="3960720" cy="2882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3378600"/>
            <a:ext cx="410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композициях много места отводится гладкому фону, который обладает красивой поверхностью подноса, эффектно играющей на свету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ображение цветов на лицевой поверхности подноса отличается особой мягкостью и округлостью рисунка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48360" y="1082520"/>
            <a:ext cx="39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ым распространенным видом жостовской росписи подносов является букет, расположенный в центре подноса и обрамленный по борту мелким золотистым узором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69080" y="0"/>
            <a:ext cx="58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иды росписи жостовских подно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55640" y="118872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кет превращается в нарядную группу цветов, свободно положенную на блестящий лаковый фон. Три-четыре крупных цветка (роза, тюльпан, георгин, а порой и более скромные анютины глазки, вьюнки и т.п.) окружались россыпью более мелких цветочков и бутонов, связанных между собой гибкими стебельками и легкой "травкой", то есть небольшими веточками и листочками. Изображение словно рождается из мерцающей глубины, растворяясь в ней прозрачными тенями и вспыхивая яркими бликами на поверхности подноса. Чуть "утоленные" в фоне цветы кажутся легкими, полуобъемными, тактично данные ракурсы и повороты венчиков не прорывали зрительно плоскости предмета. Мастера умеют находить красивые и выразительные очертания букета в целом на подносе. Верх часто завершается двумя-тремя плавно и широко расходящимися в стороны веточками, изгибы которых следовали за формой самой вещи. Легкое узорное кружево из разнообразной "травки" окружает букет по краям, вписывая его в гладкий фон поднос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4292640"/>
            <a:ext cx="38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остовские металлические подносы разнообразны по форме; подносы многоугольные, подносы круглые, подносы овальные, подносы комбинирован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49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3241800" cy="3454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381348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увеличить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0"/>
            <a:ext cx="3048120" cy="2828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увеличить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3284640"/>
            <a:ext cx="3048120" cy="3009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052640"/>
            <a:ext cx="770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ология изготовления жостовских металлических поднос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зготовляются жостовские подносы из листового желез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вка подносов осуществляется на механических прессах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кованные изделия грунтуют, шпаклюют, шлифуют и лакируют, что делает их поверхность безукоризненно ровной, затем расписывают масляными красками и покрывают сверху несколькими слоями прозрачного бесцветного ла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иболее важной операцией, требующей подлинного творчества, является роспись, изображающая чаще всего красочные букеты цветов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пись выполняется в несколько приемов. Кратко опишем 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инается она с "замалевки": разбеленными красками намечается общий силуэт изображения (цветов и листьев), расположение основных пятен. "Замалеванные" подносы сушатся в печах в течение несколь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00360" y="476280"/>
            <a:ext cx="1547640" cy="1143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400" y="228600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Следующим приемом на просохшем замалевке лессировочными (прозрачными) красками накладываются тени. </a:t>
            </a: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Этот прием "тенежка" погружает букет в глубину фона, выявляет теневые места растений.</a:t>
            </a: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Затем следует "прокладка" - плотное корпусное письмо яркими красками, наиболее ответственный этап живописи. </a:t>
            </a:r>
            <a:br>
              <a:rPr sz="1500"/>
            </a:b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Формы букетов обретают плоть, уточняются, высветляются, возникает контрастный или гармоничный колорит композици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940360" y="1197000"/>
            <a:ext cx="2181240" cy="1571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519880" y="4295880"/>
            <a:ext cx="2181240" cy="1542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6:28:47Z</dcterms:created>
  <dc:creator>Администратор</dc:creator>
  <dc:description/>
  <dc:language>en-US</dc:language>
  <cp:lastModifiedBy>Администратор</cp:lastModifiedBy>
  <dcterms:modified xsi:type="dcterms:W3CDTF">2009-12-05T17:32:34Z</dcterms:modified>
  <cp:revision>2</cp:revision>
  <dc:subject/>
  <dc:title>Слайд 1</dc:title>
</cp:coreProperties>
</file>