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818-0F51-472C-A8D5-C0D81684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1B0-30CD-4F97-B6D3-B084F7B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4F8-F090-465C-9122-099168E1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A26-072D-4AD4-B314-D708C80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2FE0-F262-4D79-8482-429C83D9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6D8-1BCF-4011-92F4-CEC6A1B6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FBA-EBE2-492F-A975-1C1C6BD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B90-BCAE-4520-B403-D5EEA9A0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76D-040C-4C2D-A2CD-BB3F024D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738-2C5C-4715-9669-39B294E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1DF7-C493-49E9-83E2-F0609F4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1AE-0603-44B3-9531-9B51A04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DC2-CC04-4C9A-AB7B-F322FF49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6B57-93D6-46D0-BCA8-C998647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F954-1357-4986-9052-9EF7ED2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D516-1DAA-4CE7-B96B-4E4DECF6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F39-3584-453F-B1B2-700411B4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4C5-CFCD-4D63-9E55-3022CBA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8EA-4B16-48DD-8A1F-4C578C2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069-0001-48FA-8113-33CFBEE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75E-A8DC-4D07-AEDE-AA08F6E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9C7-F42D-4380-89F0-6BAFF2F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481-5FCD-4C0E-A8FA-0F492E0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5E1-75E5-44F4-8074-420504F2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730-7C8A-4407-AB08-BC1D93D187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F1A3-0BE9-4E3D-8719-09B3D048C4F5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2228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, в основе 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6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34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35" name="_s1028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38" name="_s1029"/>
            <p:cNvCxnSpPr>
              <a:stCxn id="139" idx="0"/>
              <a:endCxn id="137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40" name="_s1030"/>
            <p:cNvCxnSpPr>
              <a:stCxn id="141" idx="0"/>
              <a:endCxn id="137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37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6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66" descr="y0fyluwp_new-12283914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7" descr="16719_pub-1228390836"/>
          <p:cNvPicPr/>
          <p:nvPr/>
        </p:nvPicPr>
        <p:blipFill>
          <a:blip r:embed="rId3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9" descr="30024-1228391236"/>
          <p:cNvPicPr/>
          <p:nvPr/>
        </p:nvPicPr>
        <p:blipFill>
          <a:blip r:embed="rId4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Пользователь</cp:lastModifiedBy>
  <dcterms:modified xsi:type="dcterms:W3CDTF">2013-11-02T12:42:52Z</dcterms:modified>
  <cp:revision>24</cp:revision>
  <dc:subject/>
  <dc:title>Заболевание щитовидной железы</dc:title>
</cp:coreProperties>
</file>