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01C-BD0B-43B4-89A0-9E10FD80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37C-A3EE-46C5-BB3B-5CECCF8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C4F-E6EA-46BF-98DB-B9E0F89D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8A2-8A12-4ED7-980D-B054C49C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2E54-0650-420D-AA90-FDA31B2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276-5DFB-4F05-9912-92D179A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169-A54F-4094-9704-4AE8FDD4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6C20-40B8-4B51-86F3-27E8A7D8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6A7-29EC-4699-B9DE-486BA4A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59BA-C44A-495E-B69D-35141375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412-7815-468F-8843-4077265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D59-49E7-489C-8FBB-D8982C2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738A-4F35-4D5A-98FB-DEAF9E1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9925-15CC-466E-AC68-400C582C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F15-CBF7-49AD-9782-3E353176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30C0-E5E6-4836-A4F1-52B3E833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8414-E4EF-4CAE-85E9-5FEAF42B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EC4-6450-4350-8869-35A6BCB6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267-83B3-45F9-AC0C-AAA6C927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204-0A5E-41FA-961B-F1A1052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0B0-CE80-4EFA-819F-E380FAF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8E8-CA2E-4C1B-A91E-C212BC9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35C-BA05-4480-99B0-73D6B08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305-E57C-4862-8AD6-A50B49B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C8F-F9EA-4591-B4C4-A6EE15237D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E719-979E-40A3-873D-E95F1B4083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ed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ezented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vstafiev-spetsnaz-prepare-for-missi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afgan_tanc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7c21"/>
                </a:solidFill>
                <a:latin typeface="Times New Roman"/>
              </a:rPr>
              <a:t>Афганская война</a:t>
            </a: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Лукьянов М. 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Темченко 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7886880" y="6572160"/>
            <a:ext cx="1257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rezented.Ru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7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</a:rPr>
              <a:t>Можно сказать, что Афганская война отчасти посодействовала «распаду» Союза и наступлению в стране экономического кризиса. Всё же нужно признать, что введение войск в Афганистан было огромной ошибкой Советского правительства, приведшей к различным проблемам. Но в военном плане Советская Армия зачастую показывала определённо хорошие результаты, там были отработаны различные методики ведения войны в условиях горной местности, совершения воздушно- десантных операций. Наша Армия не победила, но и не проиграла.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После вывода наших войск положение в Афганистане значительно ухудшилось. Гражданская война там приобрела новый оборот. В 2001 году США совместно с НАТО проводят в Афганистане «антитеррористическую» операцию. Но присутствие в стране натовцев не улучшило ситуации, а отчасти даже ухудшило. Тем не менее в Афганистане не спокойно и сейчас, что свидетельствует о нерешённости «Афганского вопроса». Однако сегодня проблемы Афганистана решает НАТ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Times New Roman"/>
              </a:rPr>
              <a:t>Благодарим за внимание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3943440" y="3286080"/>
            <a:ext cx="1257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Prezented.Ru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m"/>
          <p:cNvPicPr/>
          <p:nvPr/>
        </p:nvPicPr>
        <p:blipFill>
          <a:blip r:embed="rId1"/>
          <a:stretch/>
        </p:blipFill>
        <p:spPr>
          <a:xfrm>
            <a:off x="1547640" y="404640"/>
            <a:ext cx="6336000" cy="5646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a2704"/>
                </a:solidFill>
                <a:latin typeface="Times New Roman"/>
              </a:rPr>
              <a:t>Война в Афганистане: победа или крах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ричины войны, ввод войс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оложение дел внутри Афганист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омощь ССС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ывод войс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Итоги войны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12"/>
          <p:cNvPicPr/>
          <p:nvPr/>
        </p:nvPicPr>
        <p:blipFill>
          <a:blip r:embed="rId1"/>
          <a:stretch/>
        </p:blipFill>
        <p:spPr>
          <a:xfrm>
            <a:off x="250920" y="404640"/>
            <a:ext cx="5329080" cy="4010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93840" y="980640"/>
            <a:ext cx="7850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3300"/>
                </a:solidFill>
                <a:latin typeface="Times New Roman"/>
              </a:rPr>
              <a:t>Решение о вводе советских войск в Афганистан было принято </a:t>
            </a:r>
            <a:r>
              <a:rPr b="1" i="1" lang="ru-RU" sz="2700" spc="-1" strike="noStrike">
                <a:solidFill>
                  <a:srgbClr val="ffcc00"/>
                </a:solidFill>
                <a:latin typeface="Times New Roman"/>
              </a:rPr>
              <a:t>12 декабря 1979 года</a:t>
            </a:r>
            <a:r>
              <a:rPr b="1" i="1" lang="ru-RU" sz="2700" spc="-1" strike="noStrike">
                <a:solidFill>
                  <a:srgbClr val="ff3300"/>
                </a:solidFill>
                <a:latin typeface="Times New Roman"/>
              </a:rPr>
              <a:t> на заседании Политбюро ЦК КПСС и оформлено секретным постановлением ЦК КПСС. В качестве формального основания Политбюро ЦК КПСС использовало неоднократные просьбы руководства Афганистана. </a:t>
            </a:r>
            <a:r>
              <a:rPr b="1" i="1" lang="ru-RU" sz="2700" spc="-1" strike="noStrike">
                <a:solidFill>
                  <a:srgbClr val="ffcc00"/>
                </a:solidFill>
                <a:latin typeface="Times New Roman"/>
              </a:rPr>
              <a:t>25 декабря 1979 года</a:t>
            </a:r>
            <a:r>
              <a:rPr b="1" i="1" lang="ru-RU" sz="2700" spc="-1" strike="noStrike">
                <a:solidFill>
                  <a:srgbClr val="ff3300"/>
                </a:solidFill>
                <a:latin typeface="Times New Roman"/>
              </a:rPr>
              <a:t> начался ввод советских войск в ДРА. Ограниченный контингент советских войск (ОКСВ) оказался непосредственно втянут в разгоравшуюся в Афганистане гражданскую войну и стал ее активным участнико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1f121"/>
                </a:solidFill>
                <a:latin typeface="Times New Roman"/>
              </a:rPr>
              <a:t>Положение дел внутри     Афганистан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26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Афганистан не самая развитая страна в Азии, она являлась государством практически с феодальным устройством общества. С приходом прокоммунистического правительства в лице НДПА, в стране начались антифеодальные реформы и репрессии в отношении «недовольных» режимом, что понравилось немногим. В стране началась гражданская война, положение было совершенно неустойчивым, и, практически, в любое время власть в стране могла смениться, изменив политический курс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3F348DA44735"/>
          <p:cNvPicPr/>
          <p:nvPr/>
        </p:nvPicPr>
        <p:blipFill>
          <a:blip r:embed="rId1"/>
          <a:stretch/>
        </p:blipFill>
        <p:spPr>
          <a:xfrm>
            <a:off x="3203640" y="476280"/>
            <a:ext cx="5641920" cy="4143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Garamond"/>
              </a:rPr>
              <a:t>Население страны жило в ужасающих условиях. Социальная база в стране была просто скверной. Население Афганистана выживало в основном за счёт выращивания мака. Из этого мака изготавливали наркотические средства, распространявшиеся в разных местах планеты, в основном в Европе. Доходы от наркобизнеса составляли десятки миллионов долларов, которые, естественно, не тратились на благосостояние народ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250px-Evstafiev-spetsnaz-prepare-for-mis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5256360" cy="3263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17d8"/>
                </a:solidFill>
                <a:latin typeface="Times New Roman"/>
              </a:rPr>
              <a:t>Помощь СССР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81200" y="1413000"/>
            <a:ext cx="83628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За годы войны СССР оказывал Афганистану и его народу огромную и реальную помощь. Были построены сотни новых школ и больниц, сооружены промышленные и энергетические объекты по всей стране. Во время нахождения Контингента Войск в стране снизилась выращиваемость мака для производства наркотиков, афганцы ощущали существование в стране «сильной руки», хранящей определённую стабильность и порядок. И если Пакистан, США и НАТО помогали афганцам лишь оружием, то Советский Союз оказывал действительно необходимую помощ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n951"/>
          <p:cNvPicPr/>
          <p:nvPr/>
        </p:nvPicPr>
        <p:blipFill>
          <a:blip r:embed="rId1"/>
          <a:stretch/>
        </p:blipFill>
        <p:spPr>
          <a:xfrm>
            <a:off x="2340000" y="1341360"/>
            <a:ext cx="6568920" cy="492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2520a"/>
                </a:solidFill>
                <a:latin typeface="Times New Roman"/>
              </a:rPr>
              <a:t>Вывод войск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00"/>
                </a:solidFill>
                <a:latin typeface="Times New Roman"/>
              </a:rPr>
              <a:t>Советская Армия воевала в Афганистане долгих 10 лет. Для нашей страны эта война оказалась очень затяжной. По сути СССР не удалось примирить борющиеся стороны внутри страны. Советское правительство разрабатывало планы вывода войск ещё в первой половине 80-ых, однако, обстоятельства оказались сильнее..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14 апреля 1988 года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 при посредничестве ООН в Швейцарии министрами иностранных дел Афганистана и Пакистана подписаны Женевские соглашения о политическом урегулировании положения вокруг ситуации в ДРА. Советский Союз обязался вывести свой контингент в девятимесячный срок, начиная с 15 мая; США и Пакистан, со своей стороны, должны были прекратить поддерживать моджахедов. В соответствии с соглашениями вывод советских войск с территории Афганистана начался </a:t>
            </a: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15 мая 1988 года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15 февраля 1989 года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 из Афганистана полностью выведены советские войска.</a:t>
            </a: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fgan1"/>
          <p:cNvPicPr/>
          <p:nvPr/>
        </p:nvPicPr>
        <p:blipFill>
          <a:blip r:embed="rId1"/>
          <a:stretch/>
        </p:blipFill>
        <p:spPr>
          <a:xfrm>
            <a:off x="250920" y="333360"/>
            <a:ext cx="5156280" cy="6191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f4f2f"/>
                </a:solidFill>
                <a:latin typeface="Times New Roman"/>
              </a:rPr>
              <a:t>Итог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Афганская война продолжалась с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25 декабря 1979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 до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15 февраля 1989 года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, то есть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2.238 дней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. Для нашей страны эта война оказалась тяжёлым бременем, нависшем на долгих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10 лет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. Стабилизировать положение в Афганистане не удалось. В результате войны погибли около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15 тысяч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 советских военнослужащих, примерно </a:t>
            </a:r>
            <a:r>
              <a:rPr b="1" i="1" lang="ru-RU" sz="2900" spc="-1" strike="noStrike">
                <a:solidFill>
                  <a:srgbClr val="ff3300"/>
                </a:solidFill>
                <a:latin typeface="Times New Roman"/>
              </a:rPr>
              <a:t>53 тысячи</a:t>
            </a:r>
            <a:r>
              <a:rPr b="1" i="1" lang="ru-RU" sz="2900" spc="-1" strike="noStrike">
                <a:solidFill>
                  <a:srgbClr val="ffff00"/>
                </a:solidFill>
                <a:latin typeface="Times New Roman"/>
              </a:rPr>
              <a:t> получили ранения. Были затрачены десятки миллиардов рублей на ведение войны, что больно «ударило» по бюджету государства.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6:03Z</dcterms:created>
  <dc:creator>Макс</dc:creator>
  <dc:description/>
  <dc:language>en-US</dc:language>
  <cp:lastModifiedBy>Ната</cp:lastModifiedBy>
  <dcterms:modified xsi:type="dcterms:W3CDTF">2013-10-28T13:03:42Z</dcterms:modified>
  <cp:revision>6</cp:revision>
  <dc:subject/>
  <dc:title>Афганская война</dc:title>
</cp:coreProperties>
</file>