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883620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82160" y="4119480"/>
            <a:ext cx="883620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82160" y="411948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09880" y="411948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69800" y="180144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57440" y="180144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82160" y="411948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69800" y="411948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57440" y="411948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82160" y="1801440"/>
            <a:ext cx="8836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88362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2560" cy="57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82160" y="411948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82160" y="1801440"/>
            <a:ext cx="883620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09880" y="411948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82160" y="4119480"/>
            <a:ext cx="883620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883620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82160" y="4119480"/>
            <a:ext cx="883620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82160" y="411948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09880" y="411948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69800" y="180144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57440" y="180144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82160" y="411948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69800" y="411948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57440" y="4119480"/>
            <a:ext cx="284508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88362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69920" y="215640"/>
            <a:ext cx="8872560" cy="57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82160" y="411948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09880" y="411948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8216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9880" y="1801440"/>
            <a:ext cx="431172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82160" y="4119480"/>
            <a:ext cx="8836200" cy="211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160" y="1801440"/>
            <a:ext cx="88362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82520" y="6342120"/>
            <a:ext cx="263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922480" y="6342120"/>
            <a:ext cx="344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477120" y="6342120"/>
            <a:ext cx="25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523880"/>
            <a:ext cx="9142560" cy="20952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100000">
                <a:srgbClr val="0066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1585800"/>
            <a:ext cx="9140760" cy="100080"/>
            <a:chOff x="0" y="1585800"/>
            <a:chExt cx="9140760" cy="100080"/>
          </a:xfrm>
        </p:grpSpPr>
        <p:sp>
          <p:nvSpPr>
            <p:cNvPr id="7" name=""/>
            <p:cNvSpPr/>
            <p:nvPr/>
          </p:nvSpPr>
          <p:spPr>
            <a:xfrm>
              <a:off x="6094440" y="1585800"/>
              <a:ext cx="3046320" cy="10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585800"/>
              <a:ext cx="3046320" cy="10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00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48120" y="1585800"/>
              <a:ext cx="3044880" cy="1000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58680"/>
            <a:ext cx="9140760" cy="1708200"/>
            <a:chOff x="0" y="58680"/>
            <a:chExt cx="9140760" cy="1708200"/>
          </a:xfrm>
        </p:grpSpPr>
        <p:sp>
          <p:nvSpPr>
            <p:cNvPr id="47" name=""/>
            <p:cNvSpPr/>
            <p:nvPr/>
          </p:nvSpPr>
          <p:spPr>
            <a:xfrm>
              <a:off x="6093000" y="58680"/>
              <a:ext cx="3047760" cy="1708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58680"/>
              <a:ext cx="3048120" cy="1708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c00cc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560" y="58680"/>
              <a:ext cx="3041640" cy="17082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65360"/>
              <a:ext cx="9140760" cy="6336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100080"/>
              <a:ext cx="9140760" cy="6012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100000">
                  <a:srgbClr val="0066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66840"/>
              <a:ext cx="9140760" cy="1074600"/>
            </a:xfrm>
            <a:prstGeom prst="rect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9920" y="215640"/>
            <a:ext cx="8872560" cy="123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182160" y="1801440"/>
            <a:ext cx="883620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2680" y="6351480"/>
            <a:ext cx="26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00520" y="6351480"/>
            <a:ext cx="340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42200" y="6351480"/>
            <a:ext cx="260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23840" y="426960"/>
            <a:ext cx="892008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2133720"/>
            <a:ext cx="4681440" cy="373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9920" y="216000"/>
            <a:ext cx="887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520" y="1801800"/>
            <a:ext cx="597384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33520" indent="-532080" algn="ctr">
              <a:spcBef>
                <a:spcPts val="601"/>
              </a:spcBef>
              <a:tabLst>
                <a:tab algn="l" pos="0"/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Основные положения ст. 122 УК РФ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31720" indent="-531720" algn="just">
              <a:spcBef>
                <a:spcPts val="4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Заведомое поставление другого лица в опасность заражения ВИЧ-инфекцией наказывается ограничением свободы на срок до трех лет, либо арестом на срок от трех до шести месяцев, либо лишением свободы на срок до одного года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531720" indent="-531720" algn="just">
              <a:spcBef>
                <a:spcPts val="499"/>
              </a:spcBef>
              <a:buClr>
                <a:srgbClr val="ffcc00"/>
              </a:buClr>
              <a:buSzPct val="75000"/>
              <a:buFont typeface="Times New Roman"/>
              <a:buAutoNum type="arabicPeriod"/>
              <a:tabLst>
                <a:tab algn="l" pos="1103400"/>
                <a:tab algn="l" pos="2017800"/>
                <a:tab algn="l" pos="2932200"/>
                <a:tab algn="l" pos="3846600"/>
                <a:tab algn="l" pos="4761000"/>
                <a:tab algn="l" pos="5675400"/>
                <a:tab algn="l" pos="6589800"/>
                <a:tab algn="l" pos="7504200"/>
                <a:tab algn="l" pos="8418600"/>
                <a:tab algn="l" pos="9333000"/>
                <a:tab algn="l" pos="102474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Заражение другого лица ВИЧ-инфекцией лицом, знавшем о наличии у него этой болезни, наказывается лишением свободы на срок до пяти лет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56360" y="3130560"/>
            <a:ext cx="2863800" cy="1481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69920" y="216000"/>
            <a:ext cx="887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82520" y="1916280"/>
            <a:ext cx="5613480" cy="49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История возникновения СПИДа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Родина СПИДа – Центральная Африка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Носители – местные обезьяны, затем военнослужащие США, которые перенесли СПИД в Америку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80-ые годы прошлого века – широкое распространение «Чумы </a:t>
            </a:r>
            <a:r>
              <a:rPr b="1" lang="en-US" sz="2000" spc="-1" strike="noStrike">
                <a:solidFill>
                  <a:srgbClr val="00ff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века»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Через несколько лет болезнь поразила страны Западной Европы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Первые описания болезни  - США, 1981 год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cc00cc"/>
              </a:buClr>
              <a:buSzPct val="75000"/>
              <a:buFont typeface="Monotype Sorts" charset="2"/>
              <a:buChar char="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ff00"/>
                </a:solidFill>
                <a:latin typeface="Times New Roman"/>
              </a:rPr>
              <a:t>1991 год – около 12 млн. ВИЧ-инфицированных человек, из них около 2 млн. человек заболело СПИДом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064200" y="2881440"/>
            <a:ext cx="307980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69920" y="216000"/>
            <a:ext cx="887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520" y="1801800"/>
            <a:ext cx="503712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6600"/>
                </a:solidFill>
                <a:uFillTx/>
                <a:latin typeface="Times New Roman"/>
              </a:rPr>
              <a:t>СПИД характеризуется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ff00"/>
              </a:buClr>
              <a:buSzPct val="120000"/>
              <a:buFont typeface="Monotype Sorts" charset="2"/>
              <a:buChar char="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Медленно  прогрессирующим дефектом иммунной системы (СПИД – синдром приобретенного дефицита иммунитета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601"/>
              </a:spcBef>
              <a:buClr>
                <a:srgbClr val="00ff00"/>
              </a:buClr>
              <a:buSzPct val="120000"/>
              <a:buFont typeface="Monotype Sorts" charset="2"/>
              <a:buChar char="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00ff00"/>
                </a:solidFill>
                <a:latin typeface="Times New Roman"/>
              </a:rPr>
              <a:t>СПИД – финальная стадия инфекционного заболевания, называемого вирусом иммунодефицита человека (ВИЧ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416560" y="2838600"/>
            <a:ext cx="3727440" cy="297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70000" y="216000"/>
            <a:ext cx="887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84360" y="1820880"/>
            <a:ext cx="7774920" cy="4628520"/>
            <a:chOff x="684360" y="1820880"/>
            <a:chExt cx="7774920" cy="4628520"/>
          </a:xfrm>
        </p:grpSpPr>
        <p:sp>
          <p:nvSpPr>
            <p:cNvPr id="104" name=""/>
            <p:cNvSpPr/>
            <p:nvPr/>
          </p:nvSpPr>
          <p:spPr>
            <a:xfrm>
              <a:off x="1929600" y="1820880"/>
              <a:ext cx="5282640" cy="3146760"/>
            </a:xfrm>
            <a:custGeom>
              <a:avLst/>
              <a:gdLst>
                <a:gd name="textAreaLeft" fmla="*/ 0 w 5282640"/>
                <a:gd name="textAreaRight" fmla="*/ 5283000 w 5282640"/>
                <a:gd name="textAreaTop" fmla="*/ 0 h 3146760"/>
                <a:gd name="textAreaBottom" fmla="*/ 3147120 h 31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cc00cc"/>
                </a:gs>
                <a:gs pos="100000">
                  <a:srgbClr val="008080"/>
                </a:gs>
              </a:gsLst>
              <a:lin ang="8100000"/>
            </a:gradFill>
            <a:ln cap="sq"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4244400" y="1495440"/>
              <a:ext cx="3146760" cy="5282640"/>
            </a:xfrm>
            <a:custGeom>
              <a:avLst/>
              <a:gdLst>
                <a:gd name="textAreaLeft" fmla="*/ 0 w 3146760"/>
                <a:gd name="textAreaRight" fmla="*/ 3147120 w 3146760"/>
                <a:gd name="textAreaTop" fmla="*/ 0 h 5282640"/>
                <a:gd name="textAreaBottom" fmla="*/ 5283000 h 528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00cccc"/>
                </a:gs>
                <a:gs pos="100000">
                  <a:srgbClr val="008080"/>
                </a:gs>
              </a:gsLst>
              <a:lin ang="13500000"/>
            </a:gradFill>
            <a:ln cap="sq" w="9360">
              <a:solidFill>
                <a:srgbClr val="00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10800000">
              <a:off x="1930680" y="3302640"/>
              <a:ext cx="5283000" cy="3146760"/>
            </a:xfrm>
            <a:custGeom>
              <a:avLst/>
              <a:gdLst>
                <a:gd name="textAreaLeft" fmla="*/ 0 w 5283000"/>
                <a:gd name="textAreaRight" fmla="*/ 5283360 w 5283000"/>
                <a:gd name="textAreaTop" fmla="*/ 0 h 3146760"/>
                <a:gd name="textAreaBottom" fmla="*/ 3147120 h 3146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3399ff"/>
                </a:gs>
                <a:gs pos="100000">
                  <a:srgbClr val="008080"/>
                </a:gs>
              </a:gsLst>
              <a:lin ang="18900000"/>
            </a:gradFill>
            <a:ln cap="sq" w="936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16200000">
              <a:off x="1752480" y="1491840"/>
              <a:ext cx="3146760" cy="5283000"/>
            </a:xfrm>
            <a:custGeom>
              <a:avLst/>
              <a:gdLst>
                <a:gd name="textAreaLeft" fmla="*/ 0 w 3146760"/>
                <a:gd name="textAreaRight" fmla="*/ 3147120 w 3146760"/>
                <a:gd name="textAreaTop" fmla="*/ 0 h 5283000"/>
                <a:gd name="textAreaBottom" fmla="*/ 5283360 h 5283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798" y="17930"/>
                  </a:moveTo>
                  <a:arcTo wR="-7200" hR="-7200" stAng="5880000" swAng="-2280000"/>
                  <a:lnTo>
                    <a:pt x="5400" y="1447"/>
                  </a:lnTo>
                  <a:arcTo wR="10800" hR="10800" stAng="-7200000" swAng="2280000"/>
                  <a:lnTo>
                    <a:pt x="12679" y="-2569"/>
                  </a:lnTo>
                  <a:lnTo>
                    <a:pt x="16509" y="2514"/>
                  </a:lnTo>
                  <a:lnTo>
                    <a:pt x="11426" y="634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8080"/>
                </a:gs>
              </a:gsLst>
              <a:lin ang="2700000"/>
            </a:gradFill>
            <a:ln cap="sq"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78160" y="2109600"/>
              <a:ext cx="199116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ctr">
                <a:buClr>
                  <a:srgbClr val="ffcc00"/>
                </a:buClr>
                <a:buFont typeface="Times New Roman"/>
                <a:buAutoNum type="arabicPeriod" startAt="2"/>
                <a:tabLst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Вирус  попадает в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5760" algn="ctr"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здоровую клетку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81400" y="4970880"/>
              <a:ext cx="1989360" cy="118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3.Вирус внедряется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в генную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структуру клетки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179360" y="4974120"/>
              <a:ext cx="1990800" cy="11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4.Человек теряет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способность к борьбе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с любыми инфекциями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171440" y="2114280"/>
              <a:ext cx="1990800" cy="11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457200" indent="-457200" algn="r">
                <a:buClr>
                  <a:srgbClr val="ffcc00"/>
                </a:buClr>
                <a:buFont typeface="Times New Roman"/>
                <a:buAutoNum type="arabicPeriod"/>
                <a:tabLst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Вирус Т-лимфоциты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5760" algn="r"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 </a:t>
              </a: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иммунной системы 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  <a:p>
              <a:pPr marL="457200" indent="-455760" algn="r">
                <a:tabLst>
                  <a:tab algn="l" pos="0"/>
                  <a:tab algn="l" pos="457200"/>
                  <a:tab algn="l" pos="1371600"/>
                  <a:tab algn="l" pos="2286000"/>
                  <a:tab algn="l" pos="3200400"/>
                  <a:tab algn="l" pos="4114800"/>
                  <a:tab algn="l" pos="5029200"/>
                  <a:tab algn="l" pos="5943600"/>
                  <a:tab algn="l" pos="6858000"/>
                  <a:tab algn="l" pos="7772400"/>
                  <a:tab algn="l" pos="8686800"/>
                  <a:tab algn="l" pos="9601200"/>
                  <a:tab algn="l" pos="10515600"/>
                  <a:tab algn="l" pos="1078236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Times New Roman"/>
                </a:rPr>
                <a:t>вызывает болезнь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411280" y="371628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Times New Roman"/>
              </a:rPr>
              <a:t>Этапы развития болезни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69920" y="216000"/>
            <a:ext cx="887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82520" y="1801800"/>
            <a:ext cx="5757840" cy="44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just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Убить вирус можно нагреванием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кровеносной системы до + 56</a:t>
            </a:r>
            <a:r>
              <a:rPr b="0" lang="ru-RU" sz="2400" spc="-1" strike="noStrike" baseline="30000">
                <a:solidFill>
                  <a:srgbClr val="ffcc00"/>
                </a:solidFill>
                <a:latin typeface="Times New Roman"/>
              </a:rPr>
              <a:t>о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</a:t>
            </a:r>
            <a:r>
              <a:rPr b="0" lang="ru-RU" sz="2400" spc="-1" strike="noStrike">
                <a:solidFill>
                  <a:srgbClr val="ffcc00"/>
                </a:solidFill>
                <a:latin typeface="Times New Roman"/>
              </a:rPr>
              <a:t> в течение 50 минут. Так как эту процедуру не сможет выдержать ни один человек, можно говорить о том, что вылечить это заболевание невозможно. Кстати, выявить болезнь тоже очень сложно. Она долгое время может себя не проявлять, а обнаружить ее можно только в лабораторных условиях по специальной методике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012000" y="2924280"/>
            <a:ext cx="2935080" cy="23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69920" y="216000"/>
            <a:ext cx="887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82520" y="1801800"/>
            <a:ext cx="546912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1640" algn="ctr">
              <a:spcBef>
                <a:spcPts val="6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Способы заражения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При половых контактах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При попадании в кровь через нестерильные медицинские приборы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1640" algn="just"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 u="sng">
                <a:solidFill>
                  <a:srgbClr val="ff6600"/>
                </a:solidFill>
                <a:uFillTx/>
                <a:latin typeface="Times New Roman"/>
              </a:rPr>
              <a:t>В России</a:t>
            </a:r>
            <a:r>
              <a:rPr b="1" lang="ru-R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наиболее распространен второй способ. Количество заболевших постоянно растет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1995 год – на 100 тыс. человек было 1-3 случая заболевания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1996 год – 131 случай заболевания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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1999 год – более 13 тысяч случае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724360" y="3692520"/>
            <a:ext cx="3295800" cy="163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9920" y="216000"/>
            <a:ext cx="887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725480"/>
            <a:ext cx="914400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9920" y="216000"/>
            <a:ext cx="887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7373"/>
            </a:gs>
            <a:gs pos="100000">
              <a:srgbClr val="00808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69920" y="216000"/>
            <a:ext cx="887400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ИД И ЕГО ПРОФИЛАКТИКА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520" y="1801800"/>
            <a:ext cx="5684760" cy="50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1280" indent="-341280" algn="just"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Профилактика СПИД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– единственный путь борьбы с ним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ctr"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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ff6600"/>
                </a:solidFill>
                <a:uFillTx/>
                <a:latin typeface="Times New Roman"/>
              </a:rPr>
              <a:t>Основные направления профилактики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бучение населения правильному половому поведению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граничение половых партнеров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Использование презерватив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облюдение правил личной гигиены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Обеспечение правил обращения со шприцам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Стерилизация мединструментов и систем переливания крови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1280" indent="-341280" algn="just">
              <a:spcBef>
                <a:spcPts val="499"/>
              </a:spcBef>
              <a:buClr>
                <a:srgbClr val="00ff00"/>
              </a:buClr>
              <a:buSzPct val="75000"/>
              <a:buFont typeface="Showcard Gothic"/>
              <a:buChar char="√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Times New Roman"/>
              </a:rPr>
              <a:t>Использование одноразовых инструментов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940360" y="3816360"/>
            <a:ext cx="3079800" cy="153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19:54:12Z</dcterms:created>
  <dc:creator>PASARELLA</dc:creator>
  <dc:description/>
  <dc:language>en-US</dc:language>
  <cp:lastModifiedBy>Admin</cp:lastModifiedBy>
  <dcterms:modified xsi:type="dcterms:W3CDTF">2010-10-16T05:00:33Z</dcterms:modified>
  <cp:revision>24</cp:revision>
  <dc:subject/>
  <dc:title>СПИД И ЕГО ПРОФИЛАКТИКА</dc:title>
</cp:coreProperties>
</file>