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C01-34C6-4687-907A-B17B41A8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86A-3271-4DC0-918D-2D82D6AC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E66-67E2-447D-80FE-5B698588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BE5-C15B-41D3-89F9-E3A825F8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5F5-200B-4323-B7B3-96279AD1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CFE-B46F-40F9-B371-6184AFAA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398-342A-43A6-9BB7-9DDFA46F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C64-AF17-4F65-88FA-86E67E75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451-A1DF-4D34-B46B-4F9E9DD8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56C-EF32-4705-B002-F379505A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346-8100-4666-9FC1-F5F1D2EF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3EC-1570-4EFB-B6EE-42C40B8B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75FF-0717-433D-B65B-6B236AA2F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Лекция № 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4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сновы физиологии функциональных сист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цептор результатов действ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это идеальный образ (эталон) будущих результатов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езультаты не соответствуют прогнозу, то возникает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акция рассоглас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активирующая ориентировочно-исследовательскую реакцию, которая увеличивает ассоциативные возможности мозга, обеспечивая активный поиск дополнительн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ее основе формируется новый более полный афферентный синтез, принимается более адекватное решение, что, в свою очередь, приводит к формированию более совершенной программы действия, которая позволяет получить необходимый результ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достижении желаемого полезного результата в акцепторе результатов действия формируется реакция согласования, поступает афферентация, сигнализирующая об удовлетворении мотивации. На этом функциональная система перестает существо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9171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братные связ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акцепторе результата сравнивается итог действия с ожидаемой програм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я по каналам "обратной связи" поступает к акцептору результата дей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 эффект  совпадает  с предварительной моделью результата,  то рефлекторные реакции прекращаются, так как цель достигну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же такого совпадения нет, то в программу действия вносятся коррективы - и эффекторное возбуждение приводит к продолжению действия до тех пор пока не будет достигнут необходимый результа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Мотивационное возбужд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зникновение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исково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фазы обусловлено формированием в ЦНС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мотивационного возбуждения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ыполнение рефлекторных актов, составляющих инстинкт, направлено на удовлетворение соответствующей потребности, которая возникает в результате нарушения внутреннего гомеостаза или сложного взаимодействия организма со средой. Примером таких мотиваций является чувство голода, жажды, половое поведение. Инстинктивное поведение направлено на удовлетворение потребности путем ликвидации данного мотивационного возб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отив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Термин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мотивация поведения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бозначает такое состояние организма, когда возникает внутренняя потребность, побуждающая к действию, активному поведению при отсутствии видимых внешних раздраж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днако мотивация не всегда вызывает немедленную реакцию, так как инстинктивное поведение обычно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"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локировано"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пециальной системо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"врожденных пусковых механизмов"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оторые обеспечивают точное соответствие поведенческих актов биологически адекватным условиям среды. Как только организм оказывается в такой ситуации, пусковой механизм распознает ее и после этого наступает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тормаживание блокировки с активацией нервных центр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 человека эти процессы находятся под контролем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с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Центры мотивации располагаются преимущественно в гипоталамической области и в лимбическ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аптивные результаты, образующие различные функциональные системы, могут проявляться на молекулярном, клеточном, гомеостатическом, поведенческом, психическом уровнях и при объединении живых существ в популяции и со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остный организм на основе нервных, гуморальных и информационных механизмов объединяет множество слаженно взаимодействующих функциональных систем, часто принадлежащих к разным структурным образованиям и обеспечивающих своей содружественной деятельностью гомеостаз и адаптацию к окружающей сред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ле неоднократного, а иногда и однократного удовлетворения исходной потребности, т. е. достижения потребного результата, субъекты с помощью сформированной функциональной системы начинают активно предвидеть и оценивать свойства этого результата - формируется аппарат предвидения результата - акцептор результата действ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ятельность любой функциональной системы приобретает свойство саморегуляции и направленность на достижение полезных для организма приспособительных результатов. Полезные приспособительные результаты выступают, таким образом, в роли системообразующих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довательное и избирательное формирование функциональных систем в процессе онтогенетического развития составляет, по П. К. Анохину, процессы системоген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стемогене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збирательное созревание функциональных систем и их отдельных частей в процессах пре- и постнатального онтоген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бщие свойства функциональных систем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ущим свойством функциональной системы любого уровня организации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нцип саморегуля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оответствии с теорией функциональных систем отклонение того или иного результата деятельности функциональных систем от уровня, определяющего нормальную жизнедеятельность организма, само является причиной к мобилизации всех составляющих функциональные системы компонентов на возвращение измененного результата к уровню, определяющему оптимальное течение процессов жизне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функциональных системах организма отклонение результата деятельности функциональной системы от уровня, определяющего нормальную жизнедеятельность, заставляет все элементы функциональной системы работать в сторону его возвращения к оптимальному уровн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формируется субъективный информационный сигнал - отрицательная эмоция, позволяющая живым организмам оценивать возникшую потре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озвращении результата к оптимальному для жизнедеятельности уровню элементы функциональных систем работают в противоположном направлении. Достижение оптимального уровня результата в норме сопровождается информационной положительной эмоц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им образом, в зависимости от состояния регулируемого результата функциональные системы усиливают или, наоборот, снижают интенсивность своей саморегулятор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диняемые в функциональные системы элементы не просто взаимодействуют, а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заимосодействую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стижению системой ее полезного приспособительного результ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Функциональные сис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кциональные системы, по П.К. Анохину, самоорганизующиеся и саморегулирующиеся динамические центрально-периферические организации, объединенные нервными и гуморальными регуляциями, все составные компоненты которых взаимосодействуют обеспечению различных полезных для самих функциональных систем и для организма в целом адаптивных результатов, удовлетворяющих его различные потребн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действие функциональных систем в организме осуществляется на основе следующих принцип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 иерархического доминир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 мультипараметрического и последовательного взаимо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системогене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ерархическое доминирование функциональных сис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ждый данный момент времени в организме человека совершается множество разнообразных реакций, составляющих в целом многопараметрическую общую потребность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 каждая специфическая функциональная система организма формируется только каким-либо одним параметром внутренней среды, составляющим только часть общей потребности организма. Всегда один из параметров общей потребности организма выступает в роли ведущего доминирующ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этом все другие функциональные системы либо вытормаживаются, либо способствуют деятельности доминирующей функциональной системы. По отношению к каждой доминирующей функциональной системе субдоминирующие функциональные системы в соответствии с их значимостьювыстраиваются в определенном иерархическом поряд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ультипараметрическое взаимодейств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принцип отражает обобщенную деятельность различных функциональных систем в организме человека. Особенно отчетливо принцип мультипараметрического взаимодействия проявляется в деятельности функциональных систем гомеостатического уровня, в которых изменение одного показателя внутренней среды, представляющего результат деятельности какой-либо функциональной системы, немедленно сказывается на результатах деятельности других связанных с ним функциональных сис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следовательное взаимодействие функциональных сис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организме деятельность различных функциональных систем последовательно связана друг с другом во времени, когда результат деятельности одной функциональной системы последовательно формирует другую потребность и соответствующую функциональную систему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Уровни организации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функциональных сис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таболически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Функциональные системы обуславливают достижение завершающих этапов химических реакций в тканях орга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омеостатически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беспечивает оптимальный уровень важнейших показателей внутренней среды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веденчески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пределяет достижение человеком биологически важных результа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сихически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троятся на информационной основе идеального отражения человеком его различных эмоциональных состояний и свойств предметов окружающего мира с помощью языковых символов и процессов мышле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оциальны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пределяет достижение отдельными людьми или их группами социально значим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Функциональная система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(по П.К Анохину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341360"/>
          <a:ext cx="914400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здражитель действует на фоне </a:t>
            </a:r>
            <a:r>
              <a:rPr b="0" i="1" lang="ru-RU" sz="2200" spc="-1" strike="noStrike">
                <a:solidFill>
                  <a:srgbClr val="ffff00"/>
                </a:solidFill>
                <a:latin typeface="Arial"/>
              </a:rPr>
              <a:t>предпусковой интеграции,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торая формируется на базе различных видов афферентных возбуждений. </a:t>
            </a:r>
            <a:r>
              <a:rPr b="0" i="1" lang="ru-RU" sz="2200" spc="-1" strike="noStrike">
                <a:solidFill>
                  <a:srgbClr val="ffff00"/>
                </a:solidFill>
                <a:latin typeface="Arial"/>
              </a:rPr>
              <a:t>Обстановочная афферентация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мма афферентных возбуждений, возникающих в конкретных условиях и сигнализирующих об обстановке, в которой находится организ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становочная афферентация действует на организм, в котором имеется тот или иной уровень мотивационного возбуждения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200" spc="-1" strike="noStrike">
                <a:solidFill>
                  <a:srgbClr val="ffff00"/>
                </a:solidFill>
                <a:latin typeface="Arial"/>
              </a:rPr>
              <a:t>мотивация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 стадии афферентного синтеза доминирующая мотивация активирует </a:t>
            </a:r>
            <a:r>
              <a:rPr b="0" i="1" lang="ru-RU" sz="2200" spc="-1" strike="noStrike">
                <a:solidFill>
                  <a:srgbClr val="ffff00"/>
                </a:solidFill>
                <a:latin typeface="Arial"/>
              </a:rPr>
              <a:t>память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начение памяти на стадии афферентного синтеза состоит в том, что она извлекает информацию, связанную с удовлетворением доминирующей мотив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и три вида возбуждений: мотивационное, память и обстановочная афферентация создают предпусковую интеграцию, на фоне которой действует четвертый вид афферентации —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пусковая афферентаци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пусковой стимул, условный сигнал). Эти четыре вида возбуждений взаимодействуют и обеспечивают формирование первого этапа функциональной системы поведения — </a:t>
            </a:r>
            <a:r>
              <a:rPr b="0" i="1" lang="ru-RU" sz="2200" spc="-1" strike="noStrike">
                <a:solidFill>
                  <a:srgbClr val="ffff00"/>
                </a:solidFill>
                <a:latin typeface="Arial"/>
              </a:rPr>
              <a:t>афферентного синтеза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Афферентный синтез и принятие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765000"/>
          <a:ext cx="648180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648180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снове его лежит анализ и синтез афферентной информации от четырех компонентов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иологической мотиваци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ищевые, половые, оборонительные и т.п.)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бстановочной афферентаци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кружающая сред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усковой афферент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непосредственный стимул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амя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Принятие решения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остановка цели) является вторым этапом и осуществляется только на основе полного афферентного синтеза. Благодаря принятию решения принимается форма поведения, соответствующая внутренней потребности, прежнему опыту и окружающей обстановке, которая позволяет осуществлять именно то действие, которое должно привести к запрограммированн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ретьим этапом является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формирование программы действия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этом этапе обеспечиваются пути реализации конкретной цели, формируются эфферентные команды к различным исполнительным органам. Одновременно в нейронных структурах создается специальный аппарат —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акцептор результата действия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торый прогнозирует все параметры будущего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ак формируется программа действия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765000"/>
          <a:ext cx="529272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529272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328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езультате афферентного синтеза формируется программа действия, состоящую из набора рефлекторных команд к исполнительным органам (мышцам, железам, внутренним органа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есь важное место принадлежит вытормаживанию побочных вариантов, которые могли бы помешать выполнению адекватной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то такое акцептор результата действия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овременно с указанными выше механизмами формируется так называемый "акцептор результата действия", под которым понимается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нейронная модель предполагаемого эффек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беспечение функционального назначения этого механизма принимают участие кольцевые взаимодействия нейронов, которые, например, при выполнении двигательных рефлексов получают импульсную активность от коллатералей пирамидного тракта, передающего команды к исполнительным орга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7:34:22Z</dcterms:created>
  <dc:creator>И.В. Филиппов</dc:creator>
  <dc:description/>
  <dc:language>en-US</dc:language>
  <cp:lastModifiedBy>filippov</cp:lastModifiedBy>
  <dcterms:modified xsi:type="dcterms:W3CDTF">2011-05-20T06:49:39Z</dcterms:modified>
  <cp:revision>6</cp:revision>
  <dc:subject/>
  <dc:title>Функциональные системы</dc:title>
</cp:coreProperties>
</file>