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5.jpeg" ContentType="image/jpeg"/>
  <Override PartName="/ppt/media/image26.jpeg" ContentType="image/jpeg"/>
  <Override PartName="/ppt/media/image20.png" ContentType="image/png"/>
  <Override PartName="/ppt/media/image18.png" ContentType="image/png"/>
  <Override PartName="/ppt/media/image17.wmf" ContentType="image/x-wmf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8278-8361-4497-AAF5-AA0808E6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085-2849-443A-8A32-DE97EEA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97C-D400-4B60-983C-15874A13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22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2316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61244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22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2316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1FA-DD7B-4B03-8AD2-B0F30A8F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9A14-A7E1-4F74-94F9-80FFE72E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2956-B976-411A-B362-6BF2004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7C2-4773-4CD8-9313-3387211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5F10-66E7-423C-9029-9ECA6239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C5E7-9528-478E-9E1D-A016A564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06360" y="901800"/>
            <a:ext cx="76788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2DC-F1C8-4D28-89F9-28809A0F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4DCD-7187-4AE6-A5FD-F320874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CF3-3027-4983-A44D-35204198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2B50-570E-4A73-932B-EC2B5848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AA06-F16C-48B4-B2A8-6C6FFE2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BC9C-310C-4207-91FE-647327CC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317F-6F26-44C1-90CB-29328E35D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222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16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61244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222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316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834F-9C82-4D52-BF84-4164CC3A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D64F7-0838-49B5-B339-2997CCFE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7AC70-D093-4170-81E8-DAC21B0B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0FE9-C9F6-4411-8008-BAEA260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0EED-87A0-4497-A892-6DEDC1E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4ED1-B10E-4432-8A2D-6FFAB31D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218-7D7A-445D-91BB-F98A57A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06360" y="901800"/>
            <a:ext cx="76788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109E-2B2C-42C4-8547-7472A6C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394EA-C9FA-4F2E-AE1C-E3F5ABE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8174-0204-4537-BE1C-7807B46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DB399-05C6-4488-87AE-9438EE4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7A0F-2083-4D59-B24D-053CA6FE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4563F-F3A1-45E0-B6F5-F174C2A8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9222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316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61244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9222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316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BDC4-908F-456B-8FF6-325A720F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4470-CA7C-4ECF-A748-6E2FECA6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2C64-74FF-4CE7-94E5-78D29F4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B465F-27BA-4875-B09C-FAABD89E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8D0-A6F3-4687-81E5-D286D5CB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4A0F-36A1-4D64-A15C-476D7BBA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7468-22D8-4C97-AE82-9550C6D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06360" y="901800"/>
            <a:ext cx="76788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92AF-9E22-4E6E-BFEF-E5BCA93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1167-F4DE-4FBB-8D74-34127017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B984-C799-4A5A-BDD9-A25C70A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95549-7903-498F-BC1E-F089E98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30450-E5FA-4493-BC15-0E524B6A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0F38F-C8F8-4144-99E1-43CBD1D1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222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31600" y="233640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61244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222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231600" y="4411080"/>
            <a:ext cx="2199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5137-4207-4D1A-BA68-4D9403E7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905-713B-4ED9-A70D-A072706D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06360" y="901800"/>
            <a:ext cx="76788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A4F-B153-4DB2-849F-8AD33588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190-6C4D-49EE-94E6-EFBE204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12720" y="441108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B7F-84C0-41C3-9469-76F1DCD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1244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2720" y="2336400"/>
            <a:ext cx="333324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12440" y="4411080"/>
            <a:ext cx="6831000" cy="1894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B12-81BB-4252-B13F-7ECAA717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895520" cy="7559640"/>
              <a:chOff x="0" y="0"/>
              <a:chExt cx="7895520" cy="755964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8955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88580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260000" y="0"/>
              <a:ext cx="8820720" cy="7559640"/>
              <a:chOff x="1260000" y="0"/>
              <a:chExt cx="8820720" cy="755964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00" y="0"/>
                <a:ext cx="88207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263960" y="5760"/>
                <a:ext cx="880848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89040" y="6681960"/>
            <a:ext cx="8740800" cy="609480"/>
            <a:chOff x="689040" y="6681960"/>
            <a:chExt cx="8740800" cy="60948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89040" y="6681960"/>
              <a:ext cx="87408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93720" y="6689880"/>
              <a:ext cx="8731440" cy="59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806400" y="633240"/>
            <a:ext cx="8485200" cy="630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806400" y="635040"/>
            <a:ext cx="8485200" cy="6299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99760" y="30168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945280" y="328320"/>
            <a:ext cx="625320" cy="6253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48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65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097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129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115040" y="6403680"/>
            <a:ext cx="13384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008000" y="6403680"/>
            <a:ext cx="6107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456400" y="6403680"/>
            <a:ext cx="6094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166E71-EC86-42C9-97E2-AF33DBAD2AB0}" type="slidenum">
              <a:rPr b="0" lang="ru-RU" sz="15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895520" cy="7559640"/>
              <a:chOff x="0" y="0"/>
              <a:chExt cx="7895520" cy="755964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8955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88580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260000" y="0"/>
              <a:ext cx="8820720" cy="7559640"/>
              <a:chOff x="1260000" y="0"/>
              <a:chExt cx="8820720" cy="755964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00" y="0"/>
                <a:ext cx="88207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263960" y="5760"/>
                <a:ext cx="880848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974880" y="6188040"/>
            <a:ext cx="8150040" cy="603360"/>
            <a:chOff x="974880" y="6188040"/>
            <a:chExt cx="8150040" cy="6033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974880" y="6188040"/>
              <a:ext cx="8150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982800" y="6192360"/>
              <a:ext cx="81388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1090440" y="1120680"/>
            <a:ext cx="7915320" cy="532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092240" y="1112760"/>
            <a:ext cx="7915320" cy="5326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847800" y="77328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660160" y="826200"/>
            <a:ext cx="623880" cy="625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48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65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097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129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7464240" y="5905440"/>
            <a:ext cx="133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293480" y="5905440"/>
            <a:ext cx="555156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850080" y="5905440"/>
            <a:ext cx="61128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445FE8-4107-498E-9B18-368B4A766BCB}" type="slidenum">
              <a:rPr b="0" lang="ru-RU" sz="15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895520" cy="7559640"/>
              <a:chOff x="0" y="0"/>
              <a:chExt cx="7895520" cy="755964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8955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88580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260000" y="0"/>
              <a:ext cx="8820720" cy="7559640"/>
              <a:chOff x="1260000" y="0"/>
              <a:chExt cx="8820720" cy="755964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00" y="0"/>
                <a:ext cx="88207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263960" y="5760"/>
                <a:ext cx="880848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89040" y="6669000"/>
            <a:ext cx="8528040" cy="609840"/>
            <a:chOff x="689040" y="6669000"/>
            <a:chExt cx="8528040" cy="6098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89040" y="6669000"/>
              <a:ext cx="8528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96600" y="6678360"/>
              <a:ext cx="85122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925880" y="666360"/>
            <a:ext cx="417852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929120" y="664920"/>
            <a:ext cx="4176720" cy="6307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825120" y="636480"/>
            <a:ext cx="4176720" cy="630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826560" y="635040"/>
            <a:ext cx="4176720" cy="630720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614320" y="32400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922800" y="366480"/>
            <a:ext cx="625320" cy="62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48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65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097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129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990840" y="6487920"/>
            <a:ext cx="13384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1007640" y="6425640"/>
            <a:ext cx="388296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8331120" y="6500160"/>
            <a:ext cx="611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550FE5-9D95-4C77-A02D-43DA60DF0D8F}" type="slidenum">
              <a:rPr b="0" lang="ru-RU" sz="15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10080720" cy="7559640"/>
            <a:chOff x="0" y="0"/>
            <a:chExt cx="10080720" cy="755964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895520" cy="7559640"/>
              <a:chOff x="0" y="0"/>
              <a:chExt cx="7895520" cy="755964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8955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88580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260000" y="0"/>
              <a:ext cx="8820720" cy="7559640"/>
              <a:chOff x="1260000" y="0"/>
              <a:chExt cx="8820720" cy="755964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00" y="0"/>
                <a:ext cx="8820720" cy="75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263960" y="5760"/>
                <a:ext cx="8808480" cy="75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89040" y="6669000"/>
            <a:ext cx="8528040" cy="609840"/>
            <a:chOff x="689040" y="6669000"/>
            <a:chExt cx="8528040" cy="6098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89040" y="6669000"/>
              <a:ext cx="8528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96600" y="6678360"/>
              <a:ext cx="85122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825120" y="636480"/>
            <a:ext cx="4176720" cy="6307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820440" y="635040"/>
            <a:ext cx="4178160" cy="63072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925880" y="666360"/>
            <a:ext cx="4178520" cy="6308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923000" y="664920"/>
            <a:ext cx="4176720" cy="630864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614320" y="324000"/>
            <a:ext cx="625320" cy="625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922800" y="366480"/>
            <a:ext cx="625320" cy="6253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06360" y="901800"/>
            <a:ext cx="7678800" cy="1325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612440" y="2336400"/>
            <a:ext cx="6831000" cy="3971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4880" indent="-30168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065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097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12960" indent="-250920">
              <a:spcBef>
                <a:spcPts val="64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12960" indent="-250920">
              <a:spcBef>
                <a:spcPts val="649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995520" y="6491160"/>
            <a:ext cx="13381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1007280" y="6427800"/>
            <a:ext cx="3659400" cy="401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8335800" y="6503400"/>
            <a:ext cx="61128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E739EA-FD59-4B77-A7CD-56F80E3BEE2A}" type="slidenum">
              <a:rPr b="0" lang="ru-RU" sz="15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152360" y="679320"/>
            <a:ext cx="77756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  <a:ea typeface="Arial"/>
              </a:rPr>
              <a:t>Способы извлечения квадратного корн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077840" y="2343240"/>
            <a:ext cx="5467320" cy="4397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6624720" y="5948280"/>
            <a:ext cx="2501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Автор: Кравченко Макси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Школа: МАОУ СОШ №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2016 г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7640" y="780840"/>
            <a:ext cx="860904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 использования таблиц квадратов и двузначных чисе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3933720" y="2422440"/>
            <a:ext cx="4994280" cy="3197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 flipH="1" rot="19471200">
            <a:off x="3338280" y="5217480"/>
            <a:ext cx="874440" cy="3236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9880" y="5954760"/>
            <a:ext cx="897732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спользуется для корней до 100, нужна таблица квадратов натуральных чисе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754200" y="2351160"/>
            <a:ext cx="321444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√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71=8,4...      70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Lucida Sans Unicode"/>
              </a:rPr>
              <a:t>56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Закрыть две последние цифры, найти число, которое меньше подкоренного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амый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Lucida Sans Unicode"/>
              </a:rPr>
              <a:t>левы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 столбик- это </a:t>
            </a:r>
            <a:r>
              <a:rPr b="0" lang="ru-RU" sz="2300" spc="-1" strike="noStrike">
                <a:solidFill>
                  <a:srgbClr val="ff0000"/>
                </a:solidFill>
                <a:latin typeface="Arial"/>
                <a:ea typeface="Lucida Sans Unicode"/>
              </a:rPr>
              <a:t>целы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самый </a:t>
            </a:r>
            <a:r>
              <a:rPr b="0" lang="ru-RU" sz="2300" spc="-1" strike="noStrike">
                <a:solidFill>
                  <a:srgbClr val="006b6b"/>
                </a:solidFill>
                <a:latin typeface="Arial"/>
                <a:ea typeface="Lucida Sans Unicode"/>
              </a:rPr>
              <a:t>верхний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это </a:t>
            </a:r>
            <a:r>
              <a:rPr b="0" lang="ru-RU" sz="2300" spc="-1" strike="noStrike">
                <a:solidFill>
                  <a:srgbClr val="198a8a"/>
                </a:solidFill>
                <a:latin typeface="Arial"/>
                <a:ea typeface="Lucida Sans Unicode"/>
              </a:rPr>
              <a:t>десятые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 rot="1378800">
            <a:off x="6289560" y="3045960"/>
            <a:ext cx="874800" cy="360360"/>
          </a:xfrm>
          <a:prstGeom prst="rect">
            <a:avLst/>
          </a:prstGeom>
          <a:ln w="0">
            <a:noFill/>
          </a:ln>
        </p:spPr>
      </p:pic>
      <p:cxnSp>
        <p:nvCxnSpPr>
          <p:cNvPr id="266" name="Соединительная линия уступом 10"/>
          <p:cNvCxnSpPr/>
          <p:nvPr/>
        </p:nvCxnSpPr>
        <p:spPr>
          <a:xfrm flipH="1" flipV="1" rot="5400000">
            <a:off x="4289040" y="3210120"/>
            <a:ext cx="2000880" cy="1786680"/>
          </a:xfrm>
          <a:prstGeom prst="bentConnector3">
            <a:avLst>
              <a:gd name="adj1" fmla="val -1799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01680" y="684360"/>
            <a:ext cx="767736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imes New Roman"/>
              </a:rPr>
              <a:t>Деление пары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92000" y="1647720"/>
            <a:ext cx="4248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На место единиц подбираем одно и тоже число, чтобы произведение было равным или небольшим полученного числ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154480" y="1739880"/>
            <a:ext cx="374328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особ применим ко всем числам, точность высока, но требует хороших вычислительных 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968400" y="6208560"/>
            <a:ext cx="3603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508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Вычисление на калькуляторе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9" descr=""/>
          <p:cNvPicPr/>
          <p:nvPr/>
        </p:nvPicPr>
        <p:blipFill>
          <a:blip r:embed="rId1"/>
          <a:stretch/>
        </p:blipFill>
        <p:spPr>
          <a:xfrm>
            <a:off x="812880" y="2470320"/>
            <a:ext cx="1493640" cy="44604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"/>
          <p:cNvSpPr/>
          <p:nvPr/>
        </p:nvSpPr>
        <p:spPr>
          <a:xfrm>
            <a:off x="1054080" y="3036960"/>
            <a:ext cx="3265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 8 | 1024 6</a:t>
            </a:r>
            <a:r>
              <a:rPr b="0" lang="ru-RU" sz="1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=36, 46-36=10, 6*2=12, сносим следующую пару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 | 1024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5195880" y="2801880"/>
            <a:ext cx="3165480" cy="3351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2" descr=""/>
          <p:cNvPicPr/>
          <p:nvPr/>
        </p:nvPicPr>
        <p:blipFill>
          <a:blip r:embed="rId3"/>
          <a:stretch/>
        </p:blipFill>
        <p:spPr>
          <a:xfrm>
            <a:off x="5326200" y="3208320"/>
            <a:ext cx="2798640" cy="2882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3" descr=""/>
          <p:cNvPicPr/>
          <p:nvPr/>
        </p:nvPicPr>
        <p:blipFill>
          <a:blip r:embed="rId4"/>
          <a:stretch/>
        </p:blipFill>
        <p:spPr>
          <a:xfrm>
            <a:off x="4608360" y="6300720"/>
            <a:ext cx="3024360" cy="26676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ая соединительная линия 6"/>
          <p:cNvSpPr/>
          <p:nvPr/>
        </p:nvSpPr>
        <p:spPr>
          <a:xfrm>
            <a:off x="1079640" y="3274920"/>
            <a:ext cx="647640" cy="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1240" y="728280"/>
            <a:ext cx="8609040" cy="14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500" spc="-1" strike="noStrike">
                <a:solidFill>
                  <a:srgbClr val="262626"/>
                </a:solidFill>
                <a:latin typeface="Arial"/>
              </a:rPr>
              <a:t>Способ отбрасывания полного квадрата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36720" y="2626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ем из числа квадрат, который оканчивается той же цифрой, что и данное числ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ие корней до числа 75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562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0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√2200+9=√2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2+</a:t>
            </a:r>
            <a:r>
              <a:rPr b="0" lang="ru-RU" sz="2000" spc="-1" strike="noStrike">
                <a:solidFill>
                  <a:srgbClr val="2300dc"/>
                </a:solidFill>
                <a:latin typeface="Arial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47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624=√4300=324=√43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43+</a:t>
            </a:r>
            <a:r>
              <a:rPr b="0" lang="ru-RU" sz="2000" spc="-1" strike="noStrike">
                <a:solidFill>
                  <a:srgbClr val="2300dc"/>
                </a:solidFill>
                <a:latin typeface="Arial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8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ие корней после 75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5625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649=√8600+49=√86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6b6b"/>
                </a:solidFill>
                <a:latin typeface="Arial"/>
              </a:rPr>
              <a:t>7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86+</a:t>
            </a:r>
            <a:r>
              <a:rPr b="0" lang="ru-RU" sz="2000" spc="-1" strike="noStrike">
                <a:solidFill>
                  <a:srgbClr val="006b6b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93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им только для точного квадрата четырехзначных чисел, применяются два алгоритма до квадрата 75 и после него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Геометрический метод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34760" y="2050920"/>
            <a:ext cx="4089240" cy="338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ctr">
            <a:normAutofit fontScale="99000"/>
          </a:bodyPr>
          <a:p>
            <a:pPr marL="427320" indent="-318960">
              <a:lnSpc>
                <a:spcPct val="95000"/>
              </a:lnSpc>
              <a:spcBef>
                <a:spcPts val="4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Результат этого способа неточен из-за погрешности измерительных приборов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27320" indent="-318960">
              <a:lnSpc>
                <a:spcPct val="95000"/>
              </a:lnSpc>
              <a:spcBef>
                <a:spcPts val="4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В данном способе используются две теоремы о высоте проведенной в прямоугольном треугольнике и свойстве вписанного угла, опирающегося на диаметр окружности. ABC=90</a:t>
            </a:r>
            <a:r>
              <a:rPr b="0" lang="ru-RU" sz="2000" spc="-1" strike="noStrike" baseline="33000">
                <a:solidFill>
                  <a:srgbClr val="262626"/>
                </a:solidFill>
                <a:latin typeface="Arial"/>
              </a:rPr>
              <a:t>○  </a:t>
            </a: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27320" indent="-318960">
              <a:lnSpc>
                <a:spcPct val="100000"/>
              </a:lnSpc>
              <a:spcBef>
                <a:spcPts val="4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4824360" y="2050920"/>
            <a:ext cx="4394160" cy="23590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836640" y="5003640"/>
            <a:ext cx="83818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троим a=1 b=11 a+b диаметр окружности значит a+b/2 из точки H проводим перпендикуляр, B точка пересечения перпендикуляра и окружности, HB=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Измеряем линейкой HB=√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1240" y="97128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Метод подбора угадыванием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36720" y="2411280"/>
            <a:ext cx="7920000" cy="360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им к четырехзначных чисел, которые являются полным квадратом</a:t>
            </a:r>
            <a:endParaRPr b="0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396=86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9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разбираем на пары. Из 73 можно выделить квадрат 8 вторая пара оканчивается цифро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последняя цифра в искомом числе 4 или 6 (4*4=1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*6=3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то есть 84 или 86. между ними число 75 квадрат вычисляется по алгоритму: десяток увеличиваем на единицу находим произведение десятков и дописываем 25 если полученное число больше данного то выбираем меньшее и наоборот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ru-RU" sz="20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(8*(8+1))25=(8*9)25=7225&lt;7396 значит берем 86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1240" y="10429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Канадский метод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79280" y="2266920"/>
            <a:ext cx="7621560" cy="450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X=√S+(X-S)/(2√S) X- число из которого извлекают корень,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S- число ближайшего точного квадрата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87=√81+(87-81)/(2√81)= 9+(6/2*9)=9+0,333...=9,333..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50=√256+(250-256)/(2√256)=16+(-6/2*16)=16-0,1875=15,8125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од не сложный, но нужно знать формулу для вычисления.</a:t>
            </a:r>
            <a:endParaRPr b="0" lang="en-US" sz="23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1240" y="104292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Графический способ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3840" y="2626920"/>
            <a:ext cx="8607240" cy="476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Arial"/>
              </a:rPr>
              <a:t>Использование этого способа занимает много времени, большая погрешность, лучше использовать для маленьких чисел.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3774960" y="3716280"/>
            <a:ext cx="51944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2680" y="1042920"/>
            <a:ext cx="86072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24000" y="2627280"/>
            <a:ext cx="7704000" cy="345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ая просторы интернета, я смог понять и найти наилучший способ извлечения квадратного корня из чисел. По-моему самым удобным методом является деление пары, потому что им легко воспользоваться на ЕГЭ. Но все же придется проверять ответ, т. к. могут быть ошибки при вычислении.  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79440" y="971280"/>
            <a:ext cx="7345440" cy="14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Зачем нам нужен квадратный корень?</a:t>
            </a:r>
            <a:endParaRPr b="0" lang="en-US" sz="4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92000" y="2771280"/>
            <a:ext cx="8609040" cy="3816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 marL="622440" indent="-514440">
              <a:lnSpc>
                <a:spcPct val="95000"/>
              </a:lnSpc>
              <a:spcBef>
                <a:spcPts val="7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мение извлекать квадратные корни нужны при изучении некоторых тем математики, химии и физики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22440" indent="-514440">
              <a:lnSpc>
                <a:spcPct val="95000"/>
              </a:lnSpc>
              <a:spcBef>
                <a:spcPts val="7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способов и алгоритмов извлечения квадратных корней без калькулятора особенно потребуется при сдачи ЕГЭ по математике!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26920" y="1079280"/>
            <a:ext cx="6675480" cy="126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Главный вопрос!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79640" y="2484000"/>
            <a:ext cx="8208720" cy="1319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 marL="431640" indent="-322200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100648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пособ извлечения квадратного корня БЕЗ КАЛЬКУЛЯТОРА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3168720" y="3419640"/>
            <a:ext cx="330984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60360" y="1042920"/>
            <a:ext cx="199548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92000" y="2771640"/>
            <a:ext cx="8609040" cy="3394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 marL="431640" indent="-322200">
              <a:lnSpc>
                <a:spcPct val="95000"/>
              </a:lnSpc>
              <a:spcBef>
                <a:spcPts val="7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ю является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2200">
              <a:lnSpc>
                <a:spcPct val="95000"/>
              </a:lnSpc>
              <a:spcBef>
                <a:spcPts val="79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йти способ извлекать квадратный корень без калькулятора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31640" indent="-322200">
              <a:lnSpc>
                <a:spcPct val="95000"/>
              </a:lnSpc>
              <a:spcBef>
                <a:spcPts val="649"/>
              </a:spcBef>
              <a:spcAft>
                <a:spcPts val="663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561600"/>
                <a:tab algn="l" pos="10064880"/>
                <a:tab algn="l" pos="105681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йти рациональные способы извлечения квадратного корня 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5960" y="9000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Что мы будем делать?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79640" y="2842920"/>
            <a:ext cx="8115120" cy="25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15120" bIns="50400" anchor="t">
            <a:norm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анализирова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сравниват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058320"/>
                <a:tab algn="l" pos="100648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экспериментировать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40920" y="779400"/>
            <a:ext cx="7458120" cy="14083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1006488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 разложения на простые множители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1241280" y="2195640"/>
            <a:ext cx="756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344400=21344400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*10*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*2*3*3*7*7*11*11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*2*5*2*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344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   4- четное число, значит все числа делятся на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6722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3361    3   5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+3+6+1=18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ся на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787    3   1+7+7+8+7=30 делится на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923  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7    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1     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      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имает много времени, нужно знать простые числа, признаки делимости чис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1065240" y="5075280"/>
            <a:ext cx="794376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2400" y="90972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вычетов нечетного числ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996840" y="2050920"/>
            <a:ext cx="7848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т способ предлагал своим ученикам преподаватель математики одной из школ Вашингтона миссис Брукс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ть метода: из подкоренного выражения нужно последовательно вычитать нечетные числа пока разность не станет равной 0 и посчитать количество вычитан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884160" y="5191200"/>
            <a:ext cx="8404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Российские ученые называют этот метод арифметическим извлечением квадратного корня или &lt;&lt;методом черепахи&gt;&gt;. Для извлечения квадратного корня требуется много времени и хорошие вычислительные навы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1060560" y="3473280"/>
            <a:ext cx="1265040" cy="33660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1"/>
          <p:cNvSpPr/>
          <p:nvPr/>
        </p:nvSpPr>
        <p:spPr>
          <a:xfrm>
            <a:off x="996840" y="3828960"/>
            <a:ext cx="80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6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55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52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7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0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31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20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07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92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75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56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35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12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87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2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60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2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1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3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             </a:t>
            </a:r>
            <a:r>
              <a:rPr b="0" lang="ru-RU" sz="1800" spc="-1" strike="noStrike">
                <a:solidFill>
                  <a:srgbClr val="40749b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2"/>
          <a:stretch/>
        </p:blipFill>
        <p:spPr>
          <a:xfrm>
            <a:off x="1062000" y="4487760"/>
            <a:ext cx="949320" cy="3240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2"/>
          <p:cNvSpPr/>
          <p:nvPr/>
        </p:nvSpPr>
        <p:spPr>
          <a:xfrm>
            <a:off x="1082880" y="4821120"/>
            <a:ext cx="55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9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8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5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0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3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4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13-</a:t>
            </a:r>
            <a:r>
              <a:rPr b="0" lang="ru-RU" sz="1800" spc="-1" strike="noStrike">
                <a:solidFill>
                  <a:srgbClr val="aa2b1e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           </a:t>
            </a:r>
            <a:r>
              <a:rPr b="0" lang="ru-RU" sz="1800" spc="-1" strike="noStrike">
                <a:solidFill>
                  <a:srgbClr val="40749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63640" y="1008000"/>
            <a:ext cx="437004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 Ньютон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863640" y="5075280"/>
            <a:ext cx="82738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Способ позволяет извлекать квадратный корень из больших чисел но нужно выполнять длинные вычис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42840" y="2208240"/>
            <a:ext cx="850896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метод разработал Исаак Ньютон, но открыл его математик древнего мира (около 100г.н.э) Герон Александрий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a1- первое приближение числа x ( a1 — можно брать значение квадратного корня из натурального числа — точного квадрата не большего x).тогда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0" y="0"/>
            <a:ext cx="1008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9"/>
          <p:cNvSpPr/>
          <p:nvPr/>
        </p:nvSpPr>
        <p:spPr>
          <a:xfrm>
            <a:off x="0" y="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18" descr=""/>
          <p:cNvPicPr/>
          <p:nvPr/>
        </p:nvPicPr>
        <p:blipFill>
          <a:blip r:embed="rId1"/>
          <a:stretch/>
        </p:blipFill>
        <p:spPr>
          <a:xfrm>
            <a:off x="942840" y="3780000"/>
            <a:ext cx="819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1042920"/>
            <a:ext cx="741708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124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58320"/>
                <a:tab algn="l" pos="9561600"/>
                <a:tab algn="l" pos="10064880"/>
                <a:tab algn="l" pos="105681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а Древнего Вавилон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>
            <a:alphaModFix amt="45000"/>
          </a:blip>
          <a:stretch/>
        </p:blipFill>
        <p:spPr>
          <a:xfrm>
            <a:off x="1079640" y="2266920"/>
            <a:ext cx="2173320" cy="75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1120680" y="3022560"/>
            <a:ext cx="4633920" cy="774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tretch/>
        </p:blipFill>
        <p:spPr>
          <a:xfrm>
            <a:off x="1079640" y="3782880"/>
            <a:ext cx="2624040" cy="3063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"/>
          <p:cNvSpPr/>
          <p:nvPr/>
        </p:nvSpPr>
        <p:spPr>
          <a:xfrm>
            <a:off x="3608640" y="375120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алькуля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079640" y="450072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ольших чисел сложно вычислять по этой формуле. Нужно знать квадраты чисел, близких к данн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8T17:20:22Z</dcterms:created>
  <dc:creator>максим кравченко</dc:creator>
  <dc:description/>
  <dc:language>en-US</dc:language>
  <cp:lastModifiedBy>User</cp:lastModifiedBy>
  <dcterms:modified xsi:type="dcterms:W3CDTF">2016-12-09T20:36:03Z</dcterms:modified>
  <cp:revision>33</cp:revision>
  <dc:subject/>
  <dc:title>Презентация PowerPoint</dc:title>
</cp:coreProperties>
</file>