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37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C15A-3B3C-43DF-B4A5-D36DFD215C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D601-63D3-4F89-9021-E1A259ECBB96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C18-A1C2-46BA-BB54-2B7AECD0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E961-E192-46DC-99FD-1590BA48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763797-F92C-4C9A-8FF0-7913C574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052953-FF2A-4041-B65D-66794566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4B833D-CB71-489C-852D-FD972044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B59ECC-7A93-4B97-9444-EBD5EB88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399B07-D3FC-4D21-B1C1-EB2849F2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2A029D-C510-467A-99AD-B59A6B38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5FAA3D-46E1-4DA6-9898-A728C3C4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0FFCEB-1743-44FE-8286-FC97CC61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569428-4D0F-41A7-AC91-0AC8D806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D368DD-A15B-4028-8D22-4C9A065D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1AC-43AF-4CAC-9537-DE170919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DCEC7C-0CD5-4846-8FC5-64F3527C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E091B5-5ABB-4B20-9DA3-0E727961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4325AD-F195-4619-BAED-2E47EA42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26C0F7-190A-4684-8372-307DEA3A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DAF703-5FBF-40FA-BB9A-317437EC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387223-3B2A-4E90-820A-8D95A786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155A6F-10AE-4D2B-863E-A74627BF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24AC8F-3500-420C-8B2D-AA15442A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4ABC8E-DD11-43FB-B46D-94C00B94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EB3D15-404B-44EB-93DB-0CC5EAD3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9DBA-FF1D-41E0-B10B-61F00F9D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C54333-E483-4474-9132-08B14F12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5D656C-57E0-40C7-B7EC-5E758F41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06E8FE-3E3B-4E97-AFE5-163D4198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5E3DC3-B5D5-48DB-93E5-5A155E36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957139-D628-4EDC-AE00-1B450607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4C7F72-12D5-4C6D-90E0-D80AD098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62FEEE-8A14-4990-A302-522CB0A5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95FC8D-AE40-4698-A8F5-36956A7B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84A2C4-2F31-4C8D-B0E7-F3BF3BD1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269877-C3F5-4173-A6CC-ACD20E14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C1B5E-729D-4B82-843D-F7F8D97B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CD3135-87B5-443C-A853-D45F53E9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0EE983-A71A-4C6B-A1F5-BCF94C2B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870A2C-E293-47B9-A51D-663069D8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6B21B2-70E5-4D60-AD6D-0830831F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98D378-F2C7-4084-B1D1-DA69A202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E897EA-2B82-478A-846E-BE2E43D6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4D088D-5C30-451F-81D5-FC4EC437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6DD463-5856-4AD5-9115-C9E5DA83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1F63DF-7E32-4365-A96D-C9970E58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7F26CD-3D1C-4FEB-ADEF-1ECB2180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C8F85-53F2-4251-A0B5-F8226F67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1A7D6B-BDC4-48A4-8C58-9A02AC55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4871CF-DC41-49D3-B0BB-932E85FA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1C405E-C9C3-458C-8306-C3BEB77B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790453-4E55-4FC8-AE18-FFF45A2F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7FB551-BBFA-4D56-933F-B6898E1A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43EE42-714C-40D3-8B3F-83AE0E38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FE3635-DC18-43B2-8D99-95165EF7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8766D5-A0CD-4189-9372-3E7F01FF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179F57-9E1C-4102-B4C0-92A437AB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292805-9B68-464D-B642-3089DE15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47C8F-46CD-4F43-AD44-E3023826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2414B5-8C01-4827-B265-B346B270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294A1E-4B77-4165-A443-88FF8AAF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F946C1-2CC0-48FD-B586-32C95210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D66D1A-B111-48D2-82D8-C78F48A3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1A19D8-4863-461B-AFBD-08206ED9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1C4720-79FE-45A2-BB8C-409957D2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891190-73A8-4BF4-A64C-88B9F3EA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747BB9-61D3-4B3C-8BF2-A3526468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F7FAEE-1E96-4EE9-BB88-6642E216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2AA29D-16A0-44CC-B5CF-22553994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EF4AF-F6E5-4258-BAD2-D4025D4A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C5B456-9F8E-4763-B2E7-10F781FE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77CEDD-FB98-4329-9AF3-A8ED75FC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0408C3-0A0D-4F51-812E-EE7A01B6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B3BBB3-E0C2-414A-93FA-0C2A2967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88A8EA-693C-448D-9F9E-6C3993DD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C8A761A-5F7D-4FE1-A532-E4A7A050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977E3A-0717-4D25-97ED-5B117433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870AEFE-69E6-4814-A36F-1CEFF85D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A608BA-DFD7-443A-88F6-A42D1DA2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BFCAA-6BF4-4297-A3BE-902D42E8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DF951-1AEF-4862-8CF2-8C5D9F6E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96BCA-EF99-4BAC-817D-97CF9C2A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6A2-232C-4BBB-BDDB-DF1FBC8A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6A95D-13AE-45A4-8AC4-43DB671B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73589-57C0-47BC-8347-13513D9C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220A5-C67F-48A8-9C72-FD14F1AC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A670D-A0AC-42C4-B62B-15832E2A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693CA-9BAD-4EDA-B8C8-07051D22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110E9-5636-4931-8C3F-5ABBAE9A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3C3EF-42BA-41D7-861B-3139566F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256DA-F865-4D70-8D6A-982813B4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467E2-D45C-4D34-B331-F2DDC2A3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3051E-9D5C-4DE2-8D44-53E986E3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A34-3586-4C2D-923E-D4A3FCC1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0D57E-006C-449D-8551-D597F078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D5272-DE5B-40ED-B0D3-3379A005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51A52-2E9D-4668-9A78-70C9902E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8A5C3-7EE6-4D78-9CBD-3B29E3EF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AA687-C88F-4A51-B295-0BF0A66F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12B68-1893-4102-910A-9A3ADB9A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29943-4A69-42D6-8A24-48381BA1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243F7-D509-4B9F-AA25-32C24D52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11183-44CE-4C9D-8575-073C0668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E2BC0-A62C-4543-A897-66932469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9D2-8DEF-4679-9CBD-08F76AC3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4CDC7-743D-4BB3-A4F1-E34A0060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B98B1-CE7F-443E-B717-3379AFC9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5AADA-DC5E-4493-A3C6-84A5F8A9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A94A0-7167-4138-B5B4-FC5B4ED8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833CD-4295-4096-97CC-917638AF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8DFBF-3989-45D9-A4EF-F59CBBAA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EB247-8354-435C-A0F9-466DC75F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827E4-B5B3-4DA0-8C7A-9983A13F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131BE-44FC-4680-9F78-BDCADDD6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FDDAB4-0166-4982-9BAE-DB2C000F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59A-2643-4699-BF1D-0E311D9E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3675A-829C-4FEB-8B19-22EF1BC2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D81AD-9CF2-4BC5-A950-ADA95FDC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8A062E-36AA-45AF-B229-53EFFD19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5E09B8-C325-4441-9F67-3EE6E3BF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8C509-3389-4B72-82FE-85E66D4C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A39C7-311A-48B2-87CC-1C55B63B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842E45-8349-4715-8941-9902672F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5D92F-F6C2-4256-8D05-985B1059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3E4211-5ADF-4DAE-B877-27E9A266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CD394-C414-47A0-A88C-8C030756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1BEA-7BF8-4DCE-A2F1-2AB5D343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5265B-BD29-4C2A-8C66-53D1D1D5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B6DB3A-F908-436A-A691-4E6D54A2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A61EEB-5EF2-4611-8B41-A9C3F515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2086C6-773C-4CD9-A5E1-DD1239A7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36ABB9-35C8-4476-8A70-75DCBDFE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6F85A7-478E-4EE9-970C-D7B014E8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E2AB54-01FC-4803-A2CD-B3CE7AA1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5EB8D9-0815-4186-BD5A-5E3DECD4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0ABCCD-E04E-42DE-A9A1-842D199E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61A2DB-D60D-465A-9AA0-80A69D54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CDD-78F2-4DBB-A9B3-6C2626C3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40E56D-CD40-4774-B17F-D7C182FB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2909DC-D247-41BE-BE19-CA0B8F14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11984-EF41-45A1-A62C-BDFD224E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55008E-0D3E-42D0-8C71-D418B7E4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0F4190-4156-495E-82D1-B9EC3DD2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04AEDE-5313-4AE6-B443-997BA95A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869EB5-1EEA-42AC-8AE4-7119E316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415524-AAC7-45EE-919A-E44618FC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D9E938-C1D3-4D2C-B557-85E8CAB1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8E1D80-FF5E-46C2-9F55-D9F36E6B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F1B-E72A-4F5B-9007-C5312BDE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405889-27CE-44C8-867A-5F44C6B3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A9F3E4-6499-4FD0-ABB2-4337A9F4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635211-49CD-4408-AB22-2202D8DB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337483-B3E6-4200-8241-DCAA5E87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8066C4-ACEA-47A5-99DC-1526E07B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19AC2D-C816-49D7-ABB0-596BF2AA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300CE2-EB4E-4EDB-9A7B-E17AE1DB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B12F79-E331-4D45-8EC4-BE68743F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A7B7F5-9862-4949-A6BB-BA529AB4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DA9345-44BA-4993-B072-31D79F43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E76-F82A-47E7-8AEE-07D4151A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6818D6-4F40-4A75-91EF-A62493C4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BAC288-C4DD-422D-A102-470A800E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453784-6AD2-439C-ADC5-9B8D8004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640157-4C4C-40BC-8167-185EB236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D8B7AA-D118-4672-ABE6-7AEDA14E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91C38D-F7D2-4B5F-9D08-750FB881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930749-2B55-4B67-A748-E70ADAF7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E9D70E-32CC-4C19-B0F3-87658442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3B3A8A-BFFD-434E-BA23-4E977C16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944B61-EB10-440B-AE78-25B8FECC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8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0F70-AE10-49E5-89C4-0895E51E2239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0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0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0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0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0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0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70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C5C2-03DA-43A7-A43E-64D045AE91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7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7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6759-EBF6-4ED4-91F6-D6EB095DFF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0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0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0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0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0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0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80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80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8A7C-CF7A-4D60-9692-BDCD1E4700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8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0E39-DD1D-4712-8601-11F2EFC597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0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0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0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0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0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0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0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0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83B4-47D2-474D-A0C3-81B4EF815E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ftr" idx="4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2917-7FE5-4FC4-AC73-1467CB3270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8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8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8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8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8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2010960" y="245160"/>
            <a:ext cx="6896160" cy="5452200"/>
            <a:chOff x="2010960" y="245160"/>
            <a:chExt cx="6896160" cy="5452200"/>
          </a:xfrm>
        </p:grpSpPr>
        <p:grpSp>
          <p:nvGrpSpPr>
            <p:cNvPr id="22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2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2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Group 6"/>
            <p:cNvGrpSpPr/>
            <p:nvPr/>
          </p:nvGrpSpPr>
          <p:grpSpPr>
            <a:xfrm>
              <a:off x="2010960" y="245160"/>
              <a:ext cx="6896160" cy="5452200"/>
              <a:chOff x="2010960" y="245160"/>
              <a:chExt cx="6896160" cy="5452200"/>
            </a:xfrm>
          </p:grpSpPr>
          <p:grpSp>
            <p:nvGrpSpPr>
              <p:cNvPr id="23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232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233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Oval 10"/>
                  <p:cNvSpPr/>
                  <p:nvPr/>
                </p:nvSpPr>
                <p:spPr>
                  <a:xfrm>
                    <a:off x="5109480" y="22363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236" name="Group 12"/>
                  <p:cNvGrpSpPr/>
                  <p:nvPr/>
                </p:nvGrpSpPr>
                <p:grpSpPr>
                  <a:xfrm>
                    <a:off x="5760720" y="2323440"/>
                    <a:ext cx="2559240" cy="2740320"/>
                    <a:chOff x="5760720" y="2323440"/>
                    <a:chExt cx="2559240" cy="2740320"/>
                  </a:xfrm>
                </p:grpSpPr>
                <p:sp>
                  <p:nvSpPr>
                    <p:cNvPr id="237" name="Freeform 13"/>
                    <p:cNvSpPr/>
                    <p:nvPr/>
                  </p:nvSpPr>
                  <p:spPr>
                    <a:xfrm rot="2711400">
                      <a:off x="5583240" y="3020760"/>
                      <a:ext cx="212688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240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2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243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4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249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1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25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25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5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Group 36"/>
                  <p:cNvGrpSpPr/>
                  <p:nvPr/>
                </p:nvGrpSpPr>
                <p:grpSpPr>
                  <a:xfrm>
                    <a:off x="2085120" y="2367000"/>
                    <a:ext cx="3040200" cy="2530080"/>
                    <a:chOff x="2085120" y="2367000"/>
                    <a:chExt cx="3040200" cy="2530080"/>
                  </a:xfrm>
                </p:grpSpPr>
                <p:sp>
                  <p:nvSpPr>
                    <p:cNvPr id="26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524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Freeform 38"/>
                    <p:cNvSpPr/>
                    <p:nvPr/>
                  </p:nvSpPr>
                  <p:spPr>
                    <a:xfrm flipH="1" rot="19496400">
                      <a:off x="2169360" y="3940920"/>
                      <a:ext cx="120024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26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267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Group 45"/>
                  <p:cNvGrpSpPr/>
                  <p:nvPr/>
                </p:nvGrpSpPr>
                <p:grpSpPr>
                  <a:xfrm>
                    <a:off x="2167920" y="2098080"/>
                    <a:ext cx="2938320" cy="1000800"/>
                    <a:chOff x="2167920" y="2098080"/>
                    <a:chExt cx="2938320" cy="1000800"/>
                  </a:xfrm>
                </p:grpSpPr>
                <p:sp>
                  <p:nvSpPr>
                    <p:cNvPr id="27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4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Freeform 47"/>
                    <p:cNvSpPr/>
                    <p:nvPr/>
                  </p:nvSpPr>
                  <p:spPr>
                    <a:xfrm flipH="1" rot="21136800">
                      <a:off x="2203560" y="2429640"/>
                      <a:ext cx="10234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27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Group 51"/>
                  <p:cNvGrpSpPr/>
                  <p:nvPr/>
                </p:nvGrpSpPr>
                <p:grpSpPr>
                  <a:xfrm>
                    <a:off x="2760480" y="1522440"/>
                    <a:ext cx="2364120" cy="787320"/>
                    <a:chOff x="2760480" y="1522440"/>
                    <a:chExt cx="2364120" cy="787320"/>
                  </a:xfrm>
                </p:grpSpPr>
                <p:sp>
                  <p:nvSpPr>
                    <p:cNvPr id="27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279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28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8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7" name="Group 63"/>
                  <p:cNvGrpSpPr/>
                  <p:nvPr/>
                </p:nvGrpSpPr>
                <p:grpSpPr>
                  <a:xfrm>
                    <a:off x="4026960" y="334440"/>
                    <a:ext cx="1461240" cy="1887840"/>
                    <a:chOff x="4026960" y="334440"/>
                    <a:chExt cx="1461240" cy="1887840"/>
                  </a:xfrm>
                </p:grpSpPr>
                <p:sp>
                  <p:nvSpPr>
                    <p:cNvPr id="288" name="Freeform 64"/>
                    <p:cNvSpPr/>
                    <p:nvPr/>
                  </p:nvSpPr>
                  <p:spPr>
                    <a:xfrm flipH="1" rot="3474000">
                      <a:off x="4336920" y="144468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Freeform 65"/>
                    <p:cNvSpPr/>
                    <p:nvPr/>
                  </p:nvSpPr>
                  <p:spPr>
                    <a:xfrm flipH="1" rot="3474000">
                      <a:off x="4032360" y="545040"/>
                      <a:ext cx="7279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0" name="Group 66"/>
                  <p:cNvGrpSpPr/>
                  <p:nvPr/>
                </p:nvGrpSpPr>
                <p:grpSpPr>
                  <a:xfrm>
                    <a:off x="4448160" y="245160"/>
                    <a:ext cx="1123920" cy="1947600"/>
                    <a:chOff x="4448160" y="245160"/>
                    <a:chExt cx="1123920" cy="1947600"/>
                  </a:xfrm>
                </p:grpSpPr>
                <p:sp>
                  <p:nvSpPr>
                    <p:cNvPr id="291" name="Freeform 67"/>
                    <p:cNvSpPr/>
                    <p:nvPr/>
                  </p:nvSpPr>
                  <p:spPr>
                    <a:xfrm flipH="1" rot="4126800">
                      <a:off x="4557240" y="1401840"/>
                      <a:ext cx="1308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3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29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6" name="Group 72"/>
                  <p:cNvGrpSpPr/>
                  <p:nvPr/>
                </p:nvGrpSpPr>
                <p:grpSpPr>
                  <a:xfrm>
                    <a:off x="5529600" y="626400"/>
                    <a:ext cx="2200320" cy="1451160"/>
                    <a:chOff x="5529600" y="626400"/>
                    <a:chExt cx="2200320" cy="1451160"/>
                  </a:xfrm>
                </p:grpSpPr>
                <p:sp>
                  <p:nvSpPr>
                    <p:cNvPr id="29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Freeform 74"/>
                    <p:cNvSpPr/>
                    <p:nvPr/>
                  </p:nvSpPr>
                  <p:spPr>
                    <a:xfrm rot="19678800">
                      <a:off x="6864480" y="811080"/>
                      <a:ext cx="81684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1" name="Group 77"/>
                  <p:cNvGrpSpPr/>
                  <p:nvPr/>
                </p:nvGrpSpPr>
                <p:grpSpPr>
                  <a:xfrm>
                    <a:off x="5355720" y="270360"/>
                    <a:ext cx="1194840" cy="1901160"/>
                    <a:chOff x="5355720" y="270360"/>
                    <a:chExt cx="1194840" cy="1901160"/>
                  </a:xfrm>
                </p:grpSpPr>
                <p:sp>
                  <p:nvSpPr>
                    <p:cNvPr id="30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Freeform 79"/>
                    <p:cNvSpPr/>
                    <p:nvPr/>
                  </p:nvSpPr>
                  <p:spPr>
                    <a:xfrm rot="17742000">
                      <a:off x="588708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4" name="Group 80"/>
                  <p:cNvGrpSpPr/>
                  <p:nvPr/>
                </p:nvGrpSpPr>
                <p:grpSpPr>
                  <a:xfrm>
                    <a:off x="5349240" y="389520"/>
                    <a:ext cx="1890720" cy="1794960"/>
                    <a:chOff x="5349240" y="389520"/>
                    <a:chExt cx="1890720" cy="1794960"/>
                  </a:xfrm>
                </p:grpSpPr>
                <p:sp>
                  <p:nvSpPr>
                    <p:cNvPr id="305" name="Freeform 81"/>
                    <p:cNvSpPr/>
                    <p:nvPr/>
                  </p:nvSpPr>
                  <p:spPr>
                    <a:xfrm rot="18822600">
                      <a:off x="5249520" y="1387800"/>
                      <a:ext cx="14238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Freeform 82"/>
                    <p:cNvSpPr/>
                    <p:nvPr/>
                  </p:nvSpPr>
                  <p:spPr>
                    <a:xfrm rot="18822600">
                      <a:off x="6404400" y="585360"/>
                      <a:ext cx="76572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7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308" name="Freeform 84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Freeform 85"/>
                    <p:cNvSpPr/>
                    <p:nvPr/>
                  </p:nvSpPr>
                  <p:spPr>
                    <a:xfrm rot="16696200">
                      <a:off x="544104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0" name="Group 86"/>
                  <p:cNvGrpSpPr/>
                  <p:nvPr/>
                </p:nvGrpSpPr>
                <p:grpSpPr>
                  <a:xfrm>
                    <a:off x="3063240" y="2530800"/>
                    <a:ext cx="2194200" cy="3002400"/>
                    <a:chOff x="3063240" y="2530800"/>
                    <a:chExt cx="2194200" cy="3002400"/>
                  </a:xfrm>
                </p:grpSpPr>
                <p:sp>
                  <p:nvSpPr>
                    <p:cNvPr id="31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16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Freeform 88"/>
                    <p:cNvSpPr/>
                    <p:nvPr/>
                  </p:nvSpPr>
                  <p:spPr>
                    <a:xfrm flipH="1" rot="18336000">
                      <a:off x="3070440" y="4591440"/>
                      <a:ext cx="113868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3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314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6" name="Group 92"/>
                  <p:cNvGrpSpPr/>
                  <p:nvPr/>
                </p:nvGrpSpPr>
                <p:grpSpPr>
                  <a:xfrm>
                    <a:off x="4507920" y="2701800"/>
                    <a:ext cx="875880" cy="2927160"/>
                    <a:chOff x="4507920" y="2701800"/>
                    <a:chExt cx="875880" cy="2927160"/>
                  </a:xfrm>
                </p:grpSpPr>
                <p:sp>
                  <p:nvSpPr>
                    <p:cNvPr id="317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712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Freeform 94"/>
                    <p:cNvSpPr/>
                    <p:nvPr/>
                  </p:nvSpPr>
                  <p:spPr>
                    <a:xfrm flipH="1" rot="16870800">
                      <a:off x="4366440" y="48070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9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320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2" name="Group 98"/>
                  <p:cNvGrpSpPr/>
                  <p:nvPr/>
                </p:nvGrpSpPr>
                <p:grpSpPr>
                  <a:xfrm>
                    <a:off x="5648040" y="2594520"/>
                    <a:ext cx="1756800" cy="3030120"/>
                    <a:chOff x="5648040" y="2594520"/>
                    <a:chExt cx="1756800" cy="3030120"/>
                  </a:xfrm>
                </p:grpSpPr>
                <p:sp>
                  <p:nvSpPr>
                    <p:cNvPr id="323" name="Freeform 99"/>
                    <p:cNvSpPr/>
                    <p:nvPr/>
                  </p:nvSpPr>
                  <p:spPr>
                    <a:xfrm rot="3745200">
                      <a:off x="5265720" y="3396240"/>
                      <a:ext cx="203328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Freeform 100"/>
                    <p:cNvSpPr/>
                    <p:nvPr/>
                  </p:nvSpPr>
                  <p:spPr>
                    <a:xfrm rot="3745200">
                      <a:off x="6352560" y="4719960"/>
                      <a:ext cx="108972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5" name="Group 101"/>
                  <p:cNvGrpSpPr/>
                  <p:nvPr/>
                </p:nvGrpSpPr>
                <p:grpSpPr>
                  <a:xfrm>
                    <a:off x="5576400" y="2711880"/>
                    <a:ext cx="1225800" cy="2985480"/>
                    <a:chOff x="5576400" y="2711880"/>
                    <a:chExt cx="1225800" cy="2985480"/>
                  </a:xfrm>
                </p:grpSpPr>
                <p:sp>
                  <p:nvSpPr>
                    <p:cNvPr id="326" name="Freeform 102"/>
                    <p:cNvSpPr/>
                    <p:nvPr/>
                  </p:nvSpPr>
                  <p:spPr>
                    <a:xfrm rot="4286400">
                      <a:off x="5046840" y="3543840"/>
                      <a:ext cx="197280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Freeform 103"/>
                    <p:cNvSpPr/>
                    <p:nvPr/>
                  </p:nvSpPr>
                  <p:spPr>
                    <a:xfrm rot="4286400">
                      <a:off x="5879160" y="4881960"/>
                      <a:ext cx="105912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8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329" name="Freeform 105"/>
                    <p:cNvSpPr/>
                    <p:nvPr/>
                  </p:nvSpPr>
                  <p:spPr>
                    <a:xfrm rot="4898400">
                      <a:off x="4896360" y="360684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Freeform 106"/>
                    <p:cNvSpPr/>
                    <p:nvPr/>
                  </p:nvSpPr>
                  <p:spPr>
                    <a:xfrm rot="4898400">
                      <a:off x="5425200" y="4865040"/>
                      <a:ext cx="97380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1" name="Group 107"/>
                  <p:cNvGrpSpPr/>
                  <p:nvPr/>
                </p:nvGrpSpPr>
                <p:grpSpPr>
                  <a:xfrm>
                    <a:off x="4961160" y="2887560"/>
                    <a:ext cx="664920" cy="2717640"/>
                    <a:chOff x="4961160" y="2887560"/>
                    <a:chExt cx="664920" cy="2717640"/>
                  </a:xfrm>
                </p:grpSpPr>
                <p:sp>
                  <p:nvSpPr>
                    <p:cNvPr id="332" name="Freeform 108"/>
                    <p:cNvSpPr/>
                    <p:nvPr/>
                  </p:nvSpPr>
                  <p:spPr>
                    <a:xfrm rot="5755200">
                      <a:off x="4533480" y="3664800"/>
                      <a:ext cx="177192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Freeform 109"/>
                    <p:cNvSpPr/>
                    <p:nvPr/>
                  </p:nvSpPr>
                  <p:spPr>
                    <a:xfrm rot="5755200">
                      <a:off x="4714920" y="4932000"/>
                      <a:ext cx="950760" cy="36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34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335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336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4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345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6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7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8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9" name="Arc 125"/>
              <p:cNvSpPr/>
              <p:nvPr/>
            </p:nvSpPr>
            <p:spPr>
              <a:xfrm>
                <a:off x="5588640" y="215532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0" name="Arc 126"/>
              <p:cNvSpPr/>
              <p:nvPr/>
            </p:nvSpPr>
            <p:spPr>
              <a:xfrm>
                <a:off x="5711760" y="214164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1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2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3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4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5" name="Freeform 131"/>
              <p:cNvSpPr/>
              <p:nvPr/>
            </p:nvSpPr>
            <p:spPr>
              <a:xfrm>
                <a:off x="7513920" y="3112560"/>
                <a:ext cx="1242000" cy="1972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6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7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8" name="Freeform 134"/>
              <p:cNvSpPr/>
              <p:nvPr/>
            </p:nvSpPr>
            <p:spPr>
              <a:xfrm flipH="1" rot="1347000">
                <a:off x="4183920" y="2158920"/>
                <a:ext cx="5428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603E-D3DB-4FB3-B96D-C30D3CC29D3F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0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0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0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0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0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0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0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7FA6-0A01-4E71-995B-72AAAFD7D4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CD6C-221C-4EF7-8153-F627E394B9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0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0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0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0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0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0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9523-2F34-43E9-AF1F-D58E2BD95D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8A09-4959-4E08-889A-C42C8AA664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0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0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0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0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0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0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60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9E5D-6C0D-434E-AFBA-FAB823AF6E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6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8C8B-23AA-4AFB-9D0C-D60236157D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0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0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 Box 2"/>
          <p:cNvSpPr/>
          <p:nvPr/>
        </p:nvSpPr>
        <p:spPr>
          <a:xfrm>
            <a:off x="0" y="1687680"/>
            <a:ext cx="8388360" cy="50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Животные в годы Великой отечественной войны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Баснина Софья ДКГ-102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F2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Text Box 4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Еще в глубокой древности люди начали использовать собак на военной службе. Этому способствовало то, что собаки обладают хорошим зрением, прекрасным слухом и обонянием,</a:t>
            </a: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выносливостью…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3" name="Text Box 7"/>
          <p:cNvSpPr/>
          <p:nvPr/>
        </p:nvSpPr>
        <p:spPr>
          <a:xfrm>
            <a:off x="3179880" y="1758960"/>
            <a:ext cx="59641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Огромные боевые псы защищали колесницы древних полководцев, караулили военнопленных. Одетые в ратные доспехи псы защищали пограничные посты римлян, участвовали в сражениях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4" name="Text Box 9"/>
          <p:cNvSpPr/>
          <p:nvPr/>
        </p:nvSpPr>
        <p:spPr>
          <a:xfrm>
            <a:off x="0" y="506556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Во время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мировой войны собаки служили как связисты, почтальоны, санитары, ищейки, подносчики патронов, сторожа, помогавшие охранять прифронтовую полосу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85" name="1946.mid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1" descr="Рисунок9"/>
          <p:cNvPicPr/>
          <p:nvPr/>
        </p:nvPicPr>
        <p:blipFill>
          <a:blip r:embed="rId2"/>
          <a:stretch/>
        </p:blipFill>
        <p:spPr>
          <a:xfrm>
            <a:off x="279360" y="2023920"/>
            <a:ext cx="2706840" cy="27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4.0)">
                                      <p:cBhvr>
                                        <p:cTn id="161" dur="1" fill="hold"/>
                                        <p:tgtEl>
                                          <p:spTgt spid="9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 Box 4"/>
          <p:cNvSpPr/>
          <p:nvPr/>
        </p:nvSpPr>
        <p:spPr>
          <a:xfrm>
            <a:off x="0" y="585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Rounded MT Bold"/>
              </a:rPr>
              <a:t>В августе 1924 года в России была создана Центральная школа военного собаководства. Во время Великой Отечественной войны она стала основной базой по подготовке спецподразделений для боевых действий с применением служебных собак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88" name="Picture 8" descr="Рисунок1с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61800" y="3216240"/>
            <a:ext cx="4946760" cy="33210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9" descr="Рисунок1к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6291360" y="2622600"/>
            <a:ext cx="2852640" cy="42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Text Box 4"/>
          <p:cNvSpPr/>
          <p:nvPr/>
        </p:nvSpPr>
        <p:spPr>
          <a:xfrm>
            <a:off x="0" y="27241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cc00"/>
                </a:solidFill>
                <a:latin typeface="Arial Rounded MT Bold"/>
              </a:rPr>
              <a:t>Во время Великой отечественной войны в прифронтовой полосе особой любовью пользовались собаки-санитары, отыскивающие раненых, приносившие им воду, перевязочные материалы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1" name="Text Box 6"/>
          <p:cNvSpPr/>
          <p:nvPr/>
        </p:nvSpPr>
        <p:spPr>
          <a:xfrm>
            <a:off x="0" y="1557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2" name="Text Box 8"/>
          <p:cNvSpPr/>
          <p:nvPr/>
        </p:nvSpPr>
        <p:spPr>
          <a:xfrm>
            <a:off x="0" y="4575240"/>
            <a:ext cx="598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93" name="Picture 11" descr="Рисунок1й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4397400" cy="272736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2" descr="Рисунок1ц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635360" y="4076640"/>
            <a:ext cx="450864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2" dur="1000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Text Box 6"/>
          <p:cNvSpPr/>
          <p:nvPr/>
        </p:nvSpPr>
        <p:spPr>
          <a:xfrm>
            <a:off x="0" y="2984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Rounded MT Bold"/>
              </a:rPr>
              <a:t>Ездовые собаки сыграли неоценимую роль в освоении Крайнего Севера. Запряженные в легкие сани – нарты, они перевозят грузы, людей, почту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6" name="Text Box 8"/>
          <p:cNvSpPr/>
          <p:nvPr/>
        </p:nvSpPr>
        <p:spPr>
          <a:xfrm>
            <a:off x="0" y="1809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Во время войны на собачьих упряжках вывозили с поля боя раненых, под огнем врага доставляли на передний край боеприпасы и продукты, привозили даже легкие орудия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97" name="Picture 12" descr="Рисунок1у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3643200" y="3352680"/>
            <a:ext cx="5500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2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22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0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Text Box 5"/>
          <p:cNvSpPr/>
          <p:nvPr/>
        </p:nvSpPr>
        <p:spPr>
          <a:xfrm>
            <a:off x="0" y="74772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К концу войны насчитывалось немало упряжек, которые перевезли по 800-900 раненых, доставили на передовую по 20-30 тонн груза – боеприпасов, продуктов питания, медикаментов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9" name="Text Box 6"/>
          <p:cNvSpPr/>
          <p:nvPr/>
        </p:nvSpPr>
        <p:spPr>
          <a:xfrm>
            <a:off x="4522680" y="3165480"/>
            <a:ext cx="437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Всего же ездовые собаки вывезли с поля боя 680 000 раненых солдат и офицеров, доставили на линию фронта 5862 тонны боеприпасов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00" name="Picture 8" descr="Рисунок1иииолоьлю"/>
          <p:cNvPicPr/>
          <p:nvPr/>
        </p:nvPicPr>
        <p:blipFill>
          <a:blip r:embed="rId1"/>
          <a:stretch/>
        </p:blipFill>
        <p:spPr>
          <a:xfrm>
            <a:off x="0" y="3057480"/>
            <a:ext cx="4267080" cy="31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225"/>
                            </p:stCondLst>
                            <p:childTnLst>
                              <p:par>
                                <p:cTn id="2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4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4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4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4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Picture 6" descr="Рисунок134545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2" name="Text Box 4"/>
          <p:cNvSpPr/>
          <p:nvPr/>
        </p:nvSpPr>
        <p:spPr>
          <a:xfrm>
            <a:off x="22320" y="0"/>
            <a:ext cx="9121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 Rounded MT Bold"/>
              </a:rPr>
              <a:t>Участок фронта, подвергнутый артиллерийскому и пулеметному обстрелу превращается в ад. Под ливнем огня рвутся провода, посланный с донесением боец будет убит, в лучшем случае ранен, не достигнув цели…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2" dur="3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7"/>
          <p:cNvSpPr/>
          <p:nvPr/>
        </p:nvSpPr>
        <p:spPr>
          <a:xfrm>
            <a:off x="0" y="45655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Rounded MT Bold"/>
              </a:rPr>
              <a:t>Более 200 000 важных боевых донесений доставили собаки за неполных 4 военных года. Они протянули около 8000 км кабеля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4" name="Text Box 8"/>
          <p:cNvSpPr/>
          <p:nvPr/>
        </p:nvSpPr>
        <p:spPr>
          <a:xfrm>
            <a:off x="0" y="1400040"/>
            <a:ext cx="4495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В 1944 г. при ликвидации Никопольского плацдарма пес по кличке Джек доставил 2982 боевых донесения. Причем, он поддерживал связь между частями переплывая через Днепр!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5" name="Text Box 9"/>
          <p:cNvSpPr/>
          <p:nvPr/>
        </p:nvSpPr>
        <p:spPr>
          <a:xfrm>
            <a:off x="22320" y="0"/>
            <a:ext cx="912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06" name="Picture 10" descr="Рисунок154"/>
          <p:cNvPicPr/>
          <p:nvPr/>
        </p:nvPicPr>
        <p:blipFill>
          <a:blip r:embed="rId1"/>
          <a:stretch/>
        </p:blipFill>
        <p:spPr>
          <a:xfrm>
            <a:off x="4568760" y="876240"/>
            <a:ext cx="4327560" cy="30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 Box 3"/>
          <p:cNvSpPr/>
          <p:nvPr/>
        </p:nvSpPr>
        <p:spPr>
          <a:xfrm>
            <a:off x="0" y="4158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Rounded MT Bold"/>
              </a:rPr>
              <a:t>Во время Великой Отечественной войны родилась новая специальность собаки: борьба с вражескими танками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8" name="Text Box 5"/>
          <p:cNvSpPr/>
          <p:nvPr/>
        </p:nvSpPr>
        <p:spPr>
          <a:xfrm>
            <a:off x="0" y="31845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Вожатый выпускал собак из окопа прямо на танк. С привязанным к телу смертоносным зарядом, они бросались на движущуюся крепость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Сотни вражеских машин подорвали бесстрашные животные. Были случаи, когда, увидев выпущенных четвероногих подрывников, гитлеровцы поспешно отступали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0" y="5656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Собаки-подрывники уничтожили более 300 вражеских танков – примерно две дивизии!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10" name="1946.mid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8" descr="2"/>
          <p:cNvPicPr/>
          <p:nvPr/>
        </p:nvPicPr>
        <p:blipFill>
          <a:blip r:embed="rId2"/>
          <a:stretch/>
        </p:blipFill>
        <p:spPr>
          <a:xfrm>
            <a:off x="5099040" y="0"/>
            <a:ext cx="4044960" cy="281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.0)">
                                      <p:cBhvr>
                                        <p:cTn id="284" dur="1" fill="hold"/>
                                        <p:tgtEl>
                                          <p:spTgt spid="10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0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8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8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1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5"/>
          <p:cNvSpPr/>
          <p:nvPr/>
        </p:nvSpPr>
        <p:spPr>
          <a:xfrm>
            <a:off x="0" y="19224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Arial Rounded MT Bold"/>
              </a:rPr>
              <a:t>Еще одна военная специальность собаки – служба миноискания. Для этого использовались собаки с острым чутьем служебных и охотничьих пород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Четвероногие саперы по запаху находили зарытый «сюрприз» и садились рядом, а человек осторожно извлекал и обезвреживал смертоносную находку. Более 4 000 000 мин было обнаружено собаками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3" name="Text Box 6"/>
          <p:cNvSpPr/>
          <p:nvPr/>
        </p:nvSpPr>
        <p:spPr>
          <a:xfrm>
            <a:off x="0" y="3432240"/>
            <a:ext cx="54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14" name="Picture 8" descr="Рисунокк"/>
          <p:cNvPicPr/>
          <p:nvPr/>
        </p:nvPicPr>
        <p:blipFill>
          <a:blip r:embed="rId1"/>
          <a:stretch/>
        </p:blipFill>
        <p:spPr>
          <a:xfrm>
            <a:off x="4511520" y="2975040"/>
            <a:ext cx="4632480" cy="38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20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8" dur="2000"/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 Box 2"/>
          <p:cNvSpPr/>
          <p:nvPr/>
        </p:nvSpPr>
        <p:spPr>
          <a:xfrm>
            <a:off x="0" y="292248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Тяжелейшим испытанием легла Великая Отечественная война на наш народ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Но не только оружием завоевывали победу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Через всю войну рядом с людьми в боевом строю шли животные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Собаки, лошади, птицы…. Они были невольными участниками боевых действий. Они помогали побеждать…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9" name="Text Box 3"/>
          <p:cNvSpPr/>
          <p:nvPr/>
        </p:nvSpPr>
        <p:spPr>
          <a:xfrm>
            <a:off x="562680" y="423720"/>
            <a:ext cx="604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8b17"/>
                </a:solidFill>
                <a:latin typeface="Times New Roman"/>
              </a:rPr>
              <a:t>Четыре года…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8b17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8b17"/>
                </a:solidFill>
                <a:latin typeface="Times New Roman"/>
              </a:rPr>
              <a:t>1418 дней…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8b17"/>
                </a:solidFill>
                <a:latin typeface="Times New Roman"/>
              </a:rPr>
              <a:t>Более 27 млн.  человеческих жизней…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Text Box 5"/>
          <p:cNvSpPr/>
          <p:nvPr/>
        </p:nvSpPr>
        <p:spPr>
          <a:xfrm>
            <a:off x="0" y="5545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Comic Sans MS"/>
              </a:rPr>
              <a:t>Впервые собаки идут рядом с человеком и на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Comic Sans MS"/>
              </a:rPr>
              <a:t>Параде Победы…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6" name="Rectangle 6"/>
          <p:cNvSpPr/>
          <p:nvPr/>
        </p:nvSpPr>
        <p:spPr>
          <a:xfrm>
            <a:off x="0" y="3556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Rounded MT Bold"/>
              </a:rPr>
              <a:t>70 000 собак в годы Великой отечественной войны прошли славный боевой путь с нашими бойцами от Москвы до Берлина…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17" name="Picture 7" descr="Рисунокн"/>
          <p:cNvPicPr/>
          <p:nvPr/>
        </p:nvPicPr>
        <p:blipFill>
          <a:blip r:embed="rId1"/>
          <a:stretch/>
        </p:blipFill>
        <p:spPr>
          <a:xfrm>
            <a:off x="2104920" y="2011320"/>
            <a:ext cx="5394600" cy="33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Picture 7" descr="Рисунок1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19" name="Text Box 3"/>
          <p:cNvSpPr/>
          <p:nvPr/>
        </p:nvSpPr>
        <p:spPr>
          <a:xfrm>
            <a:off x="635040" y="572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0" name="Text Box 4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Rounded MT Bold"/>
              </a:rPr>
              <a:t>Немало четвероногих ветеранов после войны вернулось домой. а на погибших псов, так же, как и на всех солдат, бывшим хозяевам приходили похоронки…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1" name="Text Box 5"/>
          <p:cNvSpPr/>
          <p:nvPr/>
        </p:nvSpPr>
        <p:spPr>
          <a:xfrm>
            <a:off x="0" y="16527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Несли лихих всадников и тянули обозы безотказные лошади. Никто не знает, сколько их простужалось, уставало, голодало, вместе с людьми терпело страх и боль…и выполнило свой долг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22" name="1954.mid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7.0)">
                                      <p:cBhvr>
                                        <p:cTn id="357" dur="1" fill="hold"/>
                                        <p:tgtEl>
                                          <p:spTgt spid="10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1" dur="3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4" dur="3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Text Box 4"/>
          <p:cNvSpPr/>
          <p:nvPr/>
        </p:nvSpPr>
        <p:spPr>
          <a:xfrm>
            <a:off x="0" y="498600"/>
            <a:ext cx="467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Comic Sans MS"/>
              </a:rPr>
              <a:t>Но не только благодаря собакам и лошадям победил наш народ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24" name="Picture 6" descr="Рисунок133"/>
          <p:cNvPicPr/>
          <p:nvPr/>
        </p:nvPicPr>
        <p:blipFill>
          <a:blip r:embed="rId1"/>
          <a:stretch/>
        </p:blipFill>
        <p:spPr>
          <a:xfrm>
            <a:off x="0" y="3936960"/>
            <a:ext cx="4462560" cy="29210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7" descr="Рисунок134"/>
          <p:cNvPicPr/>
          <p:nvPr/>
        </p:nvPicPr>
        <p:blipFill>
          <a:blip r:embed="rId2"/>
          <a:stretch/>
        </p:blipFill>
        <p:spPr>
          <a:xfrm>
            <a:off x="5232240" y="3754440"/>
            <a:ext cx="3911760" cy="31035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8" descr="Рисунок135"/>
          <p:cNvPicPr/>
          <p:nvPr/>
        </p:nvPicPr>
        <p:blipFill>
          <a:blip r:embed="rId3"/>
          <a:stretch/>
        </p:blipFill>
        <p:spPr>
          <a:xfrm>
            <a:off x="4924440" y="0"/>
            <a:ext cx="4219560" cy="29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8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7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0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3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6" descr="Рисунок1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28" name="Text Box 3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Не только на фронте помогали человеку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«меньшие братья»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И в тылу, и на оккупированных территориях животные и человек вместе переносили тяготы и лишения суровой поры…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29" name="822.mid" descr=""/>
          <p:cNvPicPr/>
          <p:nvPr/>
        </p:nvPicPr>
        <p:blipFill>
          <a:blip r:embed="rId2"/>
          <a:stretch/>
        </p:blipFill>
        <p:spPr>
          <a:xfrm>
            <a:off x="266760" y="619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4.0)">
                                      <p:cBhvr>
                                        <p:cTn id="392" dur="1" fill="hold"/>
                                        <p:tgtEl>
                                          <p:spTgt spid="10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4" descr="Рисунок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1" name="Text Box 3"/>
          <p:cNvSpPr/>
          <p:nvPr/>
        </p:nvSpPr>
        <p:spPr>
          <a:xfrm>
            <a:off x="-19080" y="0"/>
            <a:ext cx="91630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У капитана Сибирина был обычай: вручать жене подарок, возвращаясь из рейса. Однажды таким подарком стал щенок сенбернара Руслан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Вскоре капитан ушел в рейс и больше не вернулся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Из щенка вырос прекрасный умный пес. В войну, как и все, голодали вдова капитана и ее верный друг. В один из дней Руслан с утра исчез…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2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6" descr="Рисунок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3" name="Rectangle 4"/>
          <p:cNvSpPr/>
          <p:nvPr/>
        </p:nvSpPr>
        <p:spPr>
          <a:xfrm>
            <a:off x="0" y="3348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У одного из причалов в порту моряки грузили баржу. Несколько человек сортировали тюки, а остальные таскали их в трюм. Руслан напряженно наблюдал за работой. Но вот один сортировщик отбросил связку дальше, чем следовало. Руслан схватил ее и понес. Сбросив ношу в трюм он отправился за следующей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7" descr="Рисунок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5" name="Rectangle 4"/>
          <p:cNvSpPr/>
          <p:nvPr/>
        </p:nvSpPr>
        <p:spPr>
          <a:xfrm>
            <a:off x="0" y="408636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Вечером на причал въехала кухня, запахло борщом. Моряки выстроились в очередь. В конце ее стал Руслан.  Повар налил суп в свой котелок и протянул собаке. Но вместо того, чтобы наброситься на еду, пес осторожно взял котелок за дужку и понес. За ним отправились два матроса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6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Text Box 4"/>
          <p:cNvSpPr/>
          <p:nvPr/>
        </p:nvSpPr>
        <p:spPr>
          <a:xfrm>
            <a:off x="0" y="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Вернувшись домой, Руслан поставил котелок к ногам хозяйки. Следом вошли моряки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Неизвестно о чем говорила с ними вдова, о чем говорили они с командиром корабля. Но на следующий день Руслан раньше команды явился на причал, так же трудился, вызывая изумление и восхищение окружающих. А вечером, после рабочего дня, один из матросов нес за псом два котелка: один с большой костью, а другой - прикрытый бумагой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Так Руслан Сибирин, как значилось в ведомости, был принят на довольствие одного из военных кораблей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37" name="Picture 7" descr="Рисунок25"/>
          <p:cNvPicPr/>
          <p:nvPr/>
        </p:nvPicPr>
        <p:blipFill>
          <a:blip r:embed="rId1"/>
          <a:stretch/>
        </p:blipFill>
        <p:spPr>
          <a:xfrm>
            <a:off x="1433520" y="3751200"/>
            <a:ext cx="6353280" cy="27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Text Box 4"/>
          <p:cNvSpPr/>
          <p:nvPr/>
        </p:nvSpPr>
        <p:spPr>
          <a:xfrm>
            <a:off x="4842000" y="295200"/>
            <a:ext cx="430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 Rounded MT Bold"/>
              </a:rPr>
              <a:t>В Ростове-на-Дону есть памятник, на котором увековечен в бронзе голубь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 Rounded MT Bold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39" name="Picture 7" descr="Рисунок26"/>
          <p:cNvPicPr/>
          <p:nvPr/>
        </p:nvPicPr>
        <p:blipFill>
          <a:blip r:embed="rId1"/>
          <a:stretch/>
        </p:blipFill>
        <p:spPr>
          <a:xfrm>
            <a:off x="0" y="0"/>
            <a:ext cx="40435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Text Box 4"/>
          <p:cNvSpPr/>
          <p:nvPr/>
        </p:nvSpPr>
        <p:spPr>
          <a:xfrm>
            <a:off x="0" y="874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21 ноября 1941 г. гитлеровцы захватили город и один из приказов оккупантов был об уничтожении голубей. Они хотели не допустить передачи сведений нашим войскам за Дон.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1" name="Text Box 6"/>
          <p:cNvSpPr/>
          <p:nvPr/>
        </p:nvSpPr>
        <p:spPr>
          <a:xfrm>
            <a:off x="0" y="2416320"/>
            <a:ext cx="607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Только голуби Вити Черевичкина, не подчинившегося приказу, носили разведывательные данные через Дон в Батайск. Выслеженный фашистами Витя был убит с голубем на руках. Ему было 14 лет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42" name="Picture 7" descr="Рисунок27"/>
          <p:cNvPicPr/>
          <p:nvPr/>
        </p:nvPicPr>
        <p:blipFill>
          <a:blip r:embed="rId1"/>
          <a:stretch/>
        </p:blipFill>
        <p:spPr>
          <a:xfrm>
            <a:off x="6119640" y="2259000"/>
            <a:ext cx="2738520" cy="39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F1.wmv" descr=""/>
          <p:cNvPicPr/>
          <p:nvPr/>
        </p:nvPicPr>
        <p:blipFill>
          <a:blip r:embed="rId1"/>
          <a:stretch/>
        </p:blipFill>
        <p:spPr>
          <a:xfrm>
            <a:off x="857160" y="72216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9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Text Box 4"/>
          <p:cNvSpPr/>
          <p:nvPr/>
        </p:nvSpPr>
        <p:spPr>
          <a:xfrm>
            <a:off x="5299200" y="274680"/>
            <a:ext cx="3844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Rounded MT Bold"/>
              </a:rPr>
              <a:t>После войны в Ростове-на-Дону открыли парк имени Вити Черевичкина, где установлен памятник, на котором мальчик прижимает к плечу голубя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4" name="Text Box 6"/>
          <p:cNvSpPr/>
          <p:nvPr/>
        </p:nvSpPr>
        <p:spPr>
          <a:xfrm>
            <a:off x="5414760" y="6276960"/>
            <a:ext cx="25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Стелла у входа в парк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45" name="Picture 9" descr="Рисунок28"/>
          <p:cNvPicPr/>
          <p:nvPr/>
        </p:nvPicPr>
        <p:blipFill>
          <a:blip r:embed="rId1"/>
          <a:stretch/>
        </p:blipFill>
        <p:spPr>
          <a:xfrm>
            <a:off x="0" y="0"/>
            <a:ext cx="5303880" cy="68580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0" descr="Рисунок29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033960" y="3887640"/>
            <a:ext cx="2103480" cy="239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Text Box 4"/>
          <p:cNvSpPr/>
          <p:nvPr/>
        </p:nvSpPr>
        <p:spPr>
          <a:xfrm>
            <a:off x="0" y="6238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К сожалению, нет ни одного памятника животным, верно служившим человеку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в суровые военные годы…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8" name="Text Box 5"/>
          <p:cNvSpPr/>
          <p:nvPr/>
        </p:nvSpPr>
        <p:spPr>
          <a:xfrm>
            <a:off x="241200" y="4443480"/>
            <a:ext cx="88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Но образ птицы стал символом вечной памяти погибшим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49" name="1944.mid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83.0)">
                                      <p:cBhvr>
                                        <p:cTn id="485" dur="1" fill="hold"/>
                                        <p:tgtEl>
                                          <p:spTgt spid="10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3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8" descr="Рисунок177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51" name="Text Box 5"/>
          <p:cNvSpPr/>
          <p:nvPr/>
        </p:nvSpPr>
        <p:spPr>
          <a:xfrm>
            <a:off x="1656360" y="0"/>
            <a:ext cx="874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Monotype Corsiva"/>
              </a:rPr>
              <a:t>Мне кажется порою, что солдаты,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Monotype Corsiva"/>
              </a:rPr>
              <a:t>С кровавых не пришедшие полей,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Monotype Corsiva"/>
              </a:rPr>
              <a:t>Не в землю нашу полегли когда-то,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Monotype Corsiva"/>
              </a:rPr>
              <a:t>А превратились в белых журавлей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2" name="Text Box 6"/>
          <p:cNvSpPr/>
          <p:nvPr/>
        </p:nvSpPr>
        <p:spPr>
          <a:xfrm>
            <a:off x="7560" y="6338880"/>
            <a:ext cx="614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Памятник погибшим войнам в г. Чирке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Text Box 5"/>
          <p:cNvSpPr/>
          <p:nvPr/>
        </p:nvSpPr>
        <p:spPr>
          <a:xfrm>
            <a:off x="4379760" y="3103560"/>
            <a:ext cx="476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Rounded MT Bold"/>
              </a:rPr>
              <a:t>Они помогли нашему народу одержать победу в Великой Отечественной войне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4" name="WordArt 6"/>
          <p:cNvSpPr txBox="1"/>
          <p:nvPr/>
        </p:nvSpPr>
        <p:spPr>
          <a:xfrm>
            <a:off x="3133800" y="523800"/>
            <a:ext cx="601020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вотные в боевом строю...</a:t>
            </a:r>
            <a:endParaRPr b="0" i="1" lang="en-US" sz="28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55" name="Picture 11" descr="Рисунок2еее"/>
          <p:cNvPicPr/>
          <p:nvPr/>
        </p:nvPicPr>
        <p:blipFill>
          <a:blip r:embed="rId1"/>
          <a:stretch/>
        </p:blipFill>
        <p:spPr>
          <a:xfrm>
            <a:off x="266760" y="1771560"/>
            <a:ext cx="4191120" cy="37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77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770" fill="hold"/>
                                        <p:tgtEl>
                                          <p:spTgt spid="10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4" dur="2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ext Box 8"/>
          <p:cNvSpPr/>
          <p:nvPr/>
        </p:nvSpPr>
        <p:spPr>
          <a:xfrm>
            <a:off x="0" y="572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Arial Rounded MT Bold"/>
              </a:rPr>
              <a:t>Эта небольшая страничка войны заставляет нас с еще большим уважением взглянуть на наших верных четвероногих и крылатых помощников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7" name="Text Box 9"/>
          <p:cNvSpPr/>
          <p:nvPr/>
        </p:nvSpPr>
        <p:spPr>
          <a:xfrm>
            <a:off x="3544920" y="1817640"/>
            <a:ext cx="5599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Главное, не обратить наших друзей в убийц. Горшок со змеями, брошенный в лагерь неприятеля в древней войне мог поразить десяток людей. Пробирка с бациллами в руках преступников против мира страшна не меньше ядерной бомбы…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58" name="Picture 16" descr="Рисунок1111"/>
          <p:cNvPicPr/>
          <p:nvPr/>
        </p:nvPicPr>
        <p:blipFill>
          <a:blip r:embed="rId1"/>
          <a:stretch/>
        </p:blipFill>
        <p:spPr>
          <a:xfrm>
            <a:off x="0" y="1711440"/>
            <a:ext cx="3479760" cy="23288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7" descr="Рисунок31"/>
          <p:cNvPicPr/>
          <p:nvPr/>
        </p:nvPicPr>
        <p:blipFill>
          <a:blip r:embed="rId2"/>
          <a:stretch/>
        </p:blipFill>
        <p:spPr>
          <a:xfrm>
            <a:off x="5762520" y="4638600"/>
            <a:ext cx="3381480" cy="22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0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545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5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4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Прямоугольник 1"/>
          <p:cNvSpPr/>
          <p:nvPr/>
        </p:nvSpPr>
        <p:spPr>
          <a:xfrm>
            <a:off x="514440" y="5904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Список используемых источников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1" name="Прямоугольник 2"/>
          <p:cNvSpPr/>
          <p:nvPr/>
        </p:nvSpPr>
        <p:spPr>
          <a:xfrm>
            <a:off x="802800" y="1681200"/>
            <a:ext cx="35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http://www.socialvet.ru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2" name="Прямоугольник 3"/>
          <p:cNvSpPr/>
          <p:nvPr/>
        </p:nvSpPr>
        <p:spPr>
          <a:xfrm>
            <a:off x="736560" y="2233440"/>
            <a:ext cx="256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http://nsportal.ru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3" name="Прямоугольник 5"/>
          <p:cNvSpPr/>
          <p:nvPr/>
        </p:nvSpPr>
        <p:spPr>
          <a:xfrm>
            <a:off x="872640" y="4119480"/>
            <a:ext cx="24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http://ianimal.ru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4" name="Прямоугольник 6"/>
          <p:cNvSpPr/>
          <p:nvPr/>
        </p:nvSpPr>
        <p:spPr>
          <a:xfrm>
            <a:off x="857160" y="4684680"/>
            <a:ext cx="58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http://parapsicholog.livejournal.com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5" name="Прямоугольник 7"/>
          <p:cNvSpPr/>
          <p:nvPr/>
        </p:nvSpPr>
        <p:spPr>
          <a:xfrm>
            <a:off x="838080" y="3605040"/>
            <a:ext cx="37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Интернет-источники: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6" name="Прямоугольник 8"/>
          <p:cNvSpPr/>
          <p:nvPr/>
        </p:nvSpPr>
        <p:spPr>
          <a:xfrm>
            <a:off x="836640" y="1147680"/>
            <a:ext cx="43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Источники иллюстраций: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7"/>
          <p:cNvSpPr/>
          <p:nvPr/>
        </p:nvSpPr>
        <p:spPr>
          <a:xfrm>
            <a:off x="2981160" y="843120"/>
            <a:ext cx="61628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В войнах люди всегда находили место и для животных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«Гуси спасли Рим» - все знают эти слова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Княгиня Ольга, мстя древлянам за убитого мужа, обложила их легкой данью – два голубя со двора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Селения древлян сгорели – каждый отпущенный голубь, возвращаясь домой, принес подожженную паклю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62" name="Text Box 9"/>
          <p:cNvSpPr/>
          <p:nvPr/>
        </p:nvSpPr>
        <p:spPr>
          <a:xfrm>
            <a:off x="1619280" y="3357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63" name="1941.mid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6" descr="Рисунок1ьит"/>
          <p:cNvPicPr/>
          <p:nvPr/>
        </p:nvPicPr>
        <p:blipFill>
          <a:blip r:embed="rId2"/>
          <a:stretch/>
        </p:blipFill>
        <p:spPr>
          <a:xfrm>
            <a:off x="0" y="0"/>
            <a:ext cx="2874960" cy="481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5.0)">
                                      <p:cBhvr>
                                        <p:cTn id="45" dur="1" fill="hold"/>
                                        <p:tgtEl>
                                          <p:spTgt spid="9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3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Picture 9" descr="Рисунок1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4"/>
          <p:cNvSpPr/>
          <p:nvPr/>
        </p:nvSpPr>
        <p:spPr>
          <a:xfrm>
            <a:off x="411120" y="766800"/>
            <a:ext cx="6602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В сравнении с современными самолетами, бомбами, ракетами, системами раннего обнаружения противника подобные средства вызывают улыбку. Но и в наши дни, как столетия назад, животные уверенно занимают свое место в боевом строю рядом с человеком.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3399"/>
                </a:solidFill>
                <a:latin typeface="Comic Sans MS"/>
              </a:rPr>
              <a:t>Какими «специальностями» овладевают на войне наши меньшие братья? Как помогают человеку в тылу? Помнят ли люди заслуги бессловесных воинов</a:t>
            </a:r>
            <a:r>
              <a:rPr b="1" lang="ru-RU" sz="2400" spc="-1" strike="noStrike">
                <a:solidFill>
                  <a:srgbClr val="003399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67" name="Picture 10" descr="Рисунок2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105680" y="3530520"/>
            <a:ext cx="2038320" cy="332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2000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5"/>
          <p:cNvSpPr/>
          <p:nvPr/>
        </p:nvSpPr>
        <p:spPr>
          <a:xfrm>
            <a:off x="0" y="3348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Comic Sans MS"/>
              </a:rPr>
              <a:t>Главной силой всех правителей древности была конница. Только опираясь на нее они могли удерживать власть, отстаивать независимость своего государства, завоевывать другие страны и народы. Без лошадей не было армий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69" name="Picture 11" descr="Рисунок166"/>
          <p:cNvPicPr/>
          <p:nvPr/>
        </p:nvPicPr>
        <p:blipFill>
          <a:blip r:embed="rId1"/>
          <a:stretch/>
        </p:blipFill>
        <p:spPr>
          <a:xfrm>
            <a:off x="1084320" y="533520"/>
            <a:ext cx="72784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0" y="26478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Лошади на войне возили орудия, служили в обозах, носились по степям с легкой, как птица, тачанкой…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71" name="Picture 8" descr="опроиро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26272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9" descr="тлтьюьб"/>
          <p:cNvPicPr/>
          <p:nvPr/>
        </p:nvPicPr>
        <p:blipFill>
          <a:blip r:embed="rId2"/>
          <a:stretch/>
        </p:blipFill>
        <p:spPr>
          <a:xfrm>
            <a:off x="0" y="4124160"/>
            <a:ext cx="6093000" cy="27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3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 средние века лошадь старались защищать латами; позже она стала носить противогаз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4" name="Text Box 5"/>
          <p:cNvSpPr/>
          <p:nvPr/>
        </p:nvSpPr>
        <p:spPr>
          <a:xfrm>
            <a:off x="301680" y="1957320"/>
            <a:ext cx="884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Лошадь делила с человеком все опасности боя…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75" name="Picture 7" descr="Рисунок1578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43080" y="3159000"/>
            <a:ext cx="3211200" cy="369900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8" descr="Рисунок1 ьрил"/>
          <p:cNvPicPr/>
          <p:nvPr/>
        </p:nvPicPr>
        <p:blipFill>
          <a:blip r:embed="rId2"/>
          <a:stretch/>
        </p:blipFill>
        <p:spPr>
          <a:xfrm>
            <a:off x="4876920" y="3905280"/>
            <a:ext cx="42670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Text Box 5"/>
          <p:cNvSpPr/>
          <p:nvPr/>
        </p:nvSpPr>
        <p:spPr>
          <a:xfrm>
            <a:off x="365040" y="41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8" name="Text Box 6"/>
          <p:cNvSpPr/>
          <p:nvPr/>
        </p:nvSpPr>
        <p:spPr>
          <a:xfrm>
            <a:off x="0" y="15084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Arial Rounded MT Bold"/>
              </a:rPr>
              <a:t>Конь слабее мотоцикла. Он бежит со скоростью 10-20 км. в час, одолевая за сутки максимум 100км. Но зато лошадь проскачет там, где машину придется нести на руках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9" name="Text Box 7"/>
          <p:cNvSpPr/>
          <p:nvPr/>
        </p:nvSpPr>
        <p:spPr>
          <a:xfrm>
            <a:off x="4573440" y="1952640"/>
            <a:ext cx="457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Конница всегда идет по кратчайшему пути через овраги и болота, форсируя реки и просачиваясь сквозь лесные чащобы. Быстрые и неутомимые, целые партизанские соединения иногда проходили незамеченными в нескольких метрах от фашистов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80" name="Picture 11" descr="пнгпнгп"/>
          <p:cNvPicPr/>
          <p:nvPr/>
        </p:nvPicPr>
        <p:blipFill>
          <a:blip r:embed="rId1"/>
          <a:stretch/>
        </p:blipFill>
        <p:spPr>
          <a:xfrm>
            <a:off x="0" y="1967040"/>
            <a:ext cx="4267080" cy="26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2:21:30Z</dcterms:created>
  <dc:creator>user</dc:creator>
  <dc:description/>
  <dc:language>en-US</dc:language>
  <cp:lastModifiedBy>anton</cp:lastModifiedBy>
  <dcterms:modified xsi:type="dcterms:W3CDTF">2016-06-17T12:09:58Z</dcterms:modified>
  <cp:revision>112</cp:revision>
  <dc:subject/>
  <dc:title>Животные в боевом строю</dc:title>
</cp:coreProperties>
</file>