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B1D6C-70BE-4F39-95E5-ADBA0486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D5F29-2A5A-4AE2-98F8-D5B7EF82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850EA-5F68-4F87-A073-A112CD25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63F9D-6BA4-4B3D-B46F-24B9C21E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D90B-3A26-4777-B39D-5ABA0059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4DD8-91E6-4201-852F-5180905C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B086-AE2C-4A93-AB29-7BDE37BB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2DBB-AB29-4E78-B194-1056EAD7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C959-E740-4EFE-B725-284BC9D8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8678-5D1C-4EC2-BAA9-BF9B6F4C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3433-20F8-467A-84D4-F7CA725E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C1D7A-4C08-4315-93B9-1B2FC402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7F6F-3D24-4F5D-B324-5756CADB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A726-665E-4A3F-8AF6-D7960B16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72F9-8C86-42DB-99B4-AB4CACBD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8B02-8E6E-4F77-BF54-99021E3D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B976-4AF9-4A76-98B4-80F9FF19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CA6F0-7F80-4D17-BADD-D986E493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CBB77-00DD-4262-90F4-64F3E7AB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53231-1CFE-454B-B17E-4FAA8EBC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7FB92-7939-4DD6-9F92-843F3D63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EC0CE-732F-4CE3-9A7C-8809004F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1D88F-47CF-41A1-BAD0-8B0012D8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F7996-8C78-42CA-8DB4-F09E641F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B066-A80B-47FE-A2AB-041B4CF107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636B-F8BA-4930-AE2D-7738236EFE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836280"/>
            <a:ext cx="8007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2b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Особенности аграрных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отношений. Земельная рента.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               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Цена земл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ультаты труда в сельском хозяйстве представляют соб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ожное  переплетение естественных (почвенно-климатически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ологических) и экономических процессов. Особую роль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льскохозяйственном производстве играет фактор  времени 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зонность. До 50% средств производства, используемых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льском хозяйстве, включаются в производственный процесс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нуя сферу товарно-денежных отношений Это семена, корм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рот стада, которые создаются внутри  самих хозяйст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пользуются ими же в натуральной фор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-за специфики сельскохозяйственного производства обор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питала в сельском хозяйстве по сравнению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мышленностью замедл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Главный вывод состоит в том, что эффективность сельскохозяйственного производства является результатом системного взаимодействия трех основных факторов: труда, земли и капита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рос на землю определяется как совокупный спрос всех заинтересованных и незаинтересованных в сельском хозяйстве покупателе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ложение земли определяется общим предложением всех собственников земли, при это земля обладает природной ограниченностью, общее её количество не может увеличиться под воздействием роста цен на неё и уменьшается при снижении цен, что показывает абсолютно не эластичное предложение по цене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4220640"/>
            <a:ext cx="84978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кольку предложение земли относительно неизменно объём ренты полностью зависит от спроса на землю, чем он выше, тем выше рента и наоборо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нта как экономическая категория – это доход от земли, предложение которой не эластично является частью арендной платы.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А плата = з/ рента + %на ранее вложенный капитал + Ао основные средст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11280" y="1204200"/>
            <a:ext cx="6351120" cy="2577600"/>
            <a:chOff x="611280" y="1204200"/>
            <a:chExt cx="6351120" cy="2577600"/>
          </a:xfrm>
        </p:grpSpPr>
        <p:sp>
          <p:nvSpPr>
            <p:cNvPr id="123" name=""/>
            <p:cNvSpPr/>
            <p:nvPr/>
          </p:nvSpPr>
          <p:spPr>
            <a:xfrm flipV="1">
              <a:off x="1518120" y="1356120"/>
              <a:ext cx="0" cy="212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18120" y="3479760"/>
              <a:ext cx="19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47720" y="2113920"/>
              <a:ext cx="1556280" cy="1058400"/>
            </a:xfrm>
            <a:custGeom>
              <a:avLst/>
              <a:gdLst/>
              <a:ahLst/>
              <a:rect l="l" t="t" r="r" b="b"/>
              <a:pathLst>
                <a:path w="1620" h="1980">
                  <a:moveTo>
                    <a:pt x="0" y="0"/>
                  </a:moveTo>
                  <a:cubicBezTo>
                    <a:pt x="135" y="465"/>
                    <a:pt x="270" y="930"/>
                    <a:pt x="540" y="1260"/>
                  </a:cubicBezTo>
                  <a:cubicBezTo>
                    <a:pt x="810" y="1590"/>
                    <a:pt x="1215" y="1785"/>
                    <a:pt x="1620" y="19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26040" y="2568960"/>
              <a:ext cx="38808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96440" y="1204200"/>
              <a:ext cx="3877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18120" y="1659600"/>
              <a:ext cx="388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32880" y="3175920"/>
              <a:ext cx="1296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л-в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зем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1280" y="1204200"/>
              <a:ext cx="1036440" cy="10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ента (цена на земл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26040" y="1659600"/>
              <a:ext cx="1080" cy="181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40800" y="2265480"/>
              <a:ext cx="272160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Равновесие</a:t>
              </a: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рынка земл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уровень арендной платы выше, т.е., предложение превышает спрос на землю, собственники будут испытывать трудности со сдачей земли в аренду и будут вынуждены снижать уровень арендной платы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уровень арендной платы ниже, то спрос превысит предложение, и этот высокий спрос даст возможность арендаторам повышать плату за зем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нтные отношения— одна из сущностных черт аграрных отнош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нтные отношения в сельском хозяйстве являются следствием ограниченности земли вообще как основного средства производства в сельском хозяйстве и неравноценности земельных участков по плодородию и месторасположению. В соответствии с классическим определением земельной ренты она представляет собой особый доход, который получают земельные собственники при распределении общественного проду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мельная рента, возникающая как результат различий земельных участков в плодородии и месторасположении к рынку, называется дифференциальной рентой первой формы, или дифференциальной рентой 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фференциальная рента второй формы, или дифференциальная рента II, образуется из различной эффективности последовательных вложений труда и капитала в производство сельскохозяйственной продукции на одном и том же земельном участ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7360" y="-51098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Спрос на землю определяется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. совокупный спрос всех заинтересованных и незаинтересованных в сельском хозяйстве покуп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. совокупный спрос всех  покуп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. показатель результативности сельского 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. поддержание производителей сельхоз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. нет правильного от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Землевлад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знание права физического или юридического лица на определённый участок или территор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. аренда на определенный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. безвозмездное право 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. кре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. все вместе взя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К важнейшим факторам производства относ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. труд землю капитал предпринима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. человека и прир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. только капи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.  только природные 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.  заинтересованность предприним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7360" y="-51098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Цена за использование земли и дуги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р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н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 акц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 до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 лиз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Особенность земли как средства производства состо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она биологически участвует в процессе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не участвует в процессе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 дает работу трудовым рес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 является собственностью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 нет ве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е 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льскохозяйственное производство связано с особым средством  производства — земл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ЗЕМЛЯ – один из факторов производства, употребляется в широком смысле слова и охватывает все, что дано природой в ограниченном объёме и обладает полез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мля не является результатом человеческого труда, но для сельского хозяйства основное средство произво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роту в связи с этим приобретают в обществе отношения собственности на зем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а аграрного производства – это собственность на землю, поскольку от характера присвоения земли завися отношения пользования, владения и распоряжения землё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Землевладение – признание права физического или юридического лица на определённый участок или территор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Аграрные отнош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— это социально-экономические взаимоотношения между всеми хозяйствующими в обществе субъектами по поводу  воспроизводства сельскохозяйственной продук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тличие от средств производства других отраслей, являющихся  результатом труда прошлых периодов, т.е. овеществленным трудом, земля —продукт природы. Она — невоспроизводимое средство производства, не может перемещаться, т.е. физически неподвижна, ее количество ограничен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енность земли как средства производства состоит в том, что она биологически участвует в процессе производства. Поэтому  результаты труда в сельском хозяйстве во многом зависят от естественного плодородия поч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енностью сельского хозяйства является и то, что предметы труда здесь — живые организмы (растения и животные), предполагающие наличие особых профессиональных знаний и отношений к этим предметам труда, также подверженным влиянию природно-климатических услов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ущественные особенности в    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организации сельскохозяйственного 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                         труда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-первых, в этой отрасли малоэффективным оказывается централизованное управление, поскольку оно затрудняет реакцию на изменения в производстве, оказываемые природ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-вторых, в сельском хозяйстве мало оправданно  углубленное разделение труда на управленческий и исполнительский. Здесь  более целесообразно соединение функций работника-исполнителя с  управленческими функциями, так как работник сельского хозяйства должен не только выполнять физические работы, но и знать технологию выращивания культур, уметь ее регулировать в соответствии с изменяющимися услов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7:06:50Z</dcterms:created>
  <dc:creator>user</dc:creator>
  <dc:description/>
  <dc:language>en-US</dc:language>
  <cp:lastModifiedBy>USER</cp:lastModifiedBy>
  <dcterms:modified xsi:type="dcterms:W3CDTF">2011-12-06T16:30:11Z</dcterms:modified>
  <cp:revision>18</cp:revision>
  <dc:subject/>
  <dc:title>1.Предмет,методы и функции ЭТ</dc:title>
</cp:coreProperties>
</file>