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948B4-0E3C-45BC-AA8C-4995A5B307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053F1-A372-451D-930F-E557774D62E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10AF9-7563-4C45-9030-97C324D278C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69074A-1ADD-426E-9C2D-E22680B70B09}" type="slidenum">
              <a:rPr b="0" lang="ru-RU" sz="12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C9349B-B34C-4FC7-B54A-A237D63E0F2C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81E93-0836-45F6-A0A6-E792D5C7F6B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1610FB-16AB-4C3E-88C1-68973BBE4EE7}" type="slidenum">
              <a:rPr b="0" lang="ru-RU" sz="12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E798B5-BDA3-4C2F-A7E3-AC21204CDB2E}" type="slidenum">
              <a:rPr b="0" lang="ru-RU" sz="1200" spc="-1" strike="noStrike">
                <a:solidFill>
                  <a:srgbClr val="ffffff"/>
                </a:solidFill>
                <a:latin typeface="Garamond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0E5EE-7011-48CD-8FAE-3FEDB05EF79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B8B4B1-CAD3-4A2B-BA1C-A81759546EB9}" type="slidenum">
              <a:rPr b="0" lang="ru-RU" sz="12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C2333-BA28-4C0C-9B61-1EB12C4ECD9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7F371D-9B1D-4EBD-86E1-7036B6553F1C}" type="slidenum">
              <a:rPr b="0" lang="ru-RU" sz="12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3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255F81-4B5B-4B9D-9D9E-D9CFBC5DB1F9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5013D-CD90-42C1-863D-596E7F05BD8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63934E-4DCE-4E20-9519-45FDAE5C967B}" type="slidenum">
              <a:rPr b="0" lang="ru-RU" sz="12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20FDD-54EC-4812-BF51-35C85AD5A99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EAA9E3-A0CA-4978-A6E6-F12149EB9153}" type="slidenum">
              <a:rPr b="0" lang="ru-RU" sz="12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28776-9F48-427B-BA49-BBFEC93E8DC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85A745-E0AC-4367-A07C-D08CAFEA9B78}" type="slidenum">
              <a:rPr b="0" lang="ru-RU" sz="12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5ABD5-08CD-4D4C-B116-6F75A62AD7C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4E9BA4-563E-401B-97F1-03DD6D030E8C}" type="slidenum">
              <a:rPr b="0" lang="ru-RU" sz="12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22350-BD30-4D30-9600-852D6DCABC6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3867A-B64D-49B6-AA65-30654D2FFAB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1. На слайде не отражены некоторые другие состояния: ДН, заболевания сосудов малого круга, опухоли легк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2. Данные получены из анализа историй болезни 47 с половиной миллионов пациентов с основным или сопутствующим диагнозом ХОБЛ, 1979 – 2001 год, США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// During 1979 to 2001, there were an estimated total of 47,404,700 hospital discharges (8.5% of all hospitalizations in adults &gt; 25 years old) of patients with COPD; 37,540,374 discharges (79.2%) were made with COPD as a secondary diagnosis, and 9,864,278 discharges (20.8%) were made with COPD as the primary diagnosis. The prevalence and in-hospital mortality for pneumonia, congestive heart failure, ischemic heart disease, thoracic malignancies, and respiratory failure were larger in hospital discharges with any mention of COP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8F8730-F400-4BB0-8F2F-8783B0C2394C}" type="slidenum">
              <a:rPr b="0" lang="ru-RU" sz="1200" spc="-1" strike="noStrike">
                <a:solidFill>
                  <a:srgbClr val="ffffff"/>
                </a:solidFill>
                <a:latin typeface="Garamond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B983B-DE13-4FE4-8B6C-D92730BAF77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823A4-4DE7-4679-8F2A-2846604239F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Летальность среди пациентов, имеющих диагноз ХОБЛ в сочетании с любым диагнозом из приведённых. На слайде не отражены: опухоли легких, диабет, заболевания сосудов малого кр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D28E60-2F42-4FB0-8E75-48032CA53F4A}" type="slidenum">
              <a:rPr b="0" lang="ru-RU" sz="1200" spc="-1" strike="noStrike">
                <a:solidFill>
                  <a:srgbClr val="ffffff"/>
                </a:solidFill>
                <a:latin typeface="Garamond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D81C1-2A1A-476C-9D6B-474DCB2FA87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F9FAA5-72D0-4621-8D75-C7D4A576B075}" type="slidenum">
              <a:rPr b="0" lang="ru-RU" sz="1200" spc="-1" strike="noStrike">
                <a:solidFill>
                  <a:srgbClr val="ffffff"/>
                </a:solidFill>
                <a:latin typeface="Garamond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E7839-2CD3-4B0B-BC02-C49A3D52E89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Достоверна разница между группами Серети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ДДБА и ИГК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КДБ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553C3B-04BA-4B82-B864-9165E3F56D53}" type="slidenum">
              <a:rPr b="0" lang="ru-RU" sz="1200" spc="-1" strike="noStrike">
                <a:solidFill>
                  <a:srgbClr val="ffffff"/>
                </a:solidFill>
                <a:latin typeface="Garamond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C714F-A878-4FB7-BB4C-4A73A5EB51F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577BD3-48D9-4F40-90FE-125DB6DA93A6}" type="slidenum">
              <a:rPr b="0" lang="en-GB" sz="1200" spc="-1" strike="noStrike">
                <a:solidFill>
                  <a:srgbClr val="ffffff"/>
                </a:solidFill>
                <a:latin typeface="Garamond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72D1C-B951-476F-8E65-993EB10CCB7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36694-A0FF-4636-96BF-3CED115645F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411E4-008B-4D18-AFFB-5B932482491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В популяционном исследовании летальность у пациентов с ХОБЛ, госпитализированных по поводу пневмонии, была достоверно ниже среди тех, кто получал ИГКС до госпитализации. В исследование вошли 6353 пациента 64 лет и старше, 38% из них получали ИГКС. Летальность (в целом) составила 8.9% в течение 30 дней и 16% в течение 90 дней после поступления в клиник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00CFC9-F253-4EB3-B0F0-A401AF3606CE}" type="slidenum">
              <a:rPr b="0" lang="ru-RU" sz="1200" spc="-1" strike="noStrike">
                <a:solidFill>
                  <a:srgbClr val="ffffff"/>
                </a:solidFill>
                <a:latin typeface="Garamond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320E6-E6EF-4A78-B9CC-F0F56F2253C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66BEF-3B4B-405B-8A2C-D8F5EDEBBA0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Особое место среди ЛС, использующихся для терапии стабильного периода ХОБЛ, занимают бронхорасширяющие препараты. При ХОБЛ широко используются бронхорасширяющие препараты трех основных классов лекарственных средств: антихолинергические препараты,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  <a:ea typeface="Microsoft YaHe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-агонисты и теофиллины и их комбин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В настоящее время большое внимание уделяется не только способности бронхолитической терапии улучшать спирографические показатели, но их влиянию на выраженность гиперинфляции легких (повышенной воздушности), так как именно с легочными объемами наиболее тесно связаны кардинальный симптом ХОБЛ – одышки и толерантность к физическим нагрузкам. У больных ХОБЛ даже при отсутствии увеличения ОФВ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  <a:ea typeface="Microsoft YaHe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, бронходилататоры могут приводить к уменьшению гиперинфляции легких, а, следовательно, и к снижению одышки, повышению физической работоспосбности и повышению качества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8EE232-2642-4C84-A15A-ED00E6DAF818}" type="slidenum">
              <a:rPr b="0" lang="ru-RU" sz="1200" spc="-1" strike="noStrike">
                <a:solidFill>
                  <a:srgbClr val="ffffff"/>
                </a:solidFill>
                <a:latin typeface="Garamond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F6B07-39D8-4819-9C4A-A7247FE4D54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43E06-CC5B-4336-97A4-687C45B4199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49F4FC-E7C1-40AD-B6F3-586957FF2DF8}" type="slidenum">
              <a:rPr b="0" lang="ru-RU" sz="12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167EB-B2C4-4EEF-B649-9C64B970BCD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9BB997-521F-465C-822C-96DFDF59B50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380880" y="380880"/>
            <a:ext cx="6097680" cy="4572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312840" y="5194440"/>
            <a:ext cx="6269040" cy="35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9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5D00D-1800-4924-8E99-C984BCF40CB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8F54E-E086-4F23-8613-A50E74DB322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21B3C-8CD3-46F4-9CBF-26717E9BEEC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DD72F-73BF-48B0-81C3-4A8EA5E9BC9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417F0-A243-460B-B392-6E912817814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1BD449-D431-4918-AA89-3575DEFF6141}" type="slidenum">
              <a:rPr b="0" lang="ru-RU" sz="1200" spc="-1" strike="noStrike">
                <a:solidFill>
                  <a:srgbClr val="ffffff"/>
                </a:solidFill>
                <a:latin typeface="Garamond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782E6-4869-4C6C-9F77-4FC1AE2F1E3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C42A14-00CC-42D7-A2C0-1B0D0016F29D}" type="slidenum">
              <a:rPr b="0" lang="ru-RU" sz="1200" spc="-1" strike="noStrike">
                <a:solidFill>
                  <a:srgbClr val="ffffff"/>
                </a:solidFill>
                <a:latin typeface="Garamond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F07AA-7910-48F7-9821-0A8733179BD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150259-067B-45FD-90B8-793BAD090B5D}" type="slidenum">
              <a:rPr b="0" lang="ru-RU" sz="1200" spc="-1" strike="noStrike">
                <a:solidFill>
                  <a:srgbClr val="ffffff"/>
                </a:solidFill>
                <a:latin typeface="Garamond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7E40A-B823-4EBB-BAEC-5DEFFEFA082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FDAF2-EC73-4D8C-BD2E-780B066864D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89280" cy="34434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Номер слайда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299CD-D823-4E9B-8100-015A13AFCA5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AF99C-A39F-4C52-A94E-DBFCDB674A0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2E0059-E3BE-4150-8FEB-C375AECB2350}" type="slidenum">
              <a:rPr b="0" lang="ru-RU" sz="12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A97F7-B9E3-4862-8FBA-7FBF296E581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AA161-CF78-4565-9D94-254FCBC60B7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D0570-DE59-4FA4-AA51-7D506F920DB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3938B-041B-44E4-84A7-EA00B1845A1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CCB360-C4AD-4081-ABC7-E430703726A0}" type="slidenum">
              <a:rPr b="0" lang="ru-RU" sz="12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Text Box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70BA85-0EED-43D6-A646-5104C6F396B8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441E-E710-468B-B03C-96D5DAF80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9250-6968-4CCA-A9FD-8F856DB79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9654-3092-4776-9076-C697C7518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5CFB-43F6-4657-89FE-D6C7BFFFC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56474-A130-4779-A517-99F2EC5C78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E6AC8-668F-4CCB-9BFB-5DA5CE3E18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2CFF5-F3FD-460B-B372-FA5CC0805A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F32B-9900-42DC-8C29-1926198ABF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735C-2F79-4BB1-9D26-A3FCBC10D0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E925E-B635-41F1-8EA6-1F47FE589E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7B32-4CAE-4301-B401-9838CB0E88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B07A2-8372-4A02-9121-448450E67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8E141-49E0-4755-BA52-D64C952249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C0D50-E58D-444E-A711-B8D6F6AABE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5D0B5-E5EC-4B1D-B27A-2FB33ECD79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0E180-1DD6-418F-9E49-7759A1EBE8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EB7B8-66F6-458C-B303-D3436874E9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838-E16D-4FAF-AA7F-16F3262F4F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B27-38B0-4331-9B03-BB054D93BD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C5EA-7171-4995-B4DB-C1E8BCF209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901-2DBC-4F2F-90AB-AF373AC9FC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720-20C1-4A9A-9945-716DB2FCD0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390A2-951B-408E-8FF2-CB5B3A8B85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A003-1185-48C9-BF20-8184B0DD21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52F-BD46-41B7-A762-FE99177830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108-A2BC-4004-B0C4-CA21BB215D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E78-7273-490A-85F0-67FBBC2321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17E-39A1-463A-A49C-3513E88C51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39B-097E-4944-8B6D-E215A6FA53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6B66-483C-470A-8935-EF9AF3F89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C8E2-4E99-4CF1-956B-F94201973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BF2A-EF7E-4B14-9725-A54DBF54A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9317-92C7-419F-8D79-F98B1EFA5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9426-51B0-4167-BA9E-09C354CB8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0D7A-44FD-45D9-87FB-0373500C7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A27E-0F1B-4DB5-B698-51CADE628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4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1A12E3-0E1F-4882-828D-A1FB9C36B8B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3" name="Group 4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>
                  <a:gd name="textAreaLeft" fmla="*/ 0 w 4573440"/>
                  <a:gd name="textAreaRight" fmla="*/ 4573800 w 4573440"/>
                  <a:gd name="textAreaTop" fmla="*/ 0 h 2651400"/>
                  <a:gd name="textAreaBottom" fmla="*/ 2651760 h 265140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>
                  <a:gd name="textAreaLeft" fmla="*/ 0 w 1996920"/>
                  <a:gd name="textAreaRight" fmla="*/ 1997280 w 199692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>
                  <a:gd name="textAreaLeft" fmla="*/ 0 w 4521240"/>
                  <a:gd name="textAreaRight" fmla="*/ 4521240 w 4521240"/>
                  <a:gd name="textAreaTop" fmla="*/ 0 h 1536840"/>
                  <a:gd name="textAreaBottom" fmla="*/ 1537200 h 153684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a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>
                  <a:gd name="textAreaLeft" fmla="*/ 0 w 4772160"/>
                  <a:gd name="textAreaRight" fmla="*/ 4772520 w 4772160"/>
                  <a:gd name="textAreaTop" fmla="*/ 0 h 3308400"/>
                  <a:gd name="textAreaBottom" fmla="*/ 3308760 h 330840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>
                  <a:gd name="textAreaLeft" fmla="*/ 0 w 1979640"/>
                  <a:gd name="textAreaRight" fmla="*/ 1980000 w 1979640"/>
                  <a:gd name="textAreaTop" fmla="*/ 0 h 854280"/>
                  <a:gd name="textAreaBottom" fmla="*/ 854640 h 85428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2817720"/>
                <a:gd name="textAreaBottom" fmla="*/ 2818080 h 28177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51" name="Group 2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52" name="Freeform 3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>
                  <a:gd name="textAreaLeft" fmla="*/ 0 w 4573440"/>
                  <a:gd name="textAreaRight" fmla="*/ 4573800 w 4573440"/>
                  <a:gd name="textAreaTop" fmla="*/ 0 h 2651400"/>
                  <a:gd name="textAreaBottom" fmla="*/ 2651760 h 265140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4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>
                  <a:gd name="textAreaLeft" fmla="*/ 0 w 1996920"/>
                  <a:gd name="textAreaRight" fmla="*/ 1997280 w 199692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5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>
                  <a:gd name="textAreaLeft" fmla="*/ 0 w 4521240"/>
                  <a:gd name="textAreaRight" fmla="*/ 4521240 w 4521240"/>
                  <a:gd name="textAreaTop" fmla="*/ 0 h 1536840"/>
                  <a:gd name="textAreaBottom" fmla="*/ 1537200 h 153684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a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>
                  <a:gd name="textAreaLeft" fmla="*/ 0 w 4772160"/>
                  <a:gd name="textAreaRight" fmla="*/ 4772520 w 4772160"/>
                  <a:gd name="textAreaTop" fmla="*/ 0 h 3308400"/>
                  <a:gd name="textAreaBottom" fmla="*/ 3308760 h 330840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>
                  <a:gd name="textAreaLeft" fmla="*/ 0 w 1979640"/>
                  <a:gd name="textAreaRight" fmla="*/ 1980000 w 1979640"/>
                  <a:gd name="textAreaTop" fmla="*/ 0 h 854280"/>
                  <a:gd name="textAreaBottom" fmla="*/ 854640 h 85428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2817720"/>
                <a:gd name="textAreaBottom" fmla="*/ 2818080 h 28177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24080" y="6249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6552720" y="625320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E46332-79A1-4F25-B733-EF8284E636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"/>
          <p:cNvGrpSpPr/>
          <p:nvPr/>
        </p:nvGrpSpPr>
        <p:grpSpPr>
          <a:xfrm>
            <a:off x="0" y="0"/>
            <a:ext cx="9139320" cy="6848640"/>
            <a:chOff x="0" y="0"/>
            <a:chExt cx="9139320" cy="6848640"/>
          </a:xfrm>
        </p:grpSpPr>
        <p:grpSp>
          <p:nvGrpSpPr>
            <p:cNvPr id="101" name="Group 2"/>
            <p:cNvGrpSpPr/>
            <p:nvPr/>
          </p:nvGrpSpPr>
          <p:grpSpPr>
            <a:xfrm>
              <a:off x="2743200" y="3540240"/>
              <a:ext cx="6391440" cy="3308400"/>
              <a:chOff x="2743200" y="3540240"/>
              <a:chExt cx="6391440" cy="3308400"/>
            </a:xfrm>
          </p:grpSpPr>
          <p:sp>
            <p:nvSpPr>
              <p:cNvPr id="102" name="Freeform 3"/>
              <p:cNvSpPr/>
              <p:nvPr/>
            </p:nvSpPr>
            <p:spPr>
              <a:xfrm>
                <a:off x="2743200" y="4197240"/>
                <a:ext cx="4573440" cy="2651400"/>
              </a:xfrm>
              <a:custGeom>
                <a:avLst/>
                <a:gdLst>
                  <a:gd name="textAreaLeft" fmla="*/ 0 w 4573440"/>
                  <a:gd name="textAreaRight" fmla="*/ 4573800 w 4573440"/>
                  <a:gd name="textAreaTop" fmla="*/ 0 h 2651400"/>
                  <a:gd name="textAreaBottom" fmla="*/ 2651760 h 265140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4"/>
              <p:cNvSpPr/>
              <p:nvPr/>
            </p:nvSpPr>
            <p:spPr>
              <a:xfrm>
                <a:off x="6620040" y="4240080"/>
                <a:ext cx="1996920" cy="1285920"/>
              </a:xfrm>
              <a:custGeom>
                <a:avLst/>
                <a:gdLst>
                  <a:gd name="textAreaLeft" fmla="*/ 0 w 1996920"/>
                  <a:gd name="textAreaRight" fmla="*/ 1997280 w 199692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5"/>
              <p:cNvSpPr/>
              <p:nvPr/>
            </p:nvSpPr>
            <p:spPr>
              <a:xfrm>
                <a:off x="4603680" y="5311800"/>
                <a:ext cx="4521240" cy="1536840"/>
              </a:xfrm>
              <a:custGeom>
                <a:avLst/>
                <a:gdLst>
                  <a:gd name="textAreaLeft" fmla="*/ 0 w 4521240"/>
                  <a:gd name="textAreaRight" fmla="*/ 4521240 w 4521240"/>
                  <a:gd name="textAreaTop" fmla="*/ 0 h 1536840"/>
                  <a:gd name="textAreaBottom" fmla="*/ 1537200 h 153684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a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6"/>
              <p:cNvSpPr/>
              <p:nvPr/>
            </p:nvSpPr>
            <p:spPr>
              <a:xfrm>
                <a:off x="4362480" y="3540240"/>
                <a:ext cx="4772160" cy="3308400"/>
              </a:xfrm>
              <a:custGeom>
                <a:avLst/>
                <a:gdLst>
                  <a:gd name="textAreaLeft" fmla="*/ 0 w 4772160"/>
                  <a:gd name="textAreaRight" fmla="*/ 4772520 w 4772160"/>
                  <a:gd name="textAreaTop" fmla="*/ 0 h 3308400"/>
                  <a:gd name="textAreaBottom" fmla="*/ 3308760 h 330840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7"/>
              <p:cNvSpPr/>
              <p:nvPr/>
            </p:nvSpPr>
            <p:spPr>
              <a:xfrm>
                <a:off x="7145280" y="3678120"/>
                <a:ext cx="1979640" cy="854280"/>
              </a:xfrm>
              <a:custGeom>
                <a:avLst/>
                <a:gdLst>
                  <a:gd name="textAreaLeft" fmla="*/ 0 w 1979640"/>
                  <a:gd name="textAreaRight" fmla="*/ 1980000 w 1979640"/>
                  <a:gd name="textAreaTop" fmla="*/ 0 h 854280"/>
                  <a:gd name="textAreaBottom" fmla="*/ 854640 h 85428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8"/>
            <p:cNvSpPr/>
            <p:nvPr/>
          </p:nvSpPr>
          <p:spPr>
            <a:xfrm>
              <a:off x="5273640" y="2128680"/>
              <a:ext cx="2895480" cy="243864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0"/>
              <a:ext cx="9139320" cy="281772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2817720"/>
                <a:gd name="textAreaBottom" fmla="*/ 2818080 h 28177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457200" y="624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45C264-A884-4FE1-B1C6-E12A8BC2B69F}" type="slidenum">
              <a:rPr b="0" lang="it-I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324000" y="3716280"/>
            <a:ext cx="8415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фессор Трофимов В.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бГМУ им. акад. И.П. Павло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324000" y="260280"/>
            <a:ext cx="85150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ОБЛ у лиц пожилого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старческого возраста</a:t>
            </a: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1143000" y="152280"/>
            <a:ext cx="7893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  <a:ea typeface="Arial"/>
              </a:rPr>
              <a:t>Распространенность ХСН у больных со стабильным течением ХОБ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01680" y="5257800"/>
            <a:ext cx="88423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  <a:ea typeface="Arial"/>
              </a:rPr>
              <a:t>Rutten FH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  <a:ea typeface="Arial"/>
              </a:rPr>
              <a:t>et al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  <a:ea typeface="Arial"/>
              </a:rPr>
              <a:t>.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  <a:ea typeface="Arial"/>
              </a:rPr>
              <a:t>  Unrecognized heart failure in elderly patients with stable COPD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  <a:ea typeface="Arial"/>
              </a:rPr>
              <a:t>// Eur Heart J. 2005; 26(18): 1887-94.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br>
              <a:rPr sz="1600"/>
            </a:br>
            <a:r>
              <a:rPr b="1" lang="en-US" sz="1800" spc="-1" strike="noStrike">
                <a:solidFill>
                  <a:srgbClr val="ffff00"/>
                </a:solidFill>
                <a:latin typeface="Garamond"/>
                <a:ea typeface="Arial"/>
              </a:rPr>
              <a:t>Hogg JC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  <a:ea typeface="Arial"/>
              </a:rPr>
              <a:t>et al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  <a:ea typeface="Arial"/>
              </a:rPr>
              <a:t>.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  <a:ea typeface="Arial"/>
              </a:rPr>
              <a:t> Pathophysiology of airflow limitation in COPD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  <a:ea typeface="Arial"/>
              </a:rPr>
              <a:t>// </a:t>
            </a:r>
            <a:r>
              <a:rPr b="1" lang="fr-FR" sz="1800" spc="-1" strike="noStrike">
                <a:solidFill>
                  <a:srgbClr val="ffff00"/>
                </a:solidFill>
                <a:latin typeface="Garamond"/>
                <a:ea typeface="Arial"/>
              </a:rPr>
              <a:t>Lancet. 2004;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  <a:ea typeface="Arial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Garamond"/>
                <a:ea typeface="Arial"/>
              </a:rPr>
              <a:t>364(9435):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  <a:ea typeface="Arial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Garamond"/>
                <a:ea typeface="Arial"/>
              </a:rPr>
              <a:t>709-21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  <a:ea typeface="Arial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24000" y="2205000"/>
            <a:ext cx="8712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6640" indent="-296640" algn="just">
              <a:lnSpc>
                <a:spcPct val="20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~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  <a:ea typeface="Arial"/>
              </a:rPr>
              <a:t> в 4 раза выше, чем в целом в популяции лиц старше 65 л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932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Garamond"/>
              </a:rPr>
              <a:t>Распространенность ХОБЛ при сердечной недостаточност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9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Нет исследований с систематической оценкой легочной функци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9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 США (по отчетам) ХОБЛ при сердечной недостаточности: 11-52%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9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 Европе (по отчетам) ХОБЛ при сердечной недостаточности: 9-41%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r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awkins et al., Eur. J. Heart Fail. (in pres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ХОБЛ и сердечная недостаточ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стабильной ХОБЛ у пожилых пациентов оптимальный уровень В-типа натрийуретического пептида-35пг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л.,а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NP-125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г/м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ровень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NP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100-150пг/мл подтверждает С.Н.(лёгочное сердце или левожелудочковую С.Н.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5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TproBNP &lt;300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г/мл-исключает С.Н.,а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&gt;450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г/мл для пациентов младше 50лет и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&gt;900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г/мл для пациентов старше 50лет подтверждает С.Н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Le Jemtel T.H. et al.,2007;Tung R.H. et al.,2006;Malsel A,200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0" y="380880"/>
            <a:ext cx="8883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  <a:ea typeface="Arial"/>
              </a:rPr>
              <a:t>ИБС у больных ХОБ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518148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* Краснова Ю.Н. 200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235080" y="1341360"/>
            <a:ext cx="86738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5440" indent="-235440" algn="just">
              <a:lnSpc>
                <a:spcPct val="150000"/>
              </a:lnSpc>
              <a:spcBef>
                <a:spcPts val="1749"/>
              </a:spcBef>
              <a:spcAft>
                <a:spcPts val="1749"/>
              </a:spcAft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  <a:ea typeface="Arial"/>
              </a:rPr>
              <a:t>29,3%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  <a:ea typeface="Arial"/>
              </a:rPr>
              <a:t> - немая ишемия миокар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35440" indent="-235440" algn="just">
              <a:lnSpc>
                <a:spcPct val="150000"/>
              </a:lnSpc>
              <a:spcBef>
                <a:spcPts val="1749"/>
              </a:spcBef>
              <a:spcAft>
                <a:spcPts val="1749"/>
              </a:spcAft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  <a:ea typeface="Arial"/>
              </a:rPr>
              <a:t>30,6%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  <a:ea typeface="Arial"/>
              </a:rPr>
              <a:t> - постинфарктный К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35440" indent="-235440" algn="just">
              <a:lnSpc>
                <a:spcPct val="150000"/>
              </a:lnSpc>
              <a:spcBef>
                <a:spcPts val="1749"/>
              </a:spcBef>
              <a:spcAft>
                <a:spcPts val="1749"/>
              </a:spcAft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  <a:ea typeface="Arial"/>
              </a:rPr>
              <a:t>33,3%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  <a:ea typeface="Arial"/>
              </a:rPr>
              <a:t> - фибрилляция предсерд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35440" indent="-235440" algn="just">
              <a:lnSpc>
                <a:spcPct val="150000"/>
              </a:lnSpc>
              <a:spcBef>
                <a:spcPts val="1749"/>
              </a:spcBef>
              <a:spcAft>
                <a:spcPts val="1749"/>
              </a:spcAft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  <a:ea typeface="Arial"/>
              </a:rPr>
              <a:t>26,3%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  <a:ea typeface="Arial"/>
              </a:rPr>
              <a:t> - больным ХОБЛ впервые в рамках исследования была диагностирована ИБ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932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ИБС и ХОБЛ – болезни «сцепленные» с возрасто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4572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о время обострения ХОБЛ манифестирует патология сердца, имевшая ранее латентное теч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яжелая ХОБЛ скрывает ИБ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редко пожилые  больные ХОБЛ умирают внезапно от коронарной патолог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Высокая частота сочетания ХОБЛ и ССЗ (ИБС, АГ) обусловлены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енетической предрасположенность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8040" indent="-608040">
              <a:spcBef>
                <a:spcPts val="799"/>
              </a:spcBef>
              <a:buClr>
                <a:srgbClr val="ffcc00"/>
              </a:buClr>
              <a:buFont typeface="Garamond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ими факторами риск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8040" indent="-60804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бакоку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8040" indent="-60804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жилой возра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8040" indent="-60804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жской по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8040" indent="-60804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лоподвижный образ жиз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8040" indent="-60804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Влияние терапии на смертность от ССЗ среди больных ХОБ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468360" y="1700280"/>
            <a:ext cx="82296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татины снижали смертность от ССЗ у больных ХОБЛ на 43% (наблюдение в течение 4-х лет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ГКС снижали смертность от ССЗ на 27-29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мбинация статинов и ИГКС снижала смертность от всех случаев примерно на 6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Souseth V., et.al., ERJ., 2007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роме того, сравнительное исследование 19000 пациентов, получавших статины, и 5700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не получавших статины, показало снижение риска смерти от ХОБЛ на 80%, а риска смерти от гриппа/пневмонии – на 40%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Frost F.J. et.al., Chest 2007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0" y="291960"/>
            <a:ext cx="889308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Эффект статинов, ингибиторов АПФ и блокаторов ангиотензина (БР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45720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рдиопротективный эффект  использования статинов, ингибиторов АПФ и БРА у больных ХОБЛ варьировал от 10% до 60%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частности, уменьшение смертности от всех причин наблюдалось при комбинации статины/ингибиторы АПФ – БРА на 58% в когорте с высоким кардиоваскулярным риском и на 64% в когорте с низким кардиоваскулярным риско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nchini G.B. et.al., J.Am.Coll.Cardiol., 200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684360" y="189000"/>
            <a:ext cx="777240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сего больных ХОБЛ- 2230,средний возраст 64,8 лет,мужчин 53%,с сердечно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-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сосудистой патологией-44,9%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период наблюдения(1995-2005г.г.) умерли 686 больных(30,8%); отмечено 1005 обострений ХОБЛ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реди принимавших БАБ смертность составила 27,2% против 32,3% среди лиц не принимавших БАБ(р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&lt;0,02)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астота обострений ХОБЛ была соответственно – 42,7% и 49,3%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иск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OR)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применения БАБ для общей смертности составил-0,7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5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utten F.H. et al. Arch. Intern. Med.,2010,170:880-887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0" y="270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Частота сочетания ХОБЛ с другими заболеваниями у госпитализированных пациен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05" name="Group 2"/>
          <p:cNvGrpSpPr/>
          <p:nvPr/>
        </p:nvGrpSpPr>
        <p:grpSpPr>
          <a:xfrm>
            <a:off x="755640" y="1600200"/>
            <a:ext cx="7929720" cy="4707000"/>
            <a:chOff x="755640" y="1600200"/>
            <a:chExt cx="7929720" cy="4707000"/>
          </a:xfrm>
        </p:grpSpPr>
        <p:pic>
          <p:nvPicPr>
            <p:cNvPr id="206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600200"/>
              <a:ext cx="7929720" cy="47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4"/>
            <p:cNvSpPr/>
            <p:nvPr/>
          </p:nvSpPr>
          <p:spPr>
            <a:xfrm>
              <a:off x="755640" y="1600200"/>
              <a:ext cx="7929720" cy="47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08" name="Text Box 5"/>
          <p:cNvSpPr/>
          <p:nvPr/>
        </p:nvSpPr>
        <p:spPr>
          <a:xfrm>
            <a:off x="398520" y="1557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588000" y="39337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&lt;0.0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всех категорий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Oval 7"/>
          <p:cNvSpPr/>
          <p:nvPr/>
        </p:nvSpPr>
        <p:spPr>
          <a:xfrm rot="19020000">
            <a:off x="3713040" y="5316480"/>
            <a:ext cx="1656000" cy="576360"/>
          </a:xfrm>
          <a:prstGeom prst="ellipse">
            <a:avLst/>
          </a:prstGeom>
          <a:noFill/>
          <a:ln cap="sq" w="25560">
            <a:solidFill>
              <a:srgbClr val="482d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2700360" y="6381720"/>
            <a:ext cx="64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аптировано из: </a:t>
            </a: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Holguin F et al. Chest 2005;128:2005-20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42920" y="1139760"/>
            <a:ext cx="79293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ffc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лучайная выборка взрослого населения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≥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0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ет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. Самары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N=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063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903 мужчины и 1160 женщин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спространенность ХОБЛ в общей выборке – 14,5%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нее установленный диагноз ХОБЛ – 10,4%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7128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Распространенность ХОБЛ в России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644800" y="6550200"/>
            <a:ext cx="348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 Narrow"/>
              </a:rPr>
              <a:t>Жестков и кол. Пульмонология 2009; №6: 53-57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571680" y="2571840"/>
          <a:ext cx="7358040" cy="39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571840"/>
                    <a:ext cx="735804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Летальность госпитализированных пациентов с основным или сопутствующим диагнозом ХОБ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13" name="Group 2"/>
          <p:cNvGrpSpPr/>
          <p:nvPr/>
        </p:nvGrpSpPr>
        <p:grpSpPr>
          <a:xfrm>
            <a:off x="755640" y="1600200"/>
            <a:ext cx="7929720" cy="4707000"/>
            <a:chOff x="755640" y="1600200"/>
            <a:chExt cx="7929720" cy="4707000"/>
          </a:xfrm>
        </p:grpSpPr>
        <p:pic>
          <p:nvPicPr>
            <p:cNvPr id="214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600200"/>
              <a:ext cx="7929720" cy="47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4"/>
            <p:cNvSpPr/>
            <p:nvPr/>
          </p:nvSpPr>
          <p:spPr>
            <a:xfrm>
              <a:off x="755640" y="1600200"/>
              <a:ext cx="7929720" cy="47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16" name="Text Box 5"/>
          <p:cNvSpPr/>
          <p:nvPr/>
        </p:nvSpPr>
        <p:spPr>
          <a:xfrm>
            <a:off x="2700360" y="6381720"/>
            <a:ext cx="64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аптировано из: </a:t>
            </a: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Holguin F et al. Chest 2005;128:2005-201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98520" y="1557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6587640" y="4365720"/>
            <a:ext cx="21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&lt;0.0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всех категорий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Oval 8"/>
          <p:cNvSpPr/>
          <p:nvPr/>
        </p:nvSpPr>
        <p:spPr>
          <a:xfrm rot="19020000">
            <a:off x="1666800" y="5286240"/>
            <a:ext cx="1656000" cy="576360"/>
          </a:xfrm>
          <a:prstGeom prst="ellipse">
            <a:avLst/>
          </a:prstGeom>
          <a:noFill/>
          <a:ln cap="sq" w="25560">
            <a:solidFill>
              <a:srgbClr val="482d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0" y="185760"/>
            <a:ext cx="91440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ЕСТЬ ЛИ СВЯЗЬ МЕЖДУ  ПРИМЕНЕНИЕМ ИГКС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ИЛИ ИХ КОМБИНАЦИЙ С ДДБА И ПОВЫШЕННЫМ РИСКОМ  ПНЕВМОНИЙ  У  ПАЦИЕНТОВ  С  ХОБЛ  В  ОБЩЕЙ  ПОПУЛЯЦИ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401760" y="2033640"/>
            <a:ext cx="83358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>
              <a:spcBef>
                <a:spcPts val="601"/>
              </a:spcBef>
              <a:spcAft>
                <a:spcPts val="601"/>
              </a:spcAft>
              <a:buClr>
                <a:srgbClr val="00ff00"/>
              </a:buClr>
              <a:buFont typeface="Webdings" charset="2"/>
              <a:buChar char="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438 пациентов с впервые установленной ХОБ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0280" indent="-530280">
              <a:spcBef>
                <a:spcPts val="601"/>
              </a:spcBef>
              <a:spcAft>
                <a:spcPts val="601"/>
              </a:spcAft>
              <a:buClr>
                <a:srgbClr val="00ff00"/>
              </a:buClr>
              <a:buFont typeface="Webdings" charset="2"/>
              <a:buChar char="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равниваемые группы терапии: КДБА, ДДБА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юбые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ГКС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ДБА, Серети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0280" indent="-530280">
              <a:spcBef>
                <a:spcPts val="601"/>
              </a:spcBef>
              <a:spcAft>
                <a:spcPts val="601"/>
              </a:spcAft>
              <a:buClr>
                <a:srgbClr val="00ff00"/>
              </a:buClr>
              <a:buFont typeface="Webdings" charset="2"/>
              <a:buChar char="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154 пациента – пневмония развилась по крайней мере однократно за время наблю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0280" indent="-530280">
              <a:spcBef>
                <a:spcPts val="601"/>
              </a:spcBef>
              <a:spcAft>
                <a:spcPts val="601"/>
              </a:spcAft>
              <a:buClr>
                <a:srgbClr val="00ff00"/>
              </a:buClr>
              <a:buFont typeface="Webdings" charset="2"/>
              <a:buChar char=""/>
              <a:tabLst>
                <a:tab algn="l" pos="1100160"/>
                <a:tab algn="l" pos="2014560"/>
                <a:tab algn="l" pos="2928960"/>
                <a:tab algn="l" pos="3843360"/>
                <a:tab algn="l" pos="4757760"/>
                <a:tab algn="l" pos="5672160"/>
                <a:tab algn="l" pos="6586560"/>
                <a:tab algn="l" pos="7500960"/>
                <a:tab algn="l" pos="8415360"/>
                <a:tab algn="l" pos="9329760"/>
                <a:tab algn="l" pos="10244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Garamond"/>
              </a:rPr>
              <a:t>193 пациента исключены из исследования </a:t>
            </a:r>
            <a:r>
              <a:rPr b="0" lang="ru-RU" sz="3200" spc="-1" strike="noStrike">
                <a:solidFill>
                  <a:srgbClr val="ffc000"/>
                </a:solidFill>
                <a:latin typeface="Garamond"/>
              </a:rPr>
              <a:t>из-за отсутствия </a:t>
            </a:r>
            <a:r>
              <a:rPr b="0" lang="en-US" sz="3200" spc="-1" strike="noStrike">
                <a:solidFill>
                  <a:srgbClr val="ffc000"/>
                </a:solidFill>
                <a:latin typeface="Garamond"/>
              </a:rPr>
              <a:t>Rx</a:t>
            </a:r>
            <a:r>
              <a:rPr b="0" lang="ru-RU" sz="3200" spc="-1" strike="noStrike">
                <a:solidFill>
                  <a:srgbClr val="ffc000"/>
                </a:solidFill>
                <a:latin typeface="Garamond"/>
              </a:rPr>
              <a:t> подтверждения диагно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3564000" y="60930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Mapel D., e.a. Prim Car Resp J 2009; 18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  <a:ea typeface="Arial Unicode MS"/>
              </a:rPr>
              <a:t>Доля пациентов, не болевших пневмонией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Garamond"/>
                <a:ea typeface="Arial Unicode MS"/>
              </a:rPr>
              <a:t>к концу срока наблюд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24" name="Group 2"/>
          <p:cNvGrpSpPr/>
          <p:nvPr/>
        </p:nvGrpSpPr>
        <p:grpSpPr>
          <a:xfrm>
            <a:off x="1571760" y="1643040"/>
            <a:ext cx="6075360" cy="4318200"/>
            <a:chOff x="1571760" y="1643040"/>
            <a:chExt cx="6075360" cy="4318200"/>
          </a:xfrm>
        </p:grpSpPr>
        <p:pic>
          <p:nvPicPr>
            <p:cNvPr id="225" name="Picture 3" descr=""/>
            <p:cNvPicPr/>
            <p:nvPr/>
          </p:nvPicPr>
          <p:blipFill>
            <a:blip r:embed="rId1"/>
            <a:stretch/>
          </p:blipFill>
          <p:spPr>
            <a:xfrm>
              <a:off x="1571760" y="1643040"/>
              <a:ext cx="6075360" cy="431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4"/>
            <p:cNvSpPr/>
            <p:nvPr/>
          </p:nvSpPr>
          <p:spPr>
            <a:xfrm>
              <a:off x="1571760" y="1643040"/>
              <a:ext cx="6075360" cy="43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7" name="Rectangle 5"/>
          <p:cNvSpPr/>
          <p:nvPr/>
        </p:nvSpPr>
        <p:spPr>
          <a:xfrm>
            <a:off x="2571840" y="1643040"/>
            <a:ext cx="421488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3857760" y="5643720"/>
            <a:ext cx="200016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ремя наблюдения (дни</a:t>
            </a:r>
            <a:r>
              <a:rPr b="0" lang="ru-RU" sz="1100" spc="-1" strike="noStrike">
                <a:solidFill>
                  <a:srgbClr val="0045cf"/>
                </a:solidFill>
                <a:latin typeface="Arial Unicode MS"/>
                <a:ea typeface="Arial Unicode MS"/>
              </a:rPr>
              <a:t>)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7"/>
          <p:cNvSpPr/>
          <p:nvPr/>
        </p:nvSpPr>
        <p:spPr>
          <a:xfrm rot="16200000">
            <a:off x="-142560" y="3571920"/>
            <a:ext cx="400032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ля пациентов, не переносивших пневмонии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4716360" y="6237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Mapel D., e.a. Prim Car Resp J</a:t>
            </a:r>
            <a:r>
              <a:rPr b="0" i="1" lang="en-US" sz="18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2009; 18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236000" y="3716280"/>
            <a:ext cx="83880" cy="433440"/>
          </a:xfrm>
          <a:custGeom>
            <a:avLst/>
            <a:gdLst>
              <a:gd name="textAreaLeft" fmla="*/ 0 w 83880"/>
              <a:gd name="textAreaRight" fmla="*/ 30240 w 83880"/>
              <a:gd name="textAreaTop" fmla="*/ 2160 h 433440"/>
              <a:gd name="textAreaBottom" fmla="*/ 4312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5"/>
                  <a:pt x="10800" y="349"/>
                </a:cubicBezTo>
                <a:lnTo>
                  <a:pt x="10800" y="10451"/>
                </a:lnTo>
                <a:cubicBezTo>
                  <a:pt x="10800" y="10626"/>
                  <a:pt x="16200" y="10800"/>
                  <a:pt x="21600" y="10800"/>
                </a:cubicBezTo>
                <a:cubicBezTo>
                  <a:pt x="16200" y="10800"/>
                  <a:pt x="10800" y="10975"/>
                  <a:pt x="10800" y="11149"/>
                </a:cubicBezTo>
                <a:lnTo>
                  <a:pt x="10800" y="21251"/>
                </a:lnTo>
                <a:cubicBezTo>
                  <a:pt x="10800" y="21426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176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7236000" y="4581360"/>
            <a:ext cx="83880" cy="432000"/>
          </a:xfrm>
          <a:custGeom>
            <a:avLst/>
            <a:gdLst>
              <a:gd name="textAreaLeft" fmla="*/ 0 w 83880"/>
              <a:gd name="textAreaRight" fmla="*/ 30240 w 83880"/>
              <a:gd name="textAreaTop" fmla="*/ 2160 h 432000"/>
              <a:gd name="textAreaBottom" fmla="*/ 429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6"/>
                  <a:pt x="10800" y="351"/>
                </a:cubicBezTo>
                <a:lnTo>
                  <a:pt x="10800" y="10449"/>
                </a:lnTo>
                <a:cubicBezTo>
                  <a:pt x="10800" y="10625"/>
                  <a:pt x="16200" y="10800"/>
                  <a:pt x="21600" y="10800"/>
                </a:cubicBezTo>
                <a:cubicBezTo>
                  <a:pt x="16200" y="10800"/>
                  <a:pt x="10800" y="10976"/>
                  <a:pt x="10800" y="11151"/>
                </a:cubicBezTo>
                <a:lnTo>
                  <a:pt x="10800" y="21249"/>
                </a:lnTo>
                <a:cubicBezTo>
                  <a:pt x="10800" y="21425"/>
                  <a:pt x="5400" y="21600"/>
                  <a:pt x="0" y="21600"/>
                </a:cubicBezTo>
              </a:path>
            </a:pathLst>
          </a:custGeom>
          <a:noFill/>
          <a:ln cap="sq" w="19080">
            <a:solidFill>
              <a:srgbClr val="0051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7667640" y="350028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ерети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7740720" y="3860640"/>
            <a:ext cx="11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ДБ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7740720" y="45086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ГК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774072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ДБ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715644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45cf"/>
                </a:solidFill>
                <a:latin typeface="Garamond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7740720" y="278136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*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  <a:ea typeface="Calibri"/>
              </a:rPr>
              <a:t>p=0,00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380880" y="177840"/>
            <a:ext cx="82882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лияние применения ИГКС на исходы пневмонии у пациентов с ХОБ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401760" y="1405080"/>
            <a:ext cx="8335800" cy="52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Ретроспективное когортное исследование, </a:t>
            </a:r>
            <a:r>
              <a:rPr b="0" lang="en-US" sz="2000" spc="-1" strike="noStrike">
                <a:solidFill>
                  <a:srgbClr val="ffcc00"/>
                </a:solidFill>
                <a:latin typeface="Garamond"/>
                <a:ea typeface="Arial"/>
              </a:rPr>
              <a:t>15,768 </a:t>
            </a:r>
            <a:r>
              <a:rPr b="0" lang="ru-RU" sz="2000" spc="-1" strike="noStrike">
                <a:solidFill>
                  <a:srgbClr val="ffcc00"/>
                </a:solidFill>
                <a:latin typeface="Garamond"/>
                <a:ea typeface="Arial"/>
              </a:rPr>
              <a:t>пациентов с ХОБЛ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, госпитализированных по поводу пневмонии в течение 2002 – 2007 год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Диагноз пневмонии подтверждён при выписк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Возраст:  65 лет или старше на день госпитализац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Как минимум, однократное назначение антибиотиков в течение 48 часов после госпитализац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Применение хотя бы одного бронхолитика (</a:t>
            </a:r>
            <a:r>
              <a:rPr b="0" lang="el-GR" sz="2000" spc="-1" strike="noStrike">
                <a:solidFill>
                  <a:srgbClr val="ffffff"/>
                </a:solidFill>
                <a:latin typeface="Garamond"/>
                <a:ea typeface="Arial"/>
              </a:rPr>
              <a:t>β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Arial"/>
              </a:rPr>
              <a:t>-агонисты, теофиллин, тиотропий, ипратропия бромид) в течение как минимум 30 дней до госпитализац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aramond"/>
                <a:ea typeface="Arial"/>
              </a:rPr>
              <a:t>8,271 </a:t>
            </a:r>
            <a:r>
              <a:rPr b="0" lang="ru-RU" sz="2000" spc="-1" strike="noStrike">
                <a:solidFill>
                  <a:srgbClr val="ffff00"/>
                </a:solidFill>
                <a:latin typeface="Garamond"/>
                <a:ea typeface="Arial"/>
              </a:rPr>
              <a:t>получали ИГК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Garamond"/>
                <a:ea typeface="Arial"/>
              </a:rPr>
              <a:t>7,497</a:t>
            </a:r>
            <a:r>
              <a:rPr b="0" lang="ru-RU" sz="2000" spc="-1" strike="noStrike">
                <a:solidFill>
                  <a:srgbClr val="ffff00"/>
                </a:solidFill>
                <a:latin typeface="Garamond"/>
                <a:ea typeface="Arial"/>
              </a:rPr>
              <a:t> не получали ИГК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757680" y="6550200"/>
            <a:ext cx="59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Chen D. et al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//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AJRCCM Articles in Press. Published on April 21, 201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380880" y="331920"/>
            <a:ext cx="82882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  <a:ea typeface="Arial"/>
              </a:rPr>
              <a:t>Исходы пневмонии в зависимости от исходного применения ИГК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43" name="Group 2"/>
          <p:cNvGrpSpPr/>
          <p:nvPr/>
        </p:nvGrpSpPr>
        <p:grpSpPr>
          <a:xfrm>
            <a:off x="449280" y="1744560"/>
            <a:ext cx="3747960" cy="3894120"/>
            <a:chOff x="449280" y="1744560"/>
            <a:chExt cx="3747960" cy="3894120"/>
          </a:xfrm>
        </p:grpSpPr>
        <p:pic>
          <p:nvPicPr>
            <p:cNvPr id="244" name="Picture 3" descr=""/>
            <p:cNvPicPr/>
            <p:nvPr/>
          </p:nvPicPr>
          <p:blipFill>
            <a:blip r:embed="rId1"/>
            <a:stretch/>
          </p:blipFill>
          <p:spPr>
            <a:xfrm>
              <a:off x="449280" y="1744560"/>
              <a:ext cx="3747960" cy="38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4"/>
            <p:cNvSpPr/>
            <p:nvPr/>
          </p:nvSpPr>
          <p:spPr>
            <a:xfrm>
              <a:off x="449280" y="1744560"/>
              <a:ext cx="3747960" cy="38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4589640" y="1724040"/>
            <a:ext cx="3843000" cy="3997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1287360" y="5691240"/>
            <a:ext cx="763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30-дневная летальность                         90-дневная летальност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3651120" y="6523200"/>
            <a:ext cx="549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Chen D. et al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//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AJRCCM Articles in Press. Published on April 21, 201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Line 8"/>
          <p:cNvSpPr/>
          <p:nvPr/>
        </p:nvSpPr>
        <p:spPr>
          <a:xfrm flipV="1">
            <a:off x="2314440" y="4557240"/>
            <a:ext cx="812880" cy="14292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Line 9"/>
          <p:cNvSpPr/>
          <p:nvPr/>
        </p:nvSpPr>
        <p:spPr>
          <a:xfrm flipV="1">
            <a:off x="6480000" y="4365360"/>
            <a:ext cx="835200" cy="18252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279520" y="4108320"/>
            <a:ext cx="9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&lt;0.00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6443640" y="396072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&lt;0.00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380880" y="325440"/>
            <a:ext cx="82882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  <a:ea typeface="Arial"/>
              </a:rPr>
              <a:t>Исходы пневмонии в зависимости от исходного применения ИГКС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  <a:ea typeface="Arial"/>
              </a:rPr>
              <a:t> (I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54" name="Group 2"/>
          <p:cNvGrpSpPr/>
          <p:nvPr/>
        </p:nvGrpSpPr>
        <p:grpSpPr>
          <a:xfrm>
            <a:off x="776160" y="1803240"/>
            <a:ext cx="3699000" cy="3899160"/>
            <a:chOff x="776160" y="1803240"/>
            <a:chExt cx="3699000" cy="3899160"/>
          </a:xfrm>
        </p:grpSpPr>
        <p:pic>
          <p:nvPicPr>
            <p:cNvPr id="255" name="Picture 3" descr=""/>
            <p:cNvPicPr/>
            <p:nvPr/>
          </p:nvPicPr>
          <p:blipFill>
            <a:blip r:embed="rId1"/>
            <a:stretch/>
          </p:blipFill>
          <p:spPr>
            <a:xfrm>
              <a:off x="776160" y="1803240"/>
              <a:ext cx="3699000" cy="38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"/>
            <p:cNvSpPr/>
            <p:nvPr/>
          </p:nvSpPr>
          <p:spPr>
            <a:xfrm>
              <a:off x="776160" y="1803240"/>
              <a:ext cx="3699000" cy="38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4950000" y="1830240"/>
            <a:ext cx="3690720" cy="3902400"/>
          </a:xfrm>
          <a:prstGeom prst="rect">
            <a:avLst/>
          </a:prstGeom>
          <a:ln w="0">
            <a:noFill/>
          </a:ln>
        </p:spPr>
      </p:pic>
      <p:sp>
        <p:nvSpPr>
          <p:cNvPr id="258" name="Line 6"/>
          <p:cNvSpPr/>
          <p:nvPr/>
        </p:nvSpPr>
        <p:spPr>
          <a:xfrm flipV="1">
            <a:off x="2378160" y="2278080"/>
            <a:ext cx="812880" cy="54936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Line 7"/>
          <p:cNvSpPr/>
          <p:nvPr/>
        </p:nvSpPr>
        <p:spPr>
          <a:xfrm flipV="1">
            <a:off x="6564240" y="3492360"/>
            <a:ext cx="763560" cy="18288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2144880" y="199224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=0.00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6502320" y="308628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=N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449280" y="5664240"/>
            <a:ext cx="869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ебывание на ИВЛ                             Применение вазопрессоров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4027320" y="6308640"/>
            <a:ext cx="511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Chen D. et al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//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AJRCCM Articles in Press. Published on April 21, 2011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Text Box 12"/>
          <p:cNvSpPr/>
          <p:nvPr/>
        </p:nvSpPr>
        <p:spPr>
          <a:xfrm rot="16200000">
            <a:off x="-201960" y="337104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% пациент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Text Box 13"/>
          <p:cNvSpPr/>
          <p:nvPr/>
        </p:nvSpPr>
        <p:spPr>
          <a:xfrm rot="16200000">
            <a:off x="3972600" y="341388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% пациент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0" y="177840"/>
            <a:ext cx="91440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  <a:ea typeface="Arial"/>
              </a:rPr>
              <a:t>Летальность у пациентов с ХОБЛ, госпитализированных по поводу пневмони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67" name="Group 2"/>
          <p:cNvGrpSpPr/>
          <p:nvPr/>
        </p:nvGrpSpPr>
        <p:grpSpPr>
          <a:xfrm>
            <a:off x="1509840" y="1514520"/>
            <a:ext cx="6565680" cy="4125960"/>
            <a:chOff x="1509840" y="1514520"/>
            <a:chExt cx="6565680" cy="4125960"/>
          </a:xfrm>
        </p:grpSpPr>
        <p:pic>
          <p:nvPicPr>
            <p:cNvPr id="268" name="Picture 3" descr=""/>
            <p:cNvPicPr/>
            <p:nvPr/>
          </p:nvPicPr>
          <p:blipFill>
            <a:blip r:embed="rId1"/>
            <a:stretch/>
          </p:blipFill>
          <p:spPr>
            <a:xfrm>
              <a:off x="1509840" y="1514520"/>
              <a:ext cx="6565680" cy="41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4"/>
            <p:cNvSpPr/>
            <p:nvPr/>
          </p:nvSpPr>
          <p:spPr>
            <a:xfrm>
              <a:off x="1509840" y="1514520"/>
              <a:ext cx="6565680" cy="41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70" name="Rectangle 5"/>
          <p:cNvSpPr/>
          <p:nvPr/>
        </p:nvSpPr>
        <p:spPr>
          <a:xfrm>
            <a:off x="4416480" y="5376960"/>
            <a:ext cx="1114200" cy="21096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63636"/>
                </a:solidFill>
                <a:latin typeface="Garamond"/>
              </a:rPr>
              <a:t>Дн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2"/>
          <a:stretch/>
        </p:blipFill>
        <p:spPr>
          <a:xfrm>
            <a:off x="1530360" y="2286000"/>
            <a:ext cx="365040" cy="23526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7"/>
          <p:cNvSpPr/>
          <p:nvPr/>
        </p:nvSpPr>
        <p:spPr>
          <a:xfrm>
            <a:off x="2340000" y="5805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---------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ациенты, получавшие ИГКС ,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n = 242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- - - - - -  пациенты, не получавшие ИГК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n = 393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6571440" y="23194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Garamond"/>
              </a:rPr>
              <a:t>p &lt;0.00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3554280" y="6519960"/>
            <a:ext cx="558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De Molina R. et al; </a:t>
            </a:r>
            <a:r>
              <a:rPr b="0" lang="fr-FR" sz="1400" spc="-1" strike="noStrike">
                <a:solidFill>
                  <a:srgbClr val="ffffff"/>
                </a:solidFill>
                <a:latin typeface="Garamond"/>
              </a:rPr>
              <a:t>Eur Respir J 2010; 36: 751–757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ffff00"/>
                </a:solidFill>
                <a:latin typeface="Garamond"/>
              </a:rPr>
              <a:t>Гиперинфляция легких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500040" y="1523880"/>
            <a:ext cx="8191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ff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Частое событие у больных ХОБЛ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ff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водит к повышению работы дыхания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ff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водит к невыгодной позиции дыхательных мышц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buClr>
                <a:srgbClr val="00ff00"/>
              </a:buClr>
              <a:buFont typeface="Arial"/>
              <a:buChar char="•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дна из основных причин диспное (одышки)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rcRect l="5566" t="0" r="9770" b="0"/>
          <a:stretch/>
        </p:blipFill>
        <p:spPr>
          <a:xfrm>
            <a:off x="2506680" y="3809880"/>
            <a:ext cx="1760400" cy="21193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"/>
          <p:cNvSpPr/>
          <p:nvPr/>
        </p:nvSpPr>
        <p:spPr>
          <a:xfrm>
            <a:off x="1084320" y="4672080"/>
            <a:ext cx="1127160" cy="429120"/>
          </a:xfrm>
          <a:prstGeom prst="rect">
            <a:avLst/>
          </a:prstGeom>
          <a:solidFill>
            <a:srgbClr val="6c44af"/>
          </a:solidFill>
          <a:ln cap="sq"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орм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6629400" y="4675320"/>
            <a:ext cx="2355840" cy="429120"/>
          </a:xfrm>
          <a:prstGeom prst="rect">
            <a:avLst/>
          </a:prstGeom>
          <a:solidFill>
            <a:srgbClr val="6c44af"/>
          </a:solidFill>
          <a:ln cap="sq"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иперинфляция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2"/>
          <a:stretch/>
        </p:blipFill>
        <p:spPr>
          <a:xfrm>
            <a:off x="4808520" y="3809880"/>
            <a:ext cx="161136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0" y="257040"/>
            <a:ext cx="91440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Терапия ХОБЛ: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бронхолити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24000" y="197820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51"/>
              </a:spcBef>
              <a:buClr>
                <a:srgbClr val="00ff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Бронхолитики являются основными препаратами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для симптоматического лечения ХОБЛ </a:t>
            </a:r>
            <a:r>
              <a:rPr b="0" lang="ru-RU" sz="3000" spc="-1" strike="noStrike">
                <a:solidFill>
                  <a:srgbClr val="003399"/>
                </a:solidFill>
                <a:latin typeface="Garamond"/>
              </a:rPr>
              <a:t>(</a:t>
            </a:r>
            <a:r>
              <a:rPr b="1" lang="ru-RU" sz="3000" spc="-1" strike="noStrike">
                <a:solidFill>
                  <a:srgbClr val="ffcc00"/>
                </a:solidFill>
                <a:latin typeface="Garamond"/>
              </a:rPr>
              <a:t>уровень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ffcc00"/>
                </a:solidFill>
                <a:latin typeface="Garamond"/>
              </a:rPr>
              <a:t>доказательности А</a:t>
            </a:r>
            <a:r>
              <a:rPr b="0" lang="ru-RU" sz="3000" spc="-1" strike="noStrike">
                <a:solidFill>
                  <a:srgbClr val="003399"/>
                </a:solidFill>
                <a:latin typeface="Garamond"/>
              </a:rPr>
              <a:t>)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51"/>
              </a:spcBef>
              <a:buClr>
                <a:srgbClr val="00ff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лановое лечение длительнодействующими бронхолитиками более эффективно и удобно, чем применение короткодействующих бронхолитиков </a:t>
            </a:r>
            <a:r>
              <a:rPr b="0" lang="ru-RU" sz="3000" spc="-1" strike="noStrike">
                <a:solidFill>
                  <a:srgbClr val="003399"/>
                </a:solidFill>
                <a:latin typeface="Garamond"/>
              </a:rPr>
              <a:t>(</a:t>
            </a:r>
            <a:r>
              <a:rPr b="1" lang="ru-RU" sz="3000" spc="-1" strike="noStrike">
                <a:solidFill>
                  <a:srgbClr val="ffcc00"/>
                </a:solidFill>
                <a:latin typeface="Garamond"/>
              </a:rPr>
              <a:t>уровень доказательности А</a:t>
            </a:r>
            <a:r>
              <a:rPr b="0" lang="ru-RU" sz="3000" spc="-1" strike="noStrike">
                <a:solidFill>
                  <a:srgbClr val="003399"/>
                </a:solidFill>
                <a:latin typeface="Garamond"/>
              </a:rPr>
              <a:t>)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592520" y="6548400"/>
            <a:ext cx="4598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GOLD Executive Summary</a:t>
            </a:r>
            <a:r>
              <a:rPr b="0" i="1" lang="ru-RU" sz="1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Eur Respir J 2007; 176: 532-555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068480" cy="10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324000" y="228600"/>
            <a:ext cx="8667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Антихолинергические препараты – препараты первой линии при терапии ХОБ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763640" y="2492280"/>
            <a:ext cx="7201080" cy="4365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886e0"/>
              </a:gs>
              <a:gs pos="100000">
                <a:srgbClr val="ffffff"/>
              </a:gs>
            </a:gsLst>
            <a:lin ang="5400000"/>
          </a:gra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При ХОБЛ на просвет бронхов значительно  большее влияние оказывает бронхомоторный тонус, обусловленный </a:t>
            </a:r>
            <a:r>
              <a:rPr b="0" i="1" lang="ru-RU" sz="2800" spc="-1" strike="noStrike">
                <a:solidFill>
                  <a:srgbClr val="ff0000"/>
                </a:solidFill>
                <a:latin typeface="Garamond"/>
              </a:rPr>
              <a:t>активностью блуждающего нер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514"/>
                </a:solidFill>
                <a:latin typeface="Garamond"/>
              </a:rPr>
              <a:t>Характерной особенностью слизистой респираторного тракта у пожилых является уменьшение числа и чувствительности </a:t>
            </a:r>
            <a:r>
              <a:rPr b="0" lang="el-GR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β</a:t>
            </a:r>
            <a:r>
              <a:rPr b="0" lang="ru-RU" sz="2800" spc="-1" strike="noStrike" baseline="-25000">
                <a:solidFill>
                  <a:srgbClr val="000514"/>
                </a:solidFill>
                <a:latin typeface="Garamond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514"/>
                </a:solidFill>
                <a:latin typeface="Garamond"/>
                <a:ea typeface="Times New Roman"/>
              </a:rPr>
              <a:t>-рецепторов при </a:t>
            </a:r>
            <a:r>
              <a:rPr b="0" i="1" lang="ru-RU" sz="2800" spc="-1" strike="noStrike">
                <a:solidFill>
                  <a:srgbClr val="ff0000"/>
                </a:solidFill>
                <a:latin typeface="Garamond"/>
                <a:ea typeface="Times New Roman"/>
              </a:rPr>
              <a:t>сохранении плотности и чувствительности холинергических рецептор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1547640" y="1628640"/>
            <a:ext cx="1224000" cy="79236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ffff00"/>
              </a:gs>
              <a:gs pos="100000">
                <a:srgbClr val="00cc99"/>
              </a:gs>
            </a:gsLst>
            <a:lin ang="5400000"/>
          </a:gradFill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натомо-физиологические особенности пожилы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428760" y="200016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игидность грудной клет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нижение эластичности лёгочной тка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меньшение силы дыхательных мыш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нижение скорости выдох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величение остаточного объёма лёгки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"/>
          <p:cNvSpPr/>
          <p:nvPr/>
        </p:nvSpPr>
        <p:spPr>
          <a:xfrm>
            <a:off x="2587680" y="100080"/>
            <a:ext cx="3840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Бронхолитик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155520" y="692280"/>
            <a:ext cx="2816280" cy="68580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Β</a:t>
            </a:r>
            <a:r>
              <a:rPr b="1" lang="ru-RU" sz="1800" spc="-1" strike="noStrike" baseline="-25000">
                <a:solidFill>
                  <a:srgbClr val="000514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-агонисты БД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(фенотерол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043680" y="836640"/>
            <a:ext cx="2906640" cy="68580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Холинолити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514"/>
                </a:solidFill>
                <a:latin typeface="Times New Roman"/>
              </a:rPr>
              <a:t>(ипратропия бромид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2160" y="1701720"/>
            <a:ext cx="4224240" cy="244800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51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Times New Roman"/>
              </a:rPr>
              <a:t>Расслабляют гладкую мускулатур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Times New Roman"/>
              </a:rPr>
              <a:t>бронхов, воздействуя на </a:t>
            </a:r>
            <a:r>
              <a:rPr b="0" lang="el-GR" sz="1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β</a:t>
            </a:r>
            <a:r>
              <a:rPr b="0" lang="ru-RU" sz="1800" spc="-1" strike="noStrike" baseline="-25000">
                <a:solidFill>
                  <a:srgbClr val="000514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-рецептор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51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Times New Roman"/>
              </a:rPr>
              <a:t>Оказывают бронхорасширяющий эффек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51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Times New Roman"/>
              </a:rPr>
              <a:t>Усиливают МЦ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51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Times New Roman"/>
              </a:rPr>
              <a:t>Снижают сосудистую проницаемо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51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Times New Roman"/>
              </a:rPr>
              <a:t>Подавляют высвобождение медиаторо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Times New Roman"/>
              </a:rPr>
              <a:t>из тучных клето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700520" y="1700280"/>
            <a:ext cx="4443480" cy="2449440"/>
          </a:xfrm>
          <a:prstGeom prst="rect">
            <a:avLst/>
          </a:prstGeom>
          <a:solidFill>
            <a:srgbClr val="ffff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51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Times New Roman"/>
              </a:rPr>
              <a:t>Оказывают бронхорасширяющий эффект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Times New Roman"/>
              </a:rPr>
              <a:t>блокируя действие ацетилхолина 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Times New Roman"/>
              </a:rPr>
              <a:t>уровне М3 и М2-рецепторов дыхательны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Times New Roman"/>
              </a:rPr>
              <a:t>путе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51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Times New Roman"/>
              </a:rPr>
              <a:t>Блокируют рефлекторную бронхокон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Times New Roman"/>
              </a:rPr>
              <a:t>стрикцию, вызванную вдыхание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Times New Roman"/>
              </a:rPr>
              <a:t>раздражающих вещест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2235240" y="5257800"/>
            <a:ext cx="4470480" cy="137160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50000">
                <a:srgbClr val="003399"/>
              </a:gs>
              <a:gs pos="100000">
                <a:srgbClr val="fff200"/>
              </a:gs>
            </a:gsLst>
            <a:lin ang="5400000"/>
          </a:gra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Беродуа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(сочетание фенотерола 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ипратропия бромида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03040" y="4629240"/>
            <a:ext cx="2897280" cy="528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Быстрое действ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5213520" y="4653000"/>
            <a:ext cx="3792240" cy="528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Продолжительное действ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AutoShape 9"/>
          <p:cNvSpPr/>
          <p:nvPr/>
        </p:nvSpPr>
        <p:spPr>
          <a:xfrm>
            <a:off x="1500120" y="4119480"/>
            <a:ext cx="406440" cy="533520"/>
          </a:xfrm>
          <a:prstGeom prst="downArrow">
            <a:avLst>
              <a:gd name="adj1" fmla="val 50000"/>
              <a:gd name="adj2" fmla="val 32817"/>
            </a:avLst>
          </a:prstGeom>
          <a:solidFill>
            <a:srgbClr val="ffff35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AutoShape 10"/>
          <p:cNvSpPr/>
          <p:nvPr/>
        </p:nvSpPr>
        <p:spPr>
          <a:xfrm>
            <a:off x="7067520" y="4119480"/>
            <a:ext cx="339840" cy="533520"/>
          </a:xfrm>
          <a:prstGeom prst="downArrow">
            <a:avLst>
              <a:gd name="adj1" fmla="val 50000"/>
              <a:gd name="adj2" fmla="val 39248"/>
            </a:avLst>
          </a:prstGeom>
          <a:solidFill>
            <a:srgbClr val="ffff35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AutoShape 11"/>
          <p:cNvSpPr/>
          <p:nvPr/>
        </p:nvSpPr>
        <p:spPr>
          <a:xfrm>
            <a:off x="1625760" y="5181480"/>
            <a:ext cx="609480" cy="990720"/>
          </a:xfrm>
          <a:custGeom>
            <a:avLst/>
            <a:gdLst>
              <a:gd name="textAreaLeft" fmla="*/ 81360 w 609480"/>
              <a:gd name="textAreaRight" fmla="*/ 528120 w 60948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AutoShape 12"/>
          <p:cNvSpPr/>
          <p:nvPr/>
        </p:nvSpPr>
        <p:spPr>
          <a:xfrm>
            <a:off x="6705720" y="5181480"/>
            <a:ext cx="677880" cy="914400"/>
          </a:xfrm>
          <a:custGeom>
            <a:avLst/>
            <a:gdLst>
              <a:gd name="textAreaLeft" fmla="*/ 90720 w 677880"/>
              <a:gd name="textAreaRight" fmla="*/ 587160 w 67788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135000" y="6324480"/>
            <a:ext cx="2068560" cy="457200"/>
          </a:xfrm>
          <a:prstGeom prst="rect">
            <a:avLst/>
          </a:prstGeom>
          <a:solidFill>
            <a:srgbClr val="ffff35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514"/>
                </a:solidFill>
                <a:latin typeface="Times New Roman"/>
              </a:rPr>
              <a:t>Лучший эффект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535800" y="6280200"/>
            <a:ext cx="2581200" cy="533520"/>
          </a:xfrm>
          <a:prstGeom prst="rect">
            <a:avLst/>
          </a:prstGeom>
          <a:solidFill>
            <a:srgbClr val="ffff35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514"/>
                </a:solidFill>
                <a:latin typeface="Times New Roman"/>
              </a:rPr>
              <a:t>Меньше нежелательных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514"/>
                </a:solidFill>
                <a:latin typeface="Times New Roman"/>
              </a:rPr>
              <a:t>явлений</a:t>
            </a:r>
            <a:endParaRPr b="0" lang="en-US" sz="1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AutoShape 15"/>
          <p:cNvSpPr/>
          <p:nvPr/>
        </p:nvSpPr>
        <p:spPr>
          <a:xfrm rot="4140000">
            <a:off x="2451600" y="6150600"/>
            <a:ext cx="227160" cy="812880"/>
          </a:xfrm>
          <a:prstGeom prst="downArrow">
            <a:avLst>
              <a:gd name="adj1" fmla="val 50000"/>
              <a:gd name="adj2" fmla="val 89461"/>
            </a:avLst>
          </a:prstGeom>
          <a:solidFill>
            <a:srgbClr val="ffff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AutoShape 16"/>
          <p:cNvSpPr/>
          <p:nvPr/>
        </p:nvSpPr>
        <p:spPr>
          <a:xfrm rot="17700000">
            <a:off x="6153840" y="6208920"/>
            <a:ext cx="222120" cy="709920"/>
          </a:xfrm>
          <a:prstGeom prst="downArrow">
            <a:avLst>
              <a:gd name="adj1" fmla="val 50000"/>
              <a:gd name="adj2" fmla="val 79903"/>
            </a:avLst>
          </a:prstGeom>
          <a:solidFill>
            <a:srgbClr val="ffff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AutoShape 17"/>
          <p:cNvSpPr/>
          <p:nvPr/>
        </p:nvSpPr>
        <p:spPr>
          <a:xfrm rot="2820000">
            <a:off x="2629440" y="948240"/>
            <a:ext cx="1584360" cy="639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AutoShape 18"/>
          <p:cNvSpPr/>
          <p:nvPr/>
        </p:nvSpPr>
        <p:spPr>
          <a:xfrm rot="1140000">
            <a:off x="4963680" y="714240"/>
            <a:ext cx="935280" cy="1143000"/>
          </a:xfrm>
          <a:custGeom>
            <a:avLst/>
            <a:gdLst>
              <a:gd name="textAreaLeft" fmla="*/ 125280 w 935280"/>
              <a:gd name="textAreaRight" fmla="*/ 810000 w 93528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762120" y="380880"/>
            <a:ext cx="800244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685800" y="1600200"/>
            <a:ext cx="807876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6205680" y="6157800"/>
            <a:ext cx="26683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324000" y="-39600"/>
            <a:ext cx="8820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СПИРИВА: показания к применению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8580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пирива показана в качестве поддерживающей терапии у пациентов с ХОБЛ (поддерживающая терапия при сохраняющейся одышке и для предупреждения обострений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11" name="Group 6"/>
          <p:cNvGrpSpPr/>
          <p:nvPr/>
        </p:nvGrpSpPr>
        <p:grpSpPr>
          <a:xfrm>
            <a:off x="289080" y="2990880"/>
            <a:ext cx="6441840" cy="3581280"/>
            <a:chOff x="289080" y="2990880"/>
            <a:chExt cx="6441840" cy="3581280"/>
          </a:xfrm>
        </p:grpSpPr>
        <p:pic>
          <p:nvPicPr>
            <p:cNvPr id="312" name="Picture 7" descr=""/>
            <p:cNvPicPr/>
            <p:nvPr/>
          </p:nvPicPr>
          <p:blipFill>
            <a:blip r:embed="rId1"/>
            <a:stretch/>
          </p:blipFill>
          <p:spPr>
            <a:xfrm>
              <a:off x="289080" y="2990880"/>
              <a:ext cx="644184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8"/>
            <p:cNvSpPr/>
            <p:nvPr/>
          </p:nvSpPr>
          <p:spPr>
            <a:xfrm>
              <a:off x="289080" y="2990880"/>
              <a:ext cx="644184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314" name="Group 9"/>
          <p:cNvGrpSpPr/>
          <p:nvPr/>
        </p:nvGrpSpPr>
        <p:grpSpPr>
          <a:xfrm>
            <a:off x="7129440" y="4005360"/>
            <a:ext cx="1617840" cy="2014560"/>
            <a:chOff x="7129440" y="4005360"/>
            <a:chExt cx="1617840" cy="2014560"/>
          </a:xfrm>
        </p:grpSpPr>
        <p:pic>
          <p:nvPicPr>
            <p:cNvPr id="315" name="Picture 10" descr=""/>
            <p:cNvPicPr/>
            <p:nvPr/>
          </p:nvPicPr>
          <p:blipFill>
            <a:blip r:embed="rId2"/>
            <a:stretch/>
          </p:blipFill>
          <p:spPr>
            <a:xfrm>
              <a:off x="7139160" y="4014720"/>
              <a:ext cx="159840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Rectangle 11"/>
            <p:cNvSpPr/>
            <p:nvPr/>
          </p:nvSpPr>
          <p:spPr>
            <a:xfrm>
              <a:off x="7129440" y="4005360"/>
              <a:ext cx="161784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317" name="Group 12"/>
          <p:cNvGrpSpPr/>
          <p:nvPr/>
        </p:nvGrpSpPr>
        <p:grpSpPr>
          <a:xfrm>
            <a:off x="7126200" y="2997360"/>
            <a:ext cx="1619280" cy="877680"/>
            <a:chOff x="7126200" y="2997360"/>
            <a:chExt cx="1619280" cy="877680"/>
          </a:xfrm>
        </p:grpSpPr>
        <p:pic>
          <p:nvPicPr>
            <p:cNvPr id="318" name="Picture 13" descr=""/>
            <p:cNvPicPr/>
            <p:nvPr/>
          </p:nvPicPr>
          <p:blipFill>
            <a:blip r:embed="rId3"/>
            <a:stretch/>
          </p:blipFill>
          <p:spPr>
            <a:xfrm>
              <a:off x="7134120" y="3006720"/>
              <a:ext cx="16020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Rectangle 14"/>
            <p:cNvSpPr/>
            <p:nvPr/>
          </p:nvSpPr>
          <p:spPr>
            <a:xfrm>
              <a:off x="7126200" y="2997360"/>
              <a:ext cx="1619280" cy="87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" descr=""/>
          <p:cNvPicPr/>
          <p:nvPr/>
        </p:nvPicPr>
        <p:blipFill>
          <a:blip r:embed="rId1"/>
          <a:stretch/>
        </p:blipFill>
        <p:spPr>
          <a:xfrm>
            <a:off x="539640" y="1233360"/>
            <a:ext cx="6548400" cy="54896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"/>
          <p:cNvSpPr/>
          <p:nvPr/>
        </p:nvSpPr>
        <p:spPr>
          <a:xfrm>
            <a:off x="7205760" y="6289560"/>
            <a:ext cx="18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 Narrow"/>
              </a:rPr>
              <a:t>Hasegawa et al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 Narrow"/>
              </a:rPr>
              <a:t>Thorax 2009; 64: 332–338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0" y="44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Тиотропий расширяет как проксимальные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так и дистальные дыхательные пу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Freeform 4"/>
          <p:cNvSpPr/>
          <p:nvPr/>
        </p:nvSpPr>
        <p:spPr>
          <a:xfrm>
            <a:off x="6289560" y="5927760"/>
            <a:ext cx="117720" cy="150840"/>
          </a:xfrm>
          <a:custGeom>
            <a:avLst/>
            <a:gdLst>
              <a:gd name="textAreaLeft" fmla="*/ 0 w 117720"/>
              <a:gd name="textAreaRight" fmla="*/ 118080 w 1177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17719" h="150135">
                <a:moveTo>
                  <a:pt x="22774" y="149568"/>
                </a:moveTo>
                <a:cubicBezTo>
                  <a:pt x="30139" y="150135"/>
                  <a:pt x="36047" y="143560"/>
                  <a:pt x="73763" y="139370"/>
                </a:cubicBezTo>
                <a:cubicBezTo>
                  <a:pt x="81179" y="117120"/>
                  <a:pt x="70879" y="138957"/>
                  <a:pt x="87360" y="125773"/>
                </a:cubicBezTo>
                <a:cubicBezTo>
                  <a:pt x="90550" y="123221"/>
                  <a:pt x="91893" y="118974"/>
                  <a:pt x="94159" y="115575"/>
                </a:cubicBezTo>
                <a:cubicBezTo>
                  <a:pt x="96059" y="107975"/>
                  <a:pt x="101046" y="86548"/>
                  <a:pt x="104356" y="81583"/>
                </a:cubicBezTo>
                <a:lnTo>
                  <a:pt x="111155" y="71385"/>
                </a:lnTo>
                <a:cubicBezTo>
                  <a:pt x="117719" y="51690"/>
                  <a:pt x="116294" y="60601"/>
                  <a:pt x="111155" y="27194"/>
                </a:cubicBezTo>
                <a:cubicBezTo>
                  <a:pt x="110610" y="23653"/>
                  <a:pt x="110289" y="19530"/>
                  <a:pt x="107756" y="16997"/>
                </a:cubicBezTo>
                <a:cubicBezTo>
                  <a:pt x="105222" y="14463"/>
                  <a:pt x="100957" y="14730"/>
                  <a:pt x="97558" y="13597"/>
                </a:cubicBezTo>
                <a:cubicBezTo>
                  <a:pt x="96425" y="10198"/>
                  <a:pt x="96957" y="5638"/>
                  <a:pt x="94159" y="3400"/>
                </a:cubicBezTo>
                <a:cubicBezTo>
                  <a:pt x="90511" y="481"/>
                  <a:pt x="85234" y="0"/>
                  <a:pt x="80562" y="0"/>
                </a:cubicBezTo>
                <a:cubicBezTo>
                  <a:pt x="75890" y="0"/>
                  <a:pt x="71397" y="1923"/>
                  <a:pt x="66965" y="3400"/>
                </a:cubicBezTo>
                <a:cubicBezTo>
                  <a:pt x="50329" y="8945"/>
                  <a:pt x="52264" y="8667"/>
                  <a:pt x="39771" y="16997"/>
                </a:cubicBezTo>
                <a:cubicBezTo>
                  <a:pt x="31222" y="42637"/>
                  <a:pt x="42756" y="11023"/>
                  <a:pt x="29573" y="37392"/>
                </a:cubicBezTo>
                <a:cubicBezTo>
                  <a:pt x="25468" y="45603"/>
                  <a:pt x="27494" y="51293"/>
                  <a:pt x="19375" y="57788"/>
                </a:cubicBezTo>
                <a:cubicBezTo>
                  <a:pt x="16577" y="60026"/>
                  <a:pt x="12576" y="60054"/>
                  <a:pt x="9177" y="61187"/>
                </a:cubicBezTo>
                <a:cubicBezTo>
                  <a:pt x="1130" y="85330"/>
                  <a:pt x="0" y="84475"/>
                  <a:pt x="9177" y="125773"/>
                </a:cubicBezTo>
                <a:cubicBezTo>
                  <a:pt x="10231" y="130516"/>
                  <a:pt x="26135" y="134825"/>
                  <a:pt x="29573" y="135971"/>
                </a:cubicBezTo>
                <a:cubicBezTo>
                  <a:pt x="37000" y="147111"/>
                  <a:pt x="15409" y="149002"/>
                  <a:pt x="22774" y="149568"/>
                </a:cubicBezTo>
                <a:close/>
              </a:path>
            </a:pathLst>
          </a:custGeom>
          <a:solidFill>
            <a:srgbClr val="c00000">
              <a:alpha val="34000"/>
            </a:srgbClr>
          </a:solid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Freeform 5"/>
          <p:cNvSpPr/>
          <p:nvPr/>
        </p:nvSpPr>
        <p:spPr>
          <a:xfrm>
            <a:off x="6192720" y="3267000"/>
            <a:ext cx="79560" cy="77760"/>
          </a:xfrm>
          <a:custGeom>
            <a:avLst/>
            <a:gdLst>
              <a:gd name="textAreaLeft" fmla="*/ 0 w 79560"/>
              <a:gd name="textAreaRight" fmla="*/ 79920 w 795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78330" h="78182">
                <a:moveTo>
                  <a:pt x="61334" y="3399"/>
                </a:moveTo>
                <a:cubicBezTo>
                  <a:pt x="57935" y="1133"/>
                  <a:pt x="54719" y="0"/>
                  <a:pt x="51136" y="0"/>
                </a:cubicBezTo>
                <a:cubicBezTo>
                  <a:pt x="42933" y="0"/>
                  <a:pt x="31989" y="4116"/>
                  <a:pt x="23942" y="6798"/>
                </a:cubicBezTo>
                <a:cubicBezTo>
                  <a:pt x="6018" y="18748"/>
                  <a:pt x="19125" y="6706"/>
                  <a:pt x="10345" y="27194"/>
                </a:cubicBezTo>
                <a:cubicBezTo>
                  <a:pt x="8736" y="30949"/>
                  <a:pt x="5374" y="33737"/>
                  <a:pt x="3547" y="37391"/>
                </a:cubicBezTo>
                <a:cubicBezTo>
                  <a:pt x="1944" y="40596"/>
                  <a:pt x="1280" y="44190"/>
                  <a:pt x="147" y="47589"/>
                </a:cubicBezTo>
                <a:cubicBezTo>
                  <a:pt x="1280" y="52121"/>
                  <a:pt x="0" y="58146"/>
                  <a:pt x="3547" y="61186"/>
                </a:cubicBezTo>
                <a:cubicBezTo>
                  <a:pt x="8988" y="65850"/>
                  <a:pt x="17144" y="65719"/>
                  <a:pt x="23942" y="67985"/>
                </a:cubicBezTo>
                <a:cubicBezTo>
                  <a:pt x="38018" y="72677"/>
                  <a:pt x="31156" y="69395"/>
                  <a:pt x="44338" y="78182"/>
                </a:cubicBezTo>
                <a:cubicBezTo>
                  <a:pt x="47737" y="77049"/>
                  <a:pt x="52002" y="77316"/>
                  <a:pt x="54535" y="74783"/>
                </a:cubicBezTo>
                <a:cubicBezTo>
                  <a:pt x="60313" y="69005"/>
                  <a:pt x="60381" y="56972"/>
                  <a:pt x="68132" y="54388"/>
                </a:cubicBezTo>
                <a:lnTo>
                  <a:pt x="78330" y="50988"/>
                </a:lnTo>
                <a:cubicBezTo>
                  <a:pt x="77197" y="41923"/>
                  <a:pt x="76565" y="32782"/>
                  <a:pt x="74931" y="23794"/>
                </a:cubicBezTo>
                <a:cubicBezTo>
                  <a:pt x="74290" y="20269"/>
                  <a:pt x="74065" y="16130"/>
                  <a:pt x="71532" y="13597"/>
                </a:cubicBezTo>
                <a:cubicBezTo>
                  <a:pt x="60259" y="2324"/>
                  <a:pt x="64733" y="5665"/>
                  <a:pt x="61334" y="3399"/>
                </a:cubicBezTo>
                <a:close/>
              </a:path>
            </a:pathLst>
          </a:custGeom>
          <a:solidFill>
            <a:srgbClr val="c00000">
              <a:alpha val="34000"/>
            </a:srgbClr>
          </a:solidFill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1500120" y="2629080"/>
            <a:ext cx="6357960" cy="3728880"/>
          </a:xfrm>
          <a:prstGeom prst="rect">
            <a:avLst/>
          </a:prstGeom>
          <a:solidFill>
            <a:srgbClr val="003399"/>
          </a:solidFill>
          <a:ln cap="sq"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26" name="Group 2"/>
          <p:cNvGrpSpPr/>
          <p:nvPr/>
        </p:nvGrpSpPr>
        <p:grpSpPr>
          <a:xfrm>
            <a:off x="1595520" y="2646360"/>
            <a:ext cx="6095880" cy="3555720"/>
            <a:chOff x="1595520" y="2646360"/>
            <a:chExt cx="6095880" cy="3555720"/>
          </a:xfrm>
        </p:grpSpPr>
        <p:sp>
          <p:nvSpPr>
            <p:cNvPr id="327" name="Rectangle 3"/>
            <p:cNvSpPr/>
            <p:nvPr/>
          </p:nvSpPr>
          <p:spPr>
            <a:xfrm>
              <a:off x="1595520" y="2646360"/>
              <a:ext cx="1022400" cy="2091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just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сследование / Год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8" name="Rectangle 4"/>
            <p:cNvSpPr/>
            <p:nvPr/>
          </p:nvSpPr>
          <p:spPr>
            <a:xfrm>
              <a:off x="2617920" y="2646360"/>
              <a:ext cx="868320" cy="2091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олиноблокаторы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/N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29" name="Rectangle 5"/>
            <p:cNvSpPr/>
            <p:nvPr/>
          </p:nvSpPr>
          <p:spPr>
            <a:xfrm>
              <a:off x="3486240" y="2646360"/>
              <a:ext cx="880920" cy="2091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лацебо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/N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0" name="Rectangle 6"/>
            <p:cNvSpPr/>
            <p:nvPr/>
          </p:nvSpPr>
          <p:spPr>
            <a:xfrm>
              <a:off x="4367160" y="2646360"/>
              <a:ext cx="1774800" cy="34963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1" name="Rectangle 7"/>
            <p:cNvSpPr/>
            <p:nvPr/>
          </p:nvSpPr>
          <p:spPr>
            <a:xfrm>
              <a:off x="6141960" y="2646360"/>
              <a:ext cx="731880" cy="2091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есовая функция, %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2" name="Rectangle 8"/>
            <p:cNvSpPr/>
            <p:nvPr/>
          </p:nvSpPr>
          <p:spPr>
            <a:xfrm>
              <a:off x="6873840" y="2646360"/>
              <a:ext cx="817560" cy="2091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тносительный риск [95%-ДИ]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3" name="Rectangle 9"/>
            <p:cNvSpPr/>
            <p:nvPr/>
          </p:nvSpPr>
          <p:spPr>
            <a:xfrm>
              <a:off x="1595520" y="2855520"/>
              <a:ext cx="1890720" cy="2073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8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. Выведение из исследования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4" name="Rectangle 10"/>
            <p:cNvSpPr/>
            <p:nvPr/>
          </p:nvSpPr>
          <p:spPr>
            <a:xfrm>
              <a:off x="3486240" y="2855520"/>
              <a:ext cx="880920" cy="2073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5" name="Rectangle 11"/>
            <p:cNvSpPr/>
            <p:nvPr/>
          </p:nvSpPr>
          <p:spPr>
            <a:xfrm>
              <a:off x="6141960" y="2855520"/>
              <a:ext cx="73188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6" name="Rectangle 12"/>
            <p:cNvSpPr/>
            <p:nvPr/>
          </p:nvSpPr>
          <p:spPr>
            <a:xfrm>
              <a:off x="6873840" y="2855520"/>
              <a:ext cx="81756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7" name="Rectangle 13"/>
            <p:cNvSpPr/>
            <p:nvPr/>
          </p:nvSpPr>
          <p:spPr>
            <a:xfrm>
              <a:off x="6141960" y="2959920"/>
              <a:ext cx="731880" cy="20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.50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8" name="Rectangle 14"/>
            <p:cNvSpPr/>
            <p:nvPr/>
          </p:nvSpPr>
          <p:spPr>
            <a:xfrm>
              <a:off x="6873840" y="2959920"/>
              <a:ext cx="817560" cy="2077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60 [0.30, 1.20]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39" name="Rectangle 15"/>
            <p:cNvSpPr/>
            <p:nvPr/>
          </p:nvSpPr>
          <p:spPr>
            <a:xfrm>
              <a:off x="1595520" y="3062880"/>
              <a:ext cx="102240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sasco 2003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0" name="Rectangle 16"/>
            <p:cNvSpPr/>
            <p:nvPr/>
          </p:nvSpPr>
          <p:spPr>
            <a:xfrm>
              <a:off x="2617920" y="3062880"/>
              <a:ext cx="86832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/402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1" name="Rectangle 17"/>
            <p:cNvSpPr/>
            <p:nvPr/>
          </p:nvSpPr>
          <p:spPr>
            <a:xfrm>
              <a:off x="3486240" y="3062880"/>
              <a:ext cx="88092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0/400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2" name="Rectangle 18"/>
            <p:cNvSpPr/>
            <p:nvPr/>
          </p:nvSpPr>
          <p:spPr>
            <a:xfrm>
              <a:off x="1595520" y="3168000"/>
              <a:ext cx="102240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saburi 2002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3" name="Rectangle 19"/>
            <p:cNvSpPr/>
            <p:nvPr/>
          </p:nvSpPr>
          <p:spPr>
            <a:xfrm>
              <a:off x="2617920" y="3168000"/>
              <a:ext cx="86832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0/550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4" name="Rectangle 20"/>
            <p:cNvSpPr/>
            <p:nvPr/>
          </p:nvSpPr>
          <p:spPr>
            <a:xfrm>
              <a:off x="3486240" y="3168000"/>
              <a:ext cx="88092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5/371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5" name="Rectangle 21"/>
            <p:cNvSpPr/>
            <p:nvPr/>
          </p:nvSpPr>
          <p:spPr>
            <a:xfrm>
              <a:off x="6141960" y="3168000"/>
              <a:ext cx="73188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1.90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6" name="Rectangle 22"/>
            <p:cNvSpPr/>
            <p:nvPr/>
          </p:nvSpPr>
          <p:spPr>
            <a:xfrm>
              <a:off x="6873840" y="3168000"/>
              <a:ext cx="81756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58 [0.36, 0.92]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7" name="Rectangle 23"/>
            <p:cNvSpPr/>
            <p:nvPr/>
          </p:nvSpPr>
          <p:spPr>
            <a:xfrm>
              <a:off x="1595520" y="3272400"/>
              <a:ext cx="102240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nohue 2002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8" name="Rectangle 24"/>
            <p:cNvSpPr/>
            <p:nvPr/>
          </p:nvSpPr>
          <p:spPr>
            <a:xfrm>
              <a:off x="2617920" y="3272400"/>
              <a:ext cx="86832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5/209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9" name="Rectangle 25"/>
            <p:cNvSpPr/>
            <p:nvPr/>
          </p:nvSpPr>
          <p:spPr>
            <a:xfrm>
              <a:off x="3486240" y="3272400"/>
              <a:ext cx="88092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3/201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0" name="Rectangle 26"/>
            <p:cNvSpPr/>
            <p:nvPr/>
          </p:nvSpPr>
          <p:spPr>
            <a:xfrm>
              <a:off x="6141960" y="3272400"/>
              <a:ext cx="73188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.28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1" name="Rectangle 27"/>
            <p:cNvSpPr/>
            <p:nvPr/>
          </p:nvSpPr>
          <p:spPr>
            <a:xfrm>
              <a:off x="6873840" y="3272400"/>
              <a:ext cx="81756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21 [0.08, 0.54]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2" name="Rectangle 28"/>
            <p:cNvSpPr/>
            <p:nvPr/>
          </p:nvSpPr>
          <p:spPr>
            <a:xfrm>
              <a:off x="1595520" y="3377160"/>
              <a:ext cx="102240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iewoehner 2005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3" name="Rectangle 29"/>
            <p:cNvSpPr/>
            <p:nvPr/>
          </p:nvSpPr>
          <p:spPr>
            <a:xfrm>
              <a:off x="2617920" y="3377160"/>
              <a:ext cx="86832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4/914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4" name="Rectangle 30"/>
            <p:cNvSpPr/>
            <p:nvPr/>
          </p:nvSpPr>
          <p:spPr>
            <a:xfrm>
              <a:off x="3486240" y="3377160"/>
              <a:ext cx="88092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87/915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5" name="Rectangle 31"/>
            <p:cNvSpPr/>
            <p:nvPr/>
          </p:nvSpPr>
          <p:spPr>
            <a:xfrm>
              <a:off x="6141960" y="3377160"/>
              <a:ext cx="73188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5.55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6" name="Rectangle 32"/>
            <p:cNvSpPr/>
            <p:nvPr/>
          </p:nvSpPr>
          <p:spPr>
            <a:xfrm>
              <a:off x="6873840" y="3377160"/>
              <a:ext cx="81756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74 [0.54, 1.00]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7" name="Rectangle 33"/>
            <p:cNvSpPr/>
            <p:nvPr/>
          </p:nvSpPr>
          <p:spPr>
            <a:xfrm>
              <a:off x="1595520" y="3481560"/>
              <a:ext cx="102240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ylor 2001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8" name="Rectangle 34"/>
            <p:cNvSpPr/>
            <p:nvPr/>
          </p:nvSpPr>
          <p:spPr>
            <a:xfrm>
              <a:off x="2617920" y="3481560"/>
              <a:ext cx="86832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/379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9" name="Rectangle 35"/>
            <p:cNvSpPr/>
            <p:nvPr/>
          </p:nvSpPr>
          <p:spPr>
            <a:xfrm>
              <a:off x="3486240" y="3481560"/>
              <a:ext cx="88092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5/128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0" name="Rectangle 36"/>
            <p:cNvSpPr/>
            <p:nvPr/>
          </p:nvSpPr>
          <p:spPr>
            <a:xfrm>
              <a:off x="6141960" y="3481560"/>
              <a:ext cx="73188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.92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1" name="Rectangle 37"/>
            <p:cNvSpPr/>
            <p:nvPr/>
          </p:nvSpPr>
          <p:spPr>
            <a:xfrm>
              <a:off x="6873840" y="3481560"/>
              <a:ext cx="81756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74 [0.26, 2.10]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2" name="Rectangle 38"/>
            <p:cNvSpPr/>
            <p:nvPr/>
          </p:nvSpPr>
          <p:spPr>
            <a:xfrm>
              <a:off x="1595520" y="3586320"/>
              <a:ext cx="102240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adbo 2002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3" name="Rectangle 39"/>
            <p:cNvSpPr/>
            <p:nvPr/>
          </p:nvSpPr>
          <p:spPr>
            <a:xfrm>
              <a:off x="2617920" y="3586320"/>
              <a:ext cx="86832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/62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4" name="Rectangle 40"/>
            <p:cNvSpPr/>
            <p:nvPr/>
          </p:nvSpPr>
          <p:spPr>
            <a:xfrm>
              <a:off x="3486240" y="3586320"/>
              <a:ext cx="88092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/60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5" name="Rectangle 41"/>
            <p:cNvSpPr/>
            <p:nvPr/>
          </p:nvSpPr>
          <p:spPr>
            <a:xfrm>
              <a:off x="6141960" y="3586320"/>
              <a:ext cx="73188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5.86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6" name="Rectangle 42"/>
            <p:cNvSpPr/>
            <p:nvPr/>
          </p:nvSpPr>
          <p:spPr>
            <a:xfrm>
              <a:off x="6873840" y="3586320"/>
              <a:ext cx="81756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35 [0.12, 1.04]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7" name="Rectangle 43"/>
            <p:cNvSpPr/>
            <p:nvPr/>
          </p:nvSpPr>
          <p:spPr>
            <a:xfrm>
              <a:off x="1595520" y="3691080"/>
              <a:ext cx="102240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just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8" name="Rectangle 44"/>
            <p:cNvSpPr/>
            <p:nvPr/>
          </p:nvSpPr>
          <p:spPr>
            <a:xfrm>
              <a:off x="2617920" y="3691080"/>
              <a:ext cx="86832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9" name="Rectangle 45"/>
            <p:cNvSpPr/>
            <p:nvPr/>
          </p:nvSpPr>
          <p:spPr>
            <a:xfrm>
              <a:off x="3486240" y="3691080"/>
              <a:ext cx="88092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0" name="Rectangle 46"/>
            <p:cNvSpPr/>
            <p:nvPr/>
          </p:nvSpPr>
          <p:spPr>
            <a:xfrm>
              <a:off x="6141960" y="3691080"/>
              <a:ext cx="73188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1" name="Rectangle 47"/>
            <p:cNvSpPr/>
            <p:nvPr/>
          </p:nvSpPr>
          <p:spPr>
            <a:xfrm>
              <a:off x="6873840" y="3691080"/>
              <a:ext cx="81756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2" name="Rectangle 48"/>
            <p:cNvSpPr/>
            <p:nvPr/>
          </p:nvSpPr>
          <p:spPr>
            <a:xfrm>
              <a:off x="1595520" y="3795840"/>
              <a:ext cx="102240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just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межуточный итог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3" name="Rectangle 49"/>
            <p:cNvSpPr/>
            <p:nvPr/>
          </p:nvSpPr>
          <p:spPr>
            <a:xfrm>
              <a:off x="2617920" y="3795840"/>
              <a:ext cx="86832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6/2516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4" name="Rectangle 50"/>
            <p:cNvSpPr/>
            <p:nvPr/>
          </p:nvSpPr>
          <p:spPr>
            <a:xfrm>
              <a:off x="3486240" y="3795840"/>
              <a:ext cx="88092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81/2075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5" name="Rectangle 51"/>
            <p:cNvSpPr/>
            <p:nvPr/>
          </p:nvSpPr>
          <p:spPr>
            <a:xfrm>
              <a:off x="6141960" y="3795840"/>
              <a:ext cx="73188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0,00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6" name="Rectangle 52"/>
            <p:cNvSpPr/>
            <p:nvPr/>
          </p:nvSpPr>
          <p:spPr>
            <a:xfrm>
              <a:off x="6873840" y="3795840"/>
              <a:ext cx="81756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60 [0.48, 0.75]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7" name="Rectangle 53"/>
            <p:cNvSpPr/>
            <p:nvPr/>
          </p:nvSpPr>
          <p:spPr>
            <a:xfrm>
              <a:off x="1595520" y="3900240"/>
              <a:ext cx="277164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верка на гетерогенность: Chi</a:t>
              </a:r>
              <a:r>
                <a:rPr b="0" lang="ru-RU" sz="7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7.55, df = 5 (P = 0.18), I</a:t>
              </a:r>
              <a:r>
                <a:rPr b="0" lang="ru-RU" sz="7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33.8%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8" name="Rectangle 54"/>
            <p:cNvSpPr/>
            <p:nvPr/>
          </p:nvSpPr>
          <p:spPr>
            <a:xfrm>
              <a:off x="6141960" y="3900240"/>
              <a:ext cx="73188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9" name="Rectangle 55"/>
            <p:cNvSpPr/>
            <p:nvPr/>
          </p:nvSpPr>
          <p:spPr>
            <a:xfrm>
              <a:off x="6873840" y="3900240"/>
              <a:ext cx="81756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0" name="Rectangle 56"/>
            <p:cNvSpPr/>
            <p:nvPr/>
          </p:nvSpPr>
          <p:spPr>
            <a:xfrm>
              <a:off x="1595520" y="4004640"/>
              <a:ext cx="277164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верка на общий эффект: Z = 4.52 (P &lt; 0.00001)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1" name="Rectangle 57"/>
            <p:cNvSpPr/>
            <p:nvPr/>
          </p:nvSpPr>
          <p:spPr>
            <a:xfrm>
              <a:off x="6141960" y="4004640"/>
              <a:ext cx="73188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2" name="Rectangle 58"/>
            <p:cNvSpPr/>
            <p:nvPr/>
          </p:nvSpPr>
          <p:spPr>
            <a:xfrm>
              <a:off x="6873840" y="4004640"/>
              <a:ext cx="81756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3" name="Rectangle 59"/>
            <p:cNvSpPr/>
            <p:nvPr/>
          </p:nvSpPr>
          <p:spPr>
            <a:xfrm>
              <a:off x="1595520" y="4109400"/>
              <a:ext cx="102240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just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4" name="Rectangle 60"/>
            <p:cNvSpPr/>
            <p:nvPr/>
          </p:nvSpPr>
          <p:spPr>
            <a:xfrm>
              <a:off x="2617920" y="4109400"/>
              <a:ext cx="86832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5" name="Rectangle 61"/>
            <p:cNvSpPr/>
            <p:nvPr/>
          </p:nvSpPr>
          <p:spPr>
            <a:xfrm>
              <a:off x="3486240" y="4109400"/>
              <a:ext cx="88092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6" name="Rectangle 62"/>
            <p:cNvSpPr/>
            <p:nvPr/>
          </p:nvSpPr>
          <p:spPr>
            <a:xfrm>
              <a:off x="6141960" y="4109400"/>
              <a:ext cx="73188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7" name="Rectangle 63"/>
            <p:cNvSpPr/>
            <p:nvPr/>
          </p:nvSpPr>
          <p:spPr>
            <a:xfrm>
              <a:off x="6873840" y="4109400"/>
              <a:ext cx="81756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8" name="Rectangle 64"/>
            <p:cNvSpPr/>
            <p:nvPr/>
          </p:nvSpPr>
          <p:spPr>
            <a:xfrm>
              <a:off x="1595520" y="4214160"/>
              <a:ext cx="102240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. Госпитализации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89" name="Rectangle 65"/>
            <p:cNvSpPr/>
            <p:nvPr/>
          </p:nvSpPr>
          <p:spPr>
            <a:xfrm>
              <a:off x="2617920" y="4214160"/>
              <a:ext cx="86832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0" name="Rectangle 66"/>
            <p:cNvSpPr/>
            <p:nvPr/>
          </p:nvSpPr>
          <p:spPr>
            <a:xfrm>
              <a:off x="3486240" y="4214160"/>
              <a:ext cx="88092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1" name="Rectangle 67"/>
            <p:cNvSpPr/>
            <p:nvPr/>
          </p:nvSpPr>
          <p:spPr>
            <a:xfrm>
              <a:off x="6141960" y="4214160"/>
              <a:ext cx="73188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2" name="Rectangle 68"/>
            <p:cNvSpPr/>
            <p:nvPr/>
          </p:nvSpPr>
          <p:spPr>
            <a:xfrm>
              <a:off x="6873840" y="4214160"/>
              <a:ext cx="81756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3" name="Rectangle 69"/>
            <p:cNvSpPr/>
            <p:nvPr/>
          </p:nvSpPr>
          <p:spPr>
            <a:xfrm>
              <a:off x="1595520" y="4318920"/>
              <a:ext cx="102240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>
                <a:lnSpc>
                  <a:spcPct val="9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sasco 2003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4" name="Rectangle 70"/>
            <p:cNvSpPr/>
            <p:nvPr/>
          </p:nvSpPr>
          <p:spPr>
            <a:xfrm>
              <a:off x="2617920" y="4318920"/>
              <a:ext cx="86832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/402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5" name="Rectangle 71"/>
            <p:cNvSpPr/>
            <p:nvPr/>
          </p:nvSpPr>
          <p:spPr>
            <a:xfrm>
              <a:off x="3486240" y="4318920"/>
              <a:ext cx="88092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marL="102240">
                <a:lnSpc>
                  <a:spcPct val="95000"/>
                </a:lnSpc>
                <a:spcBef>
                  <a:spcPts val="300"/>
                </a:spcBef>
                <a:tabLst>
                  <a:tab algn="l" pos="0"/>
                  <a:tab algn="l" pos="103320"/>
                  <a:tab algn="l" pos="1017720"/>
                  <a:tab algn="l" pos="1932120"/>
                  <a:tab algn="l" pos="2846520"/>
                  <a:tab algn="l" pos="3760920"/>
                  <a:tab algn="l" pos="4675320"/>
                  <a:tab algn="l" pos="5589720"/>
                  <a:tab algn="l" pos="6504120"/>
                  <a:tab algn="l" pos="7418520"/>
                  <a:tab algn="l" pos="8332920"/>
                  <a:tab algn="l" pos="9247320"/>
                  <a:tab algn="l" pos="1016172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0/400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6" name="Rectangle 72"/>
            <p:cNvSpPr/>
            <p:nvPr/>
          </p:nvSpPr>
          <p:spPr>
            <a:xfrm>
              <a:off x="6141960" y="4318920"/>
              <a:ext cx="73188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.47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7" name="Rectangle 73"/>
            <p:cNvSpPr/>
            <p:nvPr/>
          </p:nvSpPr>
          <p:spPr>
            <a:xfrm>
              <a:off x="6873840" y="4318920"/>
              <a:ext cx="81756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60 [0.30, 1.20]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8" name="Rectangle 74"/>
            <p:cNvSpPr/>
            <p:nvPr/>
          </p:nvSpPr>
          <p:spPr>
            <a:xfrm>
              <a:off x="1595520" y="4423320"/>
              <a:ext cx="102240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saburi 2002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99" name="Rectangle 75"/>
            <p:cNvSpPr/>
            <p:nvPr/>
          </p:nvSpPr>
          <p:spPr>
            <a:xfrm>
              <a:off x="2617920" y="4423320"/>
              <a:ext cx="86832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0/550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0" name="Rectangle 76"/>
            <p:cNvSpPr/>
            <p:nvPr/>
          </p:nvSpPr>
          <p:spPr>
            <a:xfrm>
              <a:off x="3486240" y="4423320"/>
              <a:ext cx="88092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marL="104760">
                <a:lnSpc>
                  <a:spcPct val="95000"/>
                </a:lnSpc>
                <a:tabLst>
                  <a:tab algn="l" pos="0"/>
                  <a:tab algn="l" pos="104760"/>
                  <a:tab algn="l" pos="1019160"/>
                  <a:tab algn="l" pos="1933560"/>
                  <a:tab algn="l" pos="2847960"/>
                  <a:tab algn="l" pos="3762360"/>
                  <a:tab algn="l" pos="4676760"/>
                  <a:tab algn="l" pos="5591160"/>
                  <a:tab algn="l" pos="6505560"/>
                  <a:tab algn="l" pos="7419960"/>
                  <a:tab algn="l" pos="8334360"/>
                  <a:tab algn="l" pos="9248760"/>
                  <a:tab algn="l" pos="1016316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5/371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1" name="Rectangle 77"/>
            <p:cNvSpPr/>
            <p:nvPr/>
          </p:nvSpPr>
          <p:spPr>
            <a:xfrm>
              <a:off x="6141960" y="4423320"/>
              <a:ext cx="73188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8.09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2" name="Rectangle 78"/>
            <p:cNvSpPr/>
            <p:nvPr/>
          </p:nvSpPr>
          <p:spPr>
            <a:xfrm>
              <a:off x="6873840" y="4423320"/>
              <a:ext cx="81756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58 [0.36, 0.92]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3" name="Rectangle 79"/>
            <p:cNvSpPr/>
            <p:nvPr/>
          </p:nvSpPr>
          <p:spPr>
            <a:xfrm>
              <a:off x="1595520" y="4528080"/>
              <a:ext cx="102240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iewoehner 2005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4" name="Rectangle 80"/>
            <p:cNvSpPr/>
            <p:nvPr/>
          </p:nvSpPr>
          <p:spPr>
            <a:xfrm>
              <a:off x="2617920" y="4528080"/>
              <a:ext cx="86832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4/914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5" name="Rectangle 81"/>
            <p:cNvSpPr/>
            <p:nvPr/>
          </p:nvSpPr>
          <p:spPr>
            <a:xfrm>
              <a:off x="3486240" y="4528080"/>
              <a:ext cx="88092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marL="103680">
                <a:lnSpc>
                  <a:spcPct val="95000"/>
                </a:lnSpc>
                <a:tabLst>
                  <a:tab algn="l" pos="0"/>
                  <a:tab algn="l" pos="104760"/>
                  <a:tab algn="l" pos="1019160"/>
                  <a:tab algn="l" pos="1933560"/>
                  <a:tab algn="l" pos="2847960"/>
                  <a:tab algn="l" pos="3762360"/>
                  <a:tab algn="l" pos="4676760"/>
                  <a:tab algn="l" pos="5591160"/>
                  <a:tab algn="l" pos="6505560"/>
                  <a:tab algn="l" pos="7419960"/>
                  <a:tab algn="l" pos="8334360"/>
                  <a:tab algn="l" pos="9248760"/>
                  <a:tab algn="l" pos="1016316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87/915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6" name="Rectangle 82"/>
            <p:cNvSpPr/>
            <p:nvPr/>
          </p:nvSpPr>
          <p:spPr>
            <a:xfrm>
              <a:off x="6141960" y="4528080"/>
              <a:ext cx="73188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58.43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7" name="Rectangle 83"/>
            <p:cNvSpPr/>
            <p:nvPr/>
          </p:nvSpPr>
          <p:spPr>
            <a:xfrm>
              <a:off x="6873840" y="4528080"/>
              <a:ext cx="81756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74 [0.54, 1.00]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8" name="Rectangle 84"/>
            <p:cNvSpPr/>
            <p:nvPr/>
          </p:nvSpPr>
          <p:spPr>
            <a:xfrm>
              <a:off x="1595520" y="4632480"/>
              <a:ext cx="1022400" cy="2091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just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  <a:p>
              <a:pPr algn="just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межуточный итог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09" name="Rectangle 85"/>
            <p:cNvSpPr/>
            <p:nvPr/>
          </p:nvSpPr>
          <p:spPr>
            <a:xfrm>
              <a:off x="2617920" y="4632480"/>
              <a:ext cx="868320" cy="2091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6/1866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0" name="Rectangle 86"/>
            <p:cNvSpPr/>
            <p:nvPr/>
          </p:nvSpPr>
          <p:spPr>
            <a:xfrm>
              <a:off x="3486240" y="4632480"/>
              <a:ext cx="880920" cy="2091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2/1686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1" name="Rectangle 87"/>
            <p:cNvSpPr/>
            <p:nvPr/>
          </p:nvSpPr>
          <p:spPr>
            <a:xfrm>
              <a:off x="6141960" y="4632480"/>
              <a:ext cx="731880" cy="2091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0,00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2" name="Rectangle 88"/>
            <p:cNvSpPr/>
            <p:nvPr/>
          </p:nvSpPr>
          <p:spPr>
            <a:xfrm>
              <a:off x="6873840" y="4632480"/>
              <a:ext cx="817560" cy="2091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27 [0.09, 0.81]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3" name="Rectangle 89"/>
            <p:cNvSpPr/>
            <p:nvPr/>
          </p:nvSpPr>
          <p:spPr>
            <a:xfrm>
              <a:off x="1595520" y="4842000"/>
              <a:ext cx="277164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верка на гетерогенность: Chi</a:t>
              </a:r>
              <a:r>
                <a:rPr b="0" lang="ru-RU" sz="7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0.84, df = 2 (P = 0.66), I</a:t>
              </a:r>
              <a:r>
                <a:rPr b="0" lang="ru-RU" sz="7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0%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4" name="Rectangle 90"/>
            <p:cNvSpPr/>
            <p:nvPr/>
          </p:nvSpPr>
          <p:spPr>
            <a:xfrm>
              <a:off x="6141960" y="4842000"/>
              <a:ext cx="73188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5" name="Rectangle 91"/>
            <p:cNvSpPr/>
            <p:nvPr/>
          </p:nvSpPr>
          <p:spPr>
            <a:xfrm>
              <a:off x="6873840" y="4842000"/>
              <a:ext cx="81756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6" name="Rectangle 92"/>
            <p:cNvSpPr/>
            <p:nvPr/>
          </p:nvSpPr>
          <p:spPr>
            <a:xfrm>
              <a:off x="1595520" y="4946760"/>
              <a:ext cx="277164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верка на общий эффект: Z = 3.20 (P = 0.001)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7" name="Rectangle 93"/>
            <p:cNvSpPr/>
            <p:nvPr/>
          </p:nvSpPr>
          <p:spPr>
            <a:xfrm>
              <a:off x="6141960" y="4946760"/>
              <a:ext cx="73188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8" name="Rectangle 94"/>
            <p:cNvSpPr/>
            <p:nvPr/>
          </p:nvSpPr>
          <p:spPr>
            <a:xfrm>
              <a:off x="6873840" y="4946760"/>
              <a:ext cx="81756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19" name="Rectangle 95"/>
            <p:cNvSpPr/>
            <p:nvPr/>
          </p:nvSpPr>
          <p:spPr>
            <a:xfrm>
              <a:off x="1595520" y="5051160"/>
              <a:ext cx="277164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20" name="Rectangle 96"/>
            <p:cNvSpPr/>
            <p:nvPr/>
          </p:nvSpPr>
          <p:spPr>
            <a:xfrm>
              <a:off x="6141960" y="5051160"/>
              <a:ext cx="73188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21" name="Rectangle 97"/>
            <p:cNvSpPr/>
            <p:nvPr/>
          </p:nvSpPr>
          <p:spPr>
            <a:xfrm>
              <a:off x="6873840" y="5051160"/>
              <a:ext cx="81756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22" name="Rectangle 98"/>
            <p:cNvSpPr/>
            <p:nvPr/>
          </p:nvSpPr>
          <p:spPr>
            <a:xfrm>
              <a:off x="1595520" y="5155560"/>
              <a:ext cx="277164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. Респираторная смерть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23" name="Rectangle 99"/>
            <p:cNvSpPr/>
            <p:nvPr/>
          </p:nvSpPr>
          <p:spPr>
            <a:xfrm>
              <a:off x="6141960" y="5155560"/>
              <a:ext cx="73188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24" name="Rectangle 100"/>
            <p:cNvSpPr/>
            <p:nvPr/>
          </p:nvSpPr>
          <p:spPr>
            <a:xfrm>
              <a:off x="6873840" y="5155560"/>
              <a:ext cx="81756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25" name="Rectangle 101"/>
            <p:cNvSpPr/>
            <p:nvPr/>
          </p:nvSpPr>
          <p:spPr>
            <a:xfrm>
              <a:off x="1595520" y="5260680"/>
              <a:ext cx="102240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rmAutofit/>
            </a:bodyPr>
            <a:p>
              <a:pPr>
                <a:lnSpc>
                  <a:spcPts val="7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thonisen 2002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26" name="Rectangle 102"/>
            <p:cNvSpPr/>
            <p:nvPr/>
          </p:nvSpPr>
          <p:spPr>
            <a:xfrm>
              <a:off x="2617920" y="5260680"/>
              <a:ext cx="86832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rmAutofit/>
            </a:bodyPr>
            <a:p>
              <a:pPr algn="ctr">
                <a:lnSpc>
                  <a:spcPts val="7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/1961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27" name="Rectangle 103"/>
            <p:cNvSpPr/>
            <p:nvPr/>
          </p:nvSpPr>
          <p:spPr>
            <a:xfrm>
              <a:off x="3486240" y="5260680"/>
              <a:ext cx="88092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rmAutofit/>
            </a:bodyPr>
            <a:p>
              <a:pPr marL="130320" algn="ctr">
                <a:lnSpc>
                  <a:spcPts val="700"/>
                </a:lnSpc>
                <a:spcBef>
                  <a:spcPts val="201"/>
                </a:spcBef>
                <a:tabLst>
                  <a:tab algn="l" pos="0"/>
                  <a:tab algn="l" pos="130320"/>
                  <a:tab algn="l" pos="1044720"/>
                  <a:tab algn="l" pos="1959120"/>
                  <a:tab algn="l" pos="2873520"/>
                  <a:tab algn="l" pos="3787920"/>
                  <a:tab algn="l" pos="4702320"/>
                  <a:tab algn="l" pos="5616720"/>
                  <a:tab algn="l" pos="6531120"/>
                  <a:tab algn="l" pos="7445520"/>
                  <a:tab algn="l" pos="8359920"/>
                  <a:tab algn="l" pos="9274320"/>
                  <a:tab algn="l" pos="1018872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/1962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28" name="Rectangle 104"/>
            <p:cNvSpPr/>
            <p:nvPr/>
          </p:nvSpPr>
          <p:spPr>
            <a:xfrm>
              <a:off x="6141960" y="5260680"/>
              <a:ext cx="73188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rmAutofit/>
            </a:bodyPr>
            <a:p>
              <a:pPr algn="ctr">
                <a:lnSpc>
                  <a:spcPts val="7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.32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29" name="Rectangle 105"/>
            <p:cNvSpPr/>
            <p:nvPr/>
          </p:nvSpPr>
          <p:spPr>
            <a:xfrm>
              <a:off x="6873840" y="5260680"/>
              <a:ext cx="81756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rmAutofit/>
            </a:bodyPr>
            <a:p>
              <a:pPr algn="ctr">
                <a:lnSpc>
                  <a:spcPts val="7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33 [0.01, 8.18]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0" name="Rectangle 106"/>
            <p:cNvSpPr/>
            <p:nvPr/>
          </p:nvSpPr>
          <p:spPr>
            <a:xfrm>
              <a:off x="1595520" y="5365080"/>
              <a:ext cx="102240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rmAutofit/>
            </a:bodyPr>
            <a:p>
              <a:pPr>
                <a:lnSpc>
                  <a:spcPts val="7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sasco 2003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1" name="Rectangle 107"/>
            <p:cNvSpPr/>
            <p:nvPr/>
          </p:nvSpPr>
          <p:spPr>
            <a:xfrm>
              <a:off x="2617920" y="5365080"/>
              <a:ext cx="86832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rmAutofit/>
            </a:bodyPr>
            <a:p>
              <a:pPr algn="ctr">
                <a:lnSpc>
                  <a:spcPts val="7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/402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2" name="Rectangle 108"/>
            <p:cNvSpPr/>
            <p:nvPr/>
          </p:nvSpPr>
          <p:spPr>
            <a:xfrm>
              <a:off x="3486240" y="5365080"/>
              <a:ext cx="88092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rmAutofit/>
            </a:bodyPr>
            <a:p>
              <a:pPr marL="104760" algn="ctr">
                <a:lnSpc>
                  <a:spcPts val="700"/>
                </a:lnSpc>
                <a:spcBef>
                  <a:spcPts val="201"/>
                </a:spcBef>
                <a:tabLst>
                  <a:tab algn="l" pos="0"/>
                  <a:tab algn="l" pos="104760"/>
                  <a:tab algn="l" pos="1019160"/>
                  <a:tab algn="l" pos="1933560"/>
                  <a:tab algn="l" pos="2847960"/>
                  <a:tab algn="l" pos="3762360"/>
                  <a:tab algn="l" pos="4676760"/>
                  <a:tab algn="l" pos="5591160"/>
                  <a:tab algn="l" pos="6505560"/>
                  <a:tab algn="l" pos="7419960"/>
                  <a:tab algn="l" pos="8334360"/>
                  <a:tab algn="l" pos="9248760"/>
                  <a:tab algn="l" pos="1016316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/400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3" name="Rectangle 109"/>
            <p:cNvSpPr/>
            <p:nvPr/>
          </p:nvSpPr>
          <p:spPr>
            <a:xfrm>
              <a:off x="6141960" y="5365080"/>
              <a:ext cx="73188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rmAutofit/>
            </a:bodyPr>
            <a:p>
              <a:pPr algn="ctr">
                <a:lnSpc>
                  <a:spcPts val="7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.35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4" name="Rectangle 110"/>
            <p:cNvSpPr/>
            <p:nvPr/>
          </p:nvSpPr>
          <p:spPr>
            <a:xfrm>
              <a:off x="6873840" y="5365080"/>
              <a:ext cx="81756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rmAutofit/>
            </a:bodyPr>
            <a:p>
              <a:pPr algn="ctr">
                <a:lnSpc>
                  <a:spcPts val="7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33 [0.01, 8.12]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5" name="Rectangle 111"/>
            <p:cNvSpPr/>
            <p:nvPr/>
          </p:nvSpPr>
          <p:spPr>
            <a:xfrm>
              <a:off x="1595520" y="5469840"/>
              <a:ext cx="102240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rmAutofit/>
            </a:bodyPr>
            <a:p>
              <a:pPr>
                <a:lnSpc>
                  <a:spcPts val="7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saburi 2002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6" name="Rectangle 112"/>
            <p:cNvSpPr/>
            <p:nvPr/>
          </p:nvSpPr>
          <p:spPr>
            <a:xfrm>
              <a:off x="2617920" y="5469840"/>
              <a:ext cx="86832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rmAutofit/>
            </a:bodyPr>
            <a:p>
              <a:pPr algn="ctr">
                <a:lnSpc>
                  <a:spcPts val="7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/550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7" name="Rectangle 113"/>
            <p:cNvSpPr/>
            <p:nvPr/>
          </p:nvSpPr>
          <p:spPr>
            <a:xfrm>
              <a:off x="3486240" y="5469840"/>
              <a:ext cx="88092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rmAutofit/>
            </a:bodyPr>
            <a:p>
              <a:pPr marL="98280" algn="ctr">
                <a:lnSpc>
                  <a:spcPts val="700"/>
                </a:lnSpc>
                <a:spcBef>
                  <a:spcPts val="201"/>
                </a:spcBef>
                <a:tabLst>
                  <a:tab algn="l" pos="0"/>
                  <a:tab algn="l" pos="98280"/>
                  <a:tab algn="l" pos="1012680"/>
                  <a:tab algn="l" pos="1927080"/>
                  <a:tab algn="l" pos="2841480"/>
                  <a:tab algn="l" pos="3755880"/>
                  <a:tab algn="l" pos="4670280"/>
                  <a:tab algn="l" pos="5584680"/>
                  <a:tab algn="l" pos="6499080"/>
                  <a:tab algn="l" pos="7413480"/>
                  <a:tab algn="l" pos="8327880"/>
                  <a:tab algn="l" pos="9242280"/>
                  <a:tab algn="l" pos="1015668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/371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8" name="Rectangle 114"/>
            <p:cNvSpPr/>
            <p:nvPr/>
          </p:nvSpPr>
          <p:spPr>
            <a:xfrm>
              <a:off x="6141960" y="5469840"/>
              <a:ext cx="73188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rmAutofit/>
            </a:bodyPr>
            <a:p>
              <a:pPr algn="ctr">
                <a:lnSpc>
                  <a:spcPts val="7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0.54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39" name="Rectangle 115"/>
            <p:cNvSpPr/>
            <p:nvPr/>
          </p:nvSpPr>
          <p:spPr>
            <a:xfrm>
              <a:off x="6873840" y="5469840"/>
              <a:ext cx="81756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rmAutofit/>
            </a:bodyPr>
            <a:p>
              <a:pPr algn="ctr">
                <a:lnSpc>
                  <a:spcPts val="7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14 [0.01, 2.80]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0" name="Rectangle 116"/>
            <p:cNvSpPr/>
            <p:nvPr/>
          </p:nvSpPr>
          <p:spPr>
            <a:xfrm>
              <a:off x="1595520" y="5574240"/>
              <a:ext cx="102240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rmAutofit/>
            </a:bodyPr>
            <a:p>
              <a:pPr>
                <a:lnSpc>
                  <a:spcPts val="7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nohue 2002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1" name="Rectangle 117"/>
            <p:cNvSpPr/>
            <p:nvPr/>
          </p:nvSpPr>
          <p:spPr>
            <a:xfrm>
              <a:off x="2617920" y="5574240"/>
              <a:ext cx="86832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rmAutofit/>
            </a:bodyPr>
            <a:p>
              <a:pPr algn="ctr">
                <a:lnSpc>
                  <a:spcPts val="7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/209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2" name="Rectangle 118"/>
            <p:cNvSpPr/>
            <p:nvPr/>
          </p:nvSpPr>
          <p:spPr>
            <a:xfrm>
              <a:off x="3486240" y="5574240"/>
              <a:ext cx="88092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rmAutofit/>
            </a:bodyPr>
            <a:p>
              <a:pPr marL="104760" algn="ctr">
                <a:lnSpc>
                  <a:spcPts val="700"/>
                </a:lnSpc>
                <a:tabLst>
                  <a:tab algn="l" pos="0"/>
                  <a:tab algn="l" pos="104760"/>
                  <a:tab algn="l" pos="1019160"/>
                  <a:tab algn="l" pos="1933560"/>
                  <a:tab algn="l" pos="2847960"/>
                  <a:tab algn="l" pos="3762360"/>
                  <a:tab algn="l" pos="4676760"/>
                  <a:tab algn="l" pos="5591160"/>
                  <a:tab algn="l" pos="6505560"/>
                  <a:tab algn="l" pos="7419960"/>
                  <a:tab algn="l" pos="8334360"/>
                  <a:tab algn="l" pos="9248760"/>
                  <a:tab algn="l" pos="1016316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/201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3" name="Rectangle 119"/>
            <p:cNvSpPr/>
            <p:nvPr/>
          </p:nvSpPr>
          <p:spPr>
            <a:xfrm>
              <a:off x="6141960" y="5574240"/>
              <a:ext cx="73188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rmAutofit/>
            </a:bodyPr>
            <a:p>
              <a:pPr algn="ctr">
                <a:lnSpc>
                  <a:spcPts val="7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.52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4" name="Rectangle 120"/>
            <p:cNvSpPr/>
            <p:nvPr/>
          </p:nvSpPr>
          <p:spPr>
            <a:xfrm>
              <a:off x="6873840" y="5574240"/>
              <a:ext cx="81756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rmAutofit/>
            </a:bodyPr>
            <a:p>
              <a:pPr algn="ctr">
                <a:lnSpc>
                  <a:spcPts val="7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32 [0.01,7.82]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5" name="Rectangle 121"/>
            <p:cNvSpPr/>
            <p:nvPr/>
          </p:nvSpPr>
          <p:spPr>
            <a:xfrm>
              <a:off x="1595520" y="5679000"/>
              <a:ext cx="102240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rmAutofit/>
            </a:bodyPr>
            <a:p>
              <a:pPr>
                <a:lnSpc>
                  <a:spcPts val="7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iewoehner 2005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6" name="Rectangle 122"/>
            <p:cNvSpPr/>
            <p:nvPr/>
          </p:nvSpPr>
          <p:spPr>
            <a:xfrm>
              <a:off x="2617920" y="5679000"/>
              <a:ext cx="86832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rmAutofit/>
            </a:bodyPr>
            <a:p>
              <a:pPr algn="ctr">
                <a:lnSpc>
                  <a:spcPts val="7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/914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7" name="Rectangle 123"/>
            <p:cNvSpPr/>
            <p:nvPr/>
          </p:nvSpPr>
          <p:spPr>
            <a:xfrm>
              <a:off x="3486240" y="5679000"/>
              <a:ext cx="88092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rmAutofit/>
            </a:bodyPr>
            <a:p>
              <a:pPr marL="96840" algn="ctr">
                <a:lnSpc>
                  <a:spcPts val="700"/>
                </a:lnSpc>
                <a:tabLst>
                  <a:tab algn="l" pos="0"/>
                  <a:tab algn="l" pos="96840"/>
                  <a:tab algn="l" pos="1011240"/>
                  <a:tab algn="l" pos="1925640"/>
                  <a:tab algn="l" pos="2840040"/>
                  <a:tab algn="l" pos="3754440"/>
                  <a:tab algn="l" pos="4668840"/>
                  <a:tab algn="l" pos="5583240"/>
                  <a:tab algn="l" pos="6497640"/>
                  <a:tab algn="l" pos="7412040"/>
                  <a:tab algn="l" pos="8326440"/>
                  <a:tab algn="l" pos="9240840"/>
                  <a:tab algn="l" pos="1015524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7/911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8" name="Rectangle 124"/>
            <p:cNvSpPr/>
            <p:nvPr/>
          </p:nvSpPr>
          <p:spPr>
            <a:xfrm>
              <a:off x="6141960" y="5679000"/>
              <a:ext cx="73188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rmAutofit/>
            </a:bodyPr>
            <a:p>
              <a:pPr algn="ctr">
                <a:lnSpc>
                  <a:spcPts val="7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8.26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49" name="Rectangle 125"/>
            <p:cNvSpPr/>
            <p:nvPr/>
          </p:nvSpPr>
          <p:spPr>
            <a:xfrm>
              <a:off x="6873840" y="5679000"/>
              <a:ext cx="81756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rmAutofit/>
            </a:bodyPr>
            <a:p>
              <a:pPr algn="ctr">
                <a:lnSpc>
                  <a:spcPts val="7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28 [0.06, 1.37]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50" name="Rectangle 126"/>
            <p:cNvSpPr/>
            <p:nvPr/>
          </p:nvSpPr>
          <p:spPr>
            <a:xfrm>
              <a:off x="1595520" y="5783760"/>
              <a:ext cx="102240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rmAutofit/>
            </a:bodyPr>
            <a:p>
              <a:pPr algn="just">
                <a:lnSpc>
                  <a:spcPts val="7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межуточный итог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51" name="Rectangle 127"/>
            <p:cNvSpPr/>
            <p:nvPr/>
          </p:nvSpPr>
          <p:spPr>
            <a:xfrm>
              <a:off x="2617920" y="5783760"/>
              <a:ext cx="86832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rmAutofit/>
            </a:bodyPr>
            <a:p>
              <a:pPr algn="ctr">
                <a:lnSpc>
                  <a:spcPts val="7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/4036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52" name="Rectangle 128"/>
            <p:cNvSpPr/>
            <p:nvPr/>
          </p:nvSpPr>
          <p:spPr>
            <a:xfrm>
              <a:off x="3486240" y="5783760"/>
              <a:ext cx="88092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rmAutofit/>
            </a:bodyPr>
            <a:p>
              <a:pPr algn="ctr">
                <a:lnSpc>
                  <a:spcPts val="7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/3845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53" name="Rectangle 129"/>
            <p:cNvSpPr/>
            <p:nvPr/>
          </p:nvSpPr>
          <p:spPr>
            <a:xfrm>
              <a:off x="6141960" y="5783760"/>
              <a:ext cx="73188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0,00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54" name="Rectangle 130"/>
            <p:cNvSpPr/>
            <p:nvPr/>
          </p:nvSpPr>
          <p:spPr>
            <a:xfrm>
              <a:off x="6873840" y="5783760"/>
              <a:ext cx="817560" cy="1047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.27 [0.09, 0.81]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55" name="Rectangle 131"/>
            <p:cNvSpPr/>
            <p:nvPr/>
          </p:nvSpPr>
          <p:spPr>
            <a:xfrm>
              <a:off x="1595520" y="5888520"/>
              <a:ext cx="277164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 fontScale="99000"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верка на общий эффект: Z = 2.35 (P = 0.02)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56" name="Rectangle 132"/>
            <p:cNvSpPr/>
            <p:nvPr/>
          </p:nvSpPr>
          <p:spPr>
            <a:xfrm>
              <a:off x="6141960" y="5888520"/>
              <a:ext cx="73188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57" name="Rectangle 133"/>
            <p:cNvSpPr/>
            <p:nvPr/>
          </p:nvSpPr>
          <p:spPr>
            <a:xfrm>
              <a:off x="6873840" y="5888520"/>
              <a:ext cx="817560" cy="1044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58" name="Rectangle 134"/>
            <p:cNvSpPr/>
            <p:nvPr/>
          </p:nvSpPr>
          <p:spPr>
            <a:xfrm>
              <a:off x="1595520" y="5992920"/>
              <a:ext cx="2771640" cy="2091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59" name="Rectangle 135"/>
            <p:cNvSpPr/>
            <p:nvPr/>
          </p:nvSpPr>
          <p:spPr>
            <a:xfrm>
              <a:off x="4367160" y="5992920"/>
              <a:ext cx="890640" cy="2091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 пользу холиноблокаторов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0" name="Rectangle 136"/>
            <p:cNvSpPr/>
            <p:nvPr/>
          </p:nvSpPr>
          <p:spPr>
            <a:xfrm>
              <a:off x="5257800" y="5992920"/>
              <a:ext cx="884160" cy="2091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 пользу плацебо</a:t>
              </a:r>
              <a:endParaRPr b="0" lang="en-US" sz="7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1" name="Rectangle 137"/>
            <p:cNvSpPr/>
            <p:nvPr/>
          </p:nvSpPr>
          <p:spPr>
            <a:xfrm>
              <a:off x="6141960" y="5992920"/>
              <a:ext cx="731880" cy="2091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2" name="Rectangle 138"/>
            <p:cNvSpPr/>
            <p:nvPr/>
          </p:nvSpPr>
          <p:spPr>
            <a:xfrm>
              <a:off x="6873840" y="5992920"/>
              <a:ext cx="817560" cy="2091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432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63" name="Rectangle 1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64" name="Picture 140" descr="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4357800" y="2843280"/>
            <a:ext cx="1790640" cy="342900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14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Text Box 142"/>
          <p:cNvSpPr/>
          <p:nvPr/>
        </p:nvSpPr>
        <p:spPr>
          <a:xfrm>
            <a:off x="0" y="428760"/>
            <a:ext cx="9144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Garamond"/>
              </a:rPr>
              <a:t>Мета-анализ: антихолинергические препараты, в отличие от β</a:t>
            </a:r>
            <a:r>
              <a:rPr b="0" lang="ru-RU" sz="2800" spc="-1" strike="noStrike" baseline="-25000">
                <a:solidFill>
                  <a:srgbClr val="ffff00"/>
                </a:solidFill>
                <a:latin typeface="Garamond"/>
              </a:rPr>
              <a:t>2</a:t>
            </a:r>
            <a:r>
              <a:rPr b="0" lang="ru-RU" sz="2800" spc="-1" strike="noStrike">
                <a:solidFill>
                  <a:srgbClr val="ffff00"/>
                </a:solidFill>
                <a:latin typeface="Garamond"/>
              </a:rPr>
              <a:t>-агонистов, уменьшают респираторную смертность больных ХОБ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Text Box 143"/>
          <p:cNvSpPr/>
          <p:nvPr/>
        </p:nvSpPr>
        <p:spPr>
          <a:xfrm>
            <a:off x="214200" y="1643040"/>
            <a:ext cx="52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7 исследован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4036 пациентов – АХП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30845 пациентов – плацеб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Text Box 144"/>
          <p:cNvSpPr/>
          <p:nvPr/>
        </p:nvSpPr>
        <p:spPr>
          <a:xfrm>
            <a:off x="5416920" y="6550200"/>
            <a:ext cx="371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ffff00"/>
                </a:solidFill>
                <a:latin typeface="Arial Narrow"/>
              </a:rPr>
              <a:t>Salpeter </a:t>
            </a:r>
            <a:r>
              <a:rPr b="0" lang="en-US" sz="1400" spc="-1" strike="noStrike">
                <a:solidFill>
                  <a:srgbClr val="ffff00"/>
                </a:solidFill>
                <a:latin typeface="Arial Narrow"/>
              </a:rPr>
              <a:t>et al. </a:t>
            </a:r>
            <a:r>
              <a:rPr b="0" lang="ru-RU" sz="1400" spc="-1" strike="noStrike">
                <a:solidFill>
                  <a:srgbClr val="ffff00"/>
                </a:solidFill>
                <a:latin typeface="Arial Narrow"/>
              </a:rPr>
              <a:t>J G</a:t>
            </a:r>
            <a:r>
              <a:rPr b="0" lang="en-US" sz="1400" spc="-1" strike="noStrike">
                <a:solidFill>
                  <a:srgbClr val="ffff00"/>
                </a:solidFill>
                <a:latin typeface="Arial Narrow"/>
              </a:rPr>
              <a:t>en</a:t>
            </a:r>
            <a:r>
              <a:rPr b="0" lang="ru-RU" sz="1400" spc="-1" strike="noStrike">
                <a:solidFill>
                  <a:srgbClr val="ffff00"/>
                </a:solidFill>
                <a:latin typeface="Arial Narrow"/>
              </a:rPr>
              <a:t> I</a:t>
            </a:r>
            <a:r>
              <a:rPr b="0" lang="en-US" sz="1400" spc="-1" strike="noStrike">
                <a:solidFill>
                  <a:srgbClr val="ffff00"/>
                </a:solidFill>
                <a:latin typeface="Arial Narrow"/>
              </a:rPr>
              <a:t>ntern</a:t>
            </a:r>
            <a:r>
              <a:rPr b="0" lang="ru-RU" sz="1400" spc="-1" strike="noStrike">
                <a:solidFill>
                  <a:srgbClr val="ffff00"/>
                </a:solidFill>
                <a:latin typeface="Arial Narrow"/>
              </a:rPr>
              <a:t> M</a:t>
            </a:r>
            <a:r>
              <a:rPr b="0" lang="en-US" sz="1400" spc="-1" strike="noStrike">
                <a:solidFill>
                  <a:srgbClr val="ffff00"/>
                </a:solidFill>
                <a:latin typeface="Arial Narrow"/>
              </a:rPr>
              <a:t>ed</a:t>
            </a:r>
            <a:r>
              <a:rPr b="0" lang="ru-RU" sz="1400" spc="-1" strike="noStrike">
                <a:solidFill>
                  <a:srgbClr val="ffff00"/>
                </a:solidFill>
                <a:latin typeface="Arial Narrow"/>
              </a:rPr>
              <a:t> 2006; 21: 1011–1019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Text Box 145"/>
          <p:cNvSpPr/>
          <p:nvPr/>
        </p:nvSpPr>
        <p:spPr>
          <a:xfrm>
            <a:off x="252000" y="6429240"/>
            <a:ext cx="41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99"/>
                </a:solidFill>
                <a:latin typeface="Garamond"/>
              </a:rPr>
              <a:t>Относительный риск 0,27</a:t>
            </a: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 [</a:t>
            </a:r>
            <a:r>
              <a:rPr b="0" lang="ru-RU" sz="1400" spc="-1" strike="noStrike">
                <a:solidFill>
                  <a:srgbClr val="003399"/>
                </a:solidFill>
                <a:latin typeface="Garamond"/>
              </a:rPr>
              <a:t>95%,ДИ 0,09</a:t>
            </a: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-</a:t>
            </a:r>
            <a:r>
              <a:rPr b="0" lang="ru-RU" sz="1400" spc="-1" strike="noStrike">
                <a:solidFill>
                  <a:srgbClr val="003399"/>
                </a:solidFill>
                <a:latin typeface="Garamond"/>
              </a:rPr>
              <a:t>0,81</a:t>
            </a: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Oval 146"/>
          <p:cNvSpPr/>
          <p:nvPr/>
        </p:nvSpPr>
        <p:spPr>
          <a:xfrm>
            <a:off x="4786200" y="5643720"/>
            <a:ext cx="571680" cy="28548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Arial"/>
              </a:rPr>
              <a:t>Ultra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  <a:ea typeface="Arial"/>
              </a:rPr>
              <a:t>-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Arial"/>
              </a:rPr>
              <a:t>LAB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2652840" y="1628640"/>
            <a:ext cx="383688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ндакатеро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рмотеро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илветерол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илантеро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BI-1744-CL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LAS-10097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UK-503,590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Arial"/>
              </a:rPr>
              <a:t>LAM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1871640" y="1628640"/>
            <a:ext cx="540072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клидиниума броми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VA-237 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икопиррола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аротропиума броми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GSK-57371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D-4208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CHF 540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QAT370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кспиррониу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Garamond"/>
              </a:rPr>
              <a:t>МУКОЛИТИЧЕСКАЯ ТЕРАПИЯ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6" name="Text Box 2"/>
          <p:cNvSpPr/>
          <p:nvPr/>
        </p:nvSpPr>
        <p:spPr>
          <a:xfrm>
            <a:off x="304920" y="1447920"/>
            <a:ext cx="858816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3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ффективная муколитическая терапия является важным компонентом лечения, дополняющим антибиотикотерап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3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овременные муколитические средства в идеале должн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меньшать как повышенные адгезионные, так и вязко-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ластичные свойства бронхиального секрет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вышать местную иммунную защиту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величивать проникновение антибиотиков в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ронхиальный секре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1308240" y="320760"/>
            <a:ext cx="706248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Garamond"/>
              </a:rPr>
              <a:t>АМБРОКСОЛ (ЛАЗОЛВАН) </a:t>
            </a:r>
            <a:br>
              <a:rPr sz="2600"/>
            </a:br>
            <a:r>
              <a:rPr b="1" lang="ru-RU" sz="2200" spc="-1" strike="noStrike">
                <a:solidFill>
                  <a:srgbClr val="ffff00"/>
                </a:solidFill>
                <a:latin typeface="Garamond"/>
              </a:rPr>
              <a:t>наиболее удовлетворяет требованиям, предъявляемым к «идеальному» муколитику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24000" y="1557360"/>
            <a:ext cx="853416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лияет на вязко-эластичные и адгезионные свойства мокроты - нормализует соотношение серозного и слизис-того ее компонентов, стимулирует выработку ферментов, расщепляющими связи между мукополисахаридами мокроты, стимулирует выработку сурфактан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вышает скорость биения ресничек эпителия, препят-ствуя их слипанию (механизм самоочищения бронхов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вышает продукцию иммуноглобулинов защитных клас-сов - стимуляция местного иммунитет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величивает концентрацию антибиотиков в бронхиальном секрете, обладает противовоспалительными и антиоксидантными свойствам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Единственный муколитик, безопасность применения которого во время беременности доказана в контролиру-емых исследованиях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80" name="Group 2"/>
          <p:cNvGrpSpPr/>
          <p:nvPr/>
        </p:nvGrpSpPr>
        <p:grpSpPr>
          <a:xfrm>
            <a:off x="0" y="260280"/>
            <a:ext cx="9142560" cy="5813640"/>
            <a:chOff x="0" y="260280"/>
            <a:chExt cx="9142560" cy="5813640"/>
          </a:xfrm>
        </p:grpSpPr>
        <p:graphicFrame>
          <p:nvGraphicFramePr>
            <p:cNvPr id="481" name="Object 3"/>
            <p:cNvGraphicFramePr/>
            <p:nvPr/>
          </p:nvGraphicFramePr>
          <p:xfrm>
            <a:off x="0" y="260280"/>
            <a:ext cx="9142560" cy="5813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260280"/>
                      <a:ext cx="9142560" cy="581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3" name="Text Box 4"/>
            <p:cNvSpPr/>
            <p:nvPr/>
          </p:nvSpPr>
          <p:spPr>
            <a:xfrm>
              <a:off x="0" y="260280"/>
              <a:ext cx="9142560" cy="58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484" name="Group 5"/>
          <p:cNvGrpSpPr/>
          <p:nvPr/>
        </p:nvGrpSpPr>
        <p:grpSpPr>
          <a:xfrm>
            <a:off x="6084720" y="0"/>
            <a:ext cx="3057840" cy="1455840"/>
            <a:chOff x="6084720" y="0"/>
            <a:chExt cx="3057840" cy="1455840"/>
          </a:xfrm>
        </p:grpSpPr>
        <p:graphicFrame>
          <p:nvGraphicFramePr>
            <p:cNvPr id="485" name="Object 6"/>
            <p:cNvGraphicFramePr/>
            <p:nvPr/>
          </p:nvGraphicFramePr>
          <p:xfrm>
            <a:off x="6084720" y="0"/>
            <a:ext cx="3057840" cy="145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84720" y="0"/>
                      <a:ext cx="3057840" cy="14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7" name="Text Box 7"/>
            <p:cNvSpPr/>
            <p:nvPr/>
          </p:nvSpPr>
          <p:spPr>
            <a:xfrm>
              <a:off x="6084720" y="0"/>
              <a:ext cx="3057840" cy="14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652320" y="228600"/>
            <a:ext cx="75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Мукорегуляторное действ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609480" y="1639800"/>
            <a:ext cx="792504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ЛУИФОРТ  является муко</a:t>
            </a:r>
            <a:r>
              <a:rPr b="0" lang="ru-RU" sz="2000" spc="-1" strike="noStrike">
                <a:solidFill>
                  <a:srgbClr val="ff0000"/>
                </a:solidFill>
                <a:latin typeface="Garamond"/>
              </a:rPr>
              <a:t>РЕГУЛЯТОРОМ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и в отличие от муколитиков воздействует не на патологически вязкую мокроту в просвете бронхов, а регулирует синтез бронхиального секрета бокаловидными клетками. В результате восстанавливаются реологические свойства мокроты и улучшается мукоцилиарный клиренс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2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2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ук</a:t>
            </a:r>
            <a:r>
              <a:rPr b="0" lang="ru-RU" sz="1800" spc="-1" strike="noStrike">
                <a:solidFill>
                  <a:srgbClr val="ff0000"/>
                </a:solidFill>
                <a:latin typeface="Garamond"/>
              </a:rPr>
              <a:t>оРЕГУЛЯТОРЫ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Муколити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1778040" y="4871880"/>
            <a:ext cx="1851120" cy="13528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5427720" y="4890960"/>
            <a:ext cx="1263600" cy="1265400"/>
          </a:xfrm>
          <a:prstGeom prst="rect">
            <a:avLst/>
          </a:prstGeom>
          <a:ln w="0">
            <a:noFill/>
          </a:ln>
        </p:spPr>
      </p:pic>
      <p:sp>
        <p:nvSpPr>
          <p:cNvPr id="492" name="AutoShape 5"/>
          <p:cNvSpPr/>
          <p:nvPr/>
        </p:nvSpPr>
        <p:spPr>
          <a:xfrm>
            <a:off x="2627280" y="4295880"/>
            <a:ext cx="130320" cy="507960"/>
          </a:xfrm>
          <a:prstGeom prst="downArrow">
            <a:avLst>
              <a:gd name="adj1" fmla="val 50000"/>
              <a:gd name="adj2" fmla="val 50112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AutoShape 6"/>
          <p:cNvSpPr/>
          <p:nvPr/>
        </p:nvSpPr>
        <p:spPr>
          <a:xfrm>
            <a:off x="5972040" y="4303800"/>
            <a:ext cx="131760" cy="507960"/>
          </a:xfrm>
          <a:prstGeom prst="downArrow">
            <a:avLst>
              <a:gd name="adj1" fmla="val 50000"/>
              <a:gd name="adj2" fmla="val 49564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Нормальные показатели ОФВ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1/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ФЖЕЛ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1979640" y="2997360"/>
            <a:ext cx="532908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8-19 лет – 85% (0,8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-39 лет – 80% (0,8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0-59 лет – 75% (0,7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0-80 лет – 70% (0,7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 modus in rebus-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блюдай мер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n nocere-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навред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Системные проявления и сопутствующие заболевания при ХОБ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теря массы скелетной мускулатур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хексия:потеря жировой масс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к лёгких(мелкоклеточный,немелкоклеточный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ёгочная гипертенз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БС:эндотелиальная дисфункц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ердечная недостаточно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теопороз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нем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иабе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етаболический синдр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бструктивное ночное апно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епресс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ЭРБ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ронхиальная астм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aramond"/>
              </a:rPr>
              <a:t>Исследование в Великобритании(март-май 2008г.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457200" y="1417680"/>
            <a:ext cx="8229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32 госпиталя, 9716 пациенто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редний возраст -73 года; 50% мужчин; средний ОФВ1-42% к должном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острения ХОБЛ, приводящие к госпитализации сопровождались выраженной симптоматикой и высокой смертностью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иск госпитальной смерти был повышен в связи с лёгочным сердцем, левожелудочковой С.Н., невро логическим статусом, не респираторными опухоля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90-дневная смерть была чаще связана с раком лёгких и аритмиями сердца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. Loke Y.K. et al.,Thorax,2011,66:699-708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0" y="0"/>
            <a:ext cx="900108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реобладание других заболеваний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о данным медицинской документаци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14200" y="1417680"/>
          <a:ext cx="8645760" cy="5221080"/>
        </p:xfrm>
        <a:graphic>
          <a:graphicData uri="http://schemas.openxmlformats.org/drawingml/2006/table">
            <a:tbl>
              <a:tblPr/>
              <a:tblGrid>
                <a:gridCol w="2881440"/>
                <a:gridCol w="1827360"/>
                <a:gridCol w="3936960"/>
              </a:tblGrid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ицинская патолог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(9608)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циенты с данной патологи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шемическая болезнь сердц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5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4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гая кардиальная патолог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9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аб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вигательные расстрой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0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рдиальные аритм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например, фибрилляция предсердий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0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тология желудочно-кишечного тра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8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сихиатрическ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боле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7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вожелудочковая недостато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суль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457200" y="11916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aramond"/>
              </a:rPr>
              <a:t>Продолжени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85840" y="1000080"/>
          <a:ext cx="8574120" cy="5288040"/>
        </p:xfrm>
        <a:graphic>
          <a:graphicData uri="http://schemas.openxmlformats.org/drawingml/2006/table">
            <a:tbl>
              <a:tblPr/>
              <a:tblGrid>
                <a:gridCol w="2857320"/>
                <a:gridCol w="1811520"/>
                <a:gridCol w="3905280"/>
              </a:tblGrid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нкологические заболе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врологическая патолог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гая (кроме диабета) эндокринная патолог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гочное сердц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Э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коголь ассоциированные состоя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рительные расстрой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к легк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состояний:        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                                        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                                        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2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2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5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9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1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31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4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96"/>
          <p:cNvSpPr/>
          <p:nvPr/>
        </p:nvSpPr>
        <p:spPr>
          <a:xfrm>
            <a:off x="571680" y="6429600"/>
            <a:ext cx="775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 -   Присутствие данной патологии в медицинской документации, о которой знали 9608 из 9716 пациентов.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838080" y="152280"/>
            <a:ext cx="83059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  <a:ea typeface="Arial"/>
              </a:rPr>
              <a:t>Частота встречаемости ХСН у больных со стабильным течением ХОБЛ*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01680" y="6210360"/>
            <a:ext cx="8842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Garamond"/>
                <a:ea typeface="Arial"/>
              </a:rPr>
              <a:t>*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Arial"/>
              </a:rPr>
              <a:t>Rutten FH</a:t>
            </a:r>
            <a:r>
              <a:rPr b="0" lang="ru-RU" sz="1800" spc="-1" strike="noStrike">
                <a:solidFill>
                  <a:srgbClr val="ffff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Arial"/>
              </a:rPr>
              <a:t>et al</a:t>
            </a:r>
            <a:r>
              <a:rPr b="0" lang="ru-RU" sz="1800" spc="-1" strike="noStrike">
                <a:solidFill>
                  <a:srgbClr val="ffff00"/>
                </a:solidFill>
                <a:latin typeface="Garamond"/>
                <a:ea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Arial"/>
              </a:rPr>
              <a:t>  Unrecognized heart failure in elderly patients with stable COPD</a:t>
            </a:r>
            <a:r>
              <a:rPr b="0" lang="ru-RU" sz="1800" spc="-1" strike="noStrike">
                <a:solidFill>
                  <a:srgbClr val="ffff00"/>
                </a:solidFill>
                <a:latin typeface="Garamond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  <a:ea typeface="Arial"/>
              </a:rPr>
              <a:t>// Eur Heart J. 2005; 26(18): 1887-94.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1295280"/>
            <a:ext cx="8712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6120" indent="-276120" algn="just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  <a:ea typeface="Arial"/>
              </a:rPr>
              <a:t>Обследовано 405 больных ХОБЛ (ср.возраст 73года),  с неверифицированной ХС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6120" indent="-276120" algn="just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  <a:ea typeface="Arial"/>
              </a:rPr>
              <a:t>Ранее недиагностированная ХСН  выявлена у 20,5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6120" indent="-276120" algn="just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~50%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  <a:ea typeface="Arial"/>
              </a:rPr>
              <a:t>больных имели систолическую дисфункцию ЛЖ (осн. причина - ИБС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6120" indent="-276120" algn="just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  <a:ea typeface="Arial"/>
              </a:rPr>
              <a:t>~50%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  <a:ea typeface="Arial"/>
              </a:rPr>
              <a:t>больных имели диастолическую дисфункцию ЛЖ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9320" cy="981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 Терехина</dc:creator>
  <dc:description/>
  <dc:language>en-US</dc:language>
  <cp:lastModifiedBy>Петр Волков</cp:lastModifiedBy>
  <dcterms:modified xsi:type="dcterms:W3CDTF">2017-03-15T11:34:42Z</dcterms:modified>
  <cp:revision>525</cp:revision>
  <dc:subject/>
  <dc:title>PowerPoint Presentation</dc:title>
</cp:coreProperties>
</file>