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826-0CC7-42DD-8C0C-14DD7C24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5BB-5C86-4347-8B84-67320EB9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9F7-8CA4-46D9-9B61-4C092529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AA7-3E5C-4CEB-8E9C-95FA67F6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E87-DC67-4562-BF39-C7F0337E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9E5-A99B-4AAF-B90B-DE1E8AD4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6DD-FD8D-45B9-A7BF-9C59ACFA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8FE-44FA-41E4-B7A2-97B0E1D7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889-A6E6-4499-82E8-7F430CB4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352-320C-4BD6-8091-1F249555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08D-81FD-4369-B298-EA07F96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788-E035-4F21-80AA-18BFBE6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45C0-20DC-4BC4-A8B9-1230E7FB7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Лекция № 1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ы физиологии внешнего дыхания и газообмена в легк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ертвое пространство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атомическое мертвое пространство (у взрослых равно примерно 150 м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зиологическое мертв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эро-гематический барьер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ьвеолярный эпит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зальная мембрана альве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зкое интерстициа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зальная мембрана капилля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ндотелий капилля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Ширина (толщина) этого барьера = менее 3 м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ластическая тяга легких обусловлен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м коллагеновых и эластических волокон в стенке бронхов и легочных альве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рфактантом (на 75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нусом гладких мышц брон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вление в плевральной по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403280" y="1035000"/>
            <a:ext cx="63374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невмоторакс –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падание воздуха в плевральную полость; варианты пневмоторак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сторонний, двусторо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ешний, внутр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крытый, закрытый, клап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66ccff"/>
                </a:solidFill>
                <a:latin typeface="Arial"/>
              </a:rPr>
              <a:t>Кроме того, выделяют гемоторакс, гидроторакс, пиоторакс, а также смешанные варианты эти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егочные объемы и емк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Дыхательный объем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количество воздуха, которое чело-век вдыхает и выдыхает при спокойном дыхании (500 м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Резервный  объем вдоха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личество  воздуха, которое человек может дополнительно вдохнуть после нормального вдоха (2000-2500 м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Резервный объем выдоха 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личество воздуха, которое человек  может дополнительно  выдохнуть после спокойного выдоха (1000-1500 м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статочный объем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личество воздуха, остающееся в легких после максимального выдоха (1000 м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Жизненная емкость легких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наибольшее количество   воздуха, которое можно выдохнуть после максимального вдоха. Равно сумме 1, 2 и 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мкость вдоха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ксимальное количество воздуха, которое можно вдохнуть после спокойного выдоха. Равно сумме 1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Функциональная  остаточная  емк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количество воздуха, остающееся в легких после спокойного выдоха. Равно сумме 3 и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бщая емкость легких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личество  воздуха, содержащееся в легких на высоте максимального вдоха. Равно сумме 4 и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гочные объемы и ем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0" t="0" r="0" b="10395"/>
          <a:stretch/>
        </p:blipFill>
        <p:spPr>
          <a:xfrm>
            <a:off x="0" y="62064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74680"/>
            <a:ext cx="914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изненная емкость легких (ЖЕЛ) с возрастом (особенно после 40 лет) уменьшается. Это связано со снижением эластичности легких и подвижности грудной клетки. У женщин ЖЕЛ в среднем на 25% меньше, чем у мужчин. ЖЕЛ зависит от роста, так как величина грудной клетки пропорциональна остальным размерам тела. У молодых людей ЖЕЛ можно вычислить с помощью следующег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ЖЕЛ (л) = 2,5 х рост (м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Методы измерения вентиляции легк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пир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пир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невмотах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"/>
          <p:cNvPicPr/>
          <p:nvPr/>
        </p:nvPicPr>
        <p:blipFill>
          <a:blip r:embed="rId1"/>
          <a:srcRect l="0" t="0" r="35277" b="0"/>
          <a:stretch/>
        </p:blipFill>
        <p:spPr>
          <a:xfrm>
            <a:off x="250920" y="0"/>
            <a:ext cx="86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rcRect l="0" t="0" r="37482" b="0"/>
          <a:stretch/>
        </p:blipFill>
        <p:spPr>
          <a:xfrm>
            <a:off x="1763640" y="0"/>
            <a:ext cx="571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Показатели вентиляции легки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инутный объем дыхания (МОД) = Частота дыхательных движений (ЧДД) х дыхательный 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инутная вентиляция мертвого пространства = ЧДД х объем анатомического мертвого простр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инутная вентиляция альвеол = МОД – минутная вентиляция анатомического мертвого простр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апряжение газов в мм. рт. 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844640"/>
          <a:ext cx="8064360" cy="4100400"/>
        </p:xfrm>
        <a:graphic>
          <a:graphicData uri="http://schemas.openxmlformats.org/drawingml/2006/table">
            <a:tbl>
              <a:tblPr/>
              <a:tblGrid>
                <a:gridCol w="3382920"/>
                <a:gridCol w="2305080"/>
                <a:gridCol w="2376360"/>
              </a:tblGrid>
              <a:tr h="14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r>
                        <a:rPr b="1" lang="ru-RU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СО</a:t>
                      </a:r>
                      <a:r>
                        <a:rPr b="1" lang="ru-RU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гки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нозная кр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териальная кр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-4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азовый состав атмосферного, альвеолярного и выдыхаемого воздуха, % (мм. рт. с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rcRect l="0" t="20552" r="0" b="0"/>
          <a:stretch/>
        </p:blipFill>
        <p:spPr>
          <a:xfrm>
            <a:off x="0" y="1349280"/>
            <a:ext cx="91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ипы вентиляции (типы дыхания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ормовентиля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ипервентиля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иповентиля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упно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иперпно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ахипно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Брадипно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Апно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Диспно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ртопно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следовательность этапов доставки кислорода к ткан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векционный транспорт в альвеолы (вентиляция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узия из альвеол в кровь легочных капилляров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векционный перенос кислорода кровью к капиллярам тка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узия из капилляров в окружающие ткани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*-внешнее дыхание, **-внутренне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rcRect l="0" t="0" r="48506" b="13245"/>
          <a:stretch/>
        </p:blipFill>
        <p:spPr>
          <a:xfrm>
            <a:off x="395280" y="26028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ыхательная мускул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нспираторные мыш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Основные (наружные косые межреберные мышцы и диафраг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Вспомогательные (грудино-ключиче-сосцевидная, большая и малая грудные, лестничные, передняя зубчатая, мышца разгибающая позвоночник и д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спираторные мыш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Основные (внутренние косые межреберные мышцы и диафраг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Вспомогательные (мышцы передней брюшной сте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rcRect l="0" t="0" r="66145" b="37085"/>
          <a:stretch/>
        </p:blipFill>
        <p:spPr>
          <a:xfrm>
            <a:off x="46836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ипы дых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руд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рюш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меша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20:12:26Z</dcterms:created>
  <dc:creator>И.В. Филиппов</dc:creator>
  <dc:description/>
  <dc:language>en-US</dc:language>
  <cp:lastModifiedBy>Sveta</cp:lastModifiedBy>
  <dcterms:modified xsi:type="dcterms:W3CDTF">2014-01-10T08:20:11Z</dcterms:modified>
  <cp:revision>18</cp:revision>
  <dc:subject>Внешнее дыхание</dc:subject>
  <dc:title>Лекция 18</dc:title>
</cp:coreProperties>
</file>