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81AB-7FAA-43EA-AF62-FFBB1E780A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A952-9C0F-40C4-ABC4-1D790B1778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SkyMoon-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SkyMoon-4"/>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SkyMoon-3"/>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413000"/>
            <a:ext cx="8229600" cy="52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SkyMoon-5"/>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468360" y="189000"/>
            <a:ext cx="71280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68360" y="1413000"/>
            <a:ext cx="7199280" cy="52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7" descr="SkyMoon"/>
          <p:cNvPicPr/>
          <p:nvPr/>
        </p:nvPicPr>
        <p:blipFill>
          <a:blip r:embed="rId2"/>
          <a:stretch/>
        </p:blipFill>
        <p:spPr>
          <a:xfrm>
            <a:off x="0" y="0"/>
            <a:ext cx="9144000" cy="685800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2" descr="SkyMoon"/>
          <p:cNvPicPr/>
          <p:nvPr/>
        </p:nvPicPr>
        <p:blipFill>
          <a:blip r:embed="rId2"/>
          <a:stretch/>
        </p:blipFill>
        <p:spPr>
          <a:xfrm>
            <a:off x="0" y="0"/>
            <a:ext cx="9144000" cy="68580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 name="PlaceHolder 2"/>
          <p:cNvSpPr>
            <a:spLocks noGrp="1"/>
          </p:cNvSpPr>
          <p:nvPr>
            <p:ph type="body"/>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2" descr="SkyMoon"/>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2"/>
          <p:cNvSpPr>
            <a:spLocks noGrp="1"/>
          </p:cNvSpPr>
          <p:nvPr>
            <p:ph type="body"/>
          </p:nvPr>
        </p:nvSpPr>
        <p:spPr>
          <a:xfrm>
            <a:off x="457200" y="1413000"/>
            <a:ext cx="8229600" cy="52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SkyMoon"/>
          <p:cNvPicPr/>
          <p:nvPr/>
        </p:nvPicPr>
        <p:blipFill>
          <a:blip r:embed="rId2"/>
          <a:stretch/>
        </p:blipFill>
        <p:spPr>
          <a:xfrm>
            <a:off x="0" y="0"/>
            <a:ext cx="9144000" cy="6858000"/>
          </a:xfrm>
          <a:prstGeom prst="rect">
            <a:avLst/>
          </a:prstGeom>
          <a:ln w="0">
            <a:noFill/>
          </a:ln>
        </p:spPr>
      </p:pic>
      <p:sp>
        <p:nvSpPr>
          <p:cNvPr id="274" name="PlaceHolder 1"/>
          <p:cNvSpPr>
            <a:spLocks noGrp="1"/>
          </p:cNvSpPr>
          <p:nvPr>
            <p:ph type="title"/>
          </p:nvPr>
        </p:nvSpPr>
        <p:spPr>
          <a:xfrm>
            <a:off x="468360" y="189000"/>
            <a:ext cx="71280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5" name="PlaceHolder 2"/>
          <p:cNvSpPr>
            <a:spLocks noGrp="1"/>
          </p:cNvSpPr>
          <p:nvPr>
            <p:ph type="body"/>
          </p:nvPr>
        </p:nvSpPr>
        <p:spPr>
          <a:xfrm>
            <a:off x="468360" y="1413000"/>
            <a:ext cx="7199280" cy="52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d0d0d"/>
                </a:solidFill>
                <a:latin typeface="Arial Black"/>
              </a:rPr>
              <a:t>СРС</a:t>
            </a:r>
            <a:endParaRPr b="0" lang="en-US" sz="8000" spc="-1" strike="noStrike">
              <a:solidFill>
                <a:srgbClr val="000000"/>
              </a:solidFill>
              <a:latin typeface="Arial"/>
            </a:endParaRPr>
          </a:p>
        </p:txBody>
      </p:sp>
      <p:sp>
        <p:nvSpPr>
          <p:cNvPr id="320" name="PlaceHolder 2"/>
          <p:cNvSpPr>
            <a:spLocks noGrp="1"/>
          </p:cNvSpPr>
          <p:nvPr>
            <p:ph type="subTitle"/>
          </p:nvPr>
        </p:nvSpPr>
        <p:spPr>
          <a:xfrm>
            <a:off x="2743200" y="3857400"/>
            <a:ext cx="6400800" cy="189540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Black"/>
              </a:rPr>
              <a:t>Тема: «Мухаммед Шайбани»</a:t>
            </a:r>
            <a:endParaRPr b="0" lang="en-US" sz="4800" spc="-1" strike="noStrike">
              <a:solidFill>
                <a:srgbClr val="000000"/>
              </a:solidFill>
              <a:latin typeface="Arial"/>
            </a:endParaRPr>
          </a:p>
        </p:txBody>
      </p:sp>
      <p:sp>
        <p:nvSpPr>
          <p:cNvPr id="321" name="TextBox 3"/>
          <p:cNvSpPr/>
          <p:nvPr/>
        </p:nvSpPr>
        <p:spPr>
          <a:xfrm>
            <a:off x="4285080" y="5572080"/>
            <a:ext cx="441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Выполнил: Жумалин С. СД 101 групп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Проверил:  Шипанов М.М.</a:t>
            </a:r>
            <a:endParaRPr b="0" lang="en-US" sz="1800" spc="-1" strike="noStrike">
              <a:solidFill>
                <a:srgbClr val="000000"/>
              </a:solidFill>
              <a:latin typeface="Arial"/>
            </a:endParaRPr>
          </a:p>
        </p:txBody>
      </p:sp>
      <p:sp>
        <p:nvSpPr>
          <p:cNvPr id="322" name="TextBox 5"/>
          <p:cNvSpPr/>
          <p:nvPr/>
        </p:nvSpPr>
        <p:spPr>
          <a:xfrm>
            <a:off x="285840" y="642960"/>
            <a:ext cx="778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d0d0d"/>
                </a:solidFill>
                <a:latin typeface="Times New Roman"/>
                <a:ea typeface="Times New Roman"/>
              </a:rPr>
              <a:t>             </a:t>
            </a:r>
            <a:r>
              <a:rPr b="1" lang="kk-KZ" sz="2000" spc="-1" strike="noStrike">
                <a:solidFill>
                  <a:srgbClr val="0d0d0d"/>
                </a:solidFill>
                <a:latin typeface="Times New Roman"/>
                <a:ea typeface="Times New Roman"/>
              </a:rPr>
              <a:t>Государственный Медицинский Университет  г. Семей </a:t>
            </a:r>
            <a:endParaRPr b="0" lang="en-US" sz="2000" spc="-1" strike="noStrike">
              <a:solidFill>
                <a:srgbClr val="000000"/>
              </a:solidFill>
              <a:latin typeface="Arial"/>
            </a:endParaRPr>
          </a:p>
        </p:txBody>
      </p:sp>
      <p:sp>
        <p:nvSpPr>
          <p:cNvPr id="323" name="TextBox 8"/>
          <p:cNvSpPr/>
          <p:nvPr/>
        </p:nvSpPr>
        <p:spPr>
          <a:xfrm>
            <a:off x="3143160" y="64882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2011 год</a:t>
            </a:r>
            <a:endParaRPr b="0" lang="en-US" sz="1800" spc="-1" strike="noStrike">
              <a:solidFill>
                <a:srgbClr val="000000"/>
              </a:solidFill>
              <a:latin typeface="Arial"/>
            </a:endParaRPr>
          </a:p>
        </p:txBody>
      </p:sp>
      <p:sp>
        <p:nvSpPr>
          <p:cNvPr id="324" name="TextBox 6"/>
          <p:cNvSpPr/>
          <p:nvPr/>
        </p:nvSpPr>
        <p:spPr>
          <a:xfrm>
            <a:off x="1714680" y="1428840"/>
            <a:ext cx="5857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7"/>
          <p:cNvSpPr/>
          <p:nvPr/>
        </p:nvSpPr>
        <p:spPr>
          <a:xfrm>
            <a:off x="1866960" y="1581120"/>
            <a:ext cx="5857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0"/>
          <p:cNvSpPr/>
          <p:nvPr/>
        </p:nvSpPr>
        <p:spPr>
          <a:xfrm>
            <a:off x="1500120" y="1285920"/>
            <a:ext cx="54291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исциплина: История Казахстана</a:t>
            </a:r>
            <a:endParaRPr b="0" lang="en-US" sz="1800" spc="-1" strike="noStrike">
              <a:solidFill>
                <a:srgbClr val="000000"/>
              </a:solidFill>
              <a:latin typeface="Arial"/>
            </a:endParaRPr>
          </a:p>
        </p:txBody>
      </p:sp>
      <p:sp>
        <p:nvSpPr>
          <p:cNvPr id="327" name="TextBox 11"/>
          <p:cNvSpPr/>
          <p:nvPr/>
        </p:nvSpPr>
        <p:spPr>
          <a:xfrm>
            <a:off x="1357200" y="1785960"/>
            <a:ext cx="678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афедра: социально- гуманитарных дисципли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SkyMoon-5"/>
          <p:cNvPicPr/>
          <p:nvPr/>
        </p:nvPicPr>
        <p:blipFill>
          <a:blip r:embed="rId1"/>
          <a:stretch/>
        </p:blipFill>
        <p:spPr>
          <a:xfrm>
            <a:off x="0" y="0"/>
            <a:ext cx="9144000" cy="6858000"/>
          </a:xfrm>
          <a:prstGeom prst="rect">
            <a:avLst/>
          </a:prstGeom>
          <a:ln w="0">
            <a:noFill/>
          </a:ln>
        </p:spPr>
      </p:pic>
      <p:sp>
        <p:nvSpPr>
          <p:cNvPr id="344" name="TextBox 4"/>
          <p:cNvSpPr/>
          <p:nvPr/>
        </p:nvSpPr>
        <p:spPr>
          <a:xfrm>
            <a:off x="285840" y="571680"/>
            <a:ext cx="65721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8a"/>
                </a:solidFill>
                <a:latin typeface="Arial Black"/>
              </a:rPr>
              <a:t>Согласно историческим источникам реальную политическую и военную силу в Узбекском улусе с начала 70-х годов </a:t>
            </a:r>
            <a:r>
              <a:rPr b="0" lang="en-US" sz="2000" spc="-1" strike="noStrike">
                <a:solidFill>
                  <a:srgbClr val="2d2d8a"/>
                </a:solidFill>
                <a:latin typeface="Arial Black"/>
              </a:rPr>
              <a:t>XV </a:t>
            </a:r>
            <a:r>
              <a:rPr b="0" lang="ru-RU" sz="2000" spc="-1" strike="noStrike">
                <a:solidFill>
                  <a:srgbClr val="2d2d8a"/>
                </a:solidFill>
                <a:latin typeface="Arial Black"/>
              </a:rPr>
              <a:t>столетия представляли казахские владетели в лице Керея, затем его старшего сына сына Бурундука и многочисленных сыновей Джанибек-хана, которые сделались  теперь грозной силой, противостоящей небольшой кучке Шибанидов, обречённых судьбою на жизнь скитальцев, живущих на счет мелкого грабежа и разбо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1"/>
          <p:cNvSpPr/>
          <p:nvPr/>
        </p:nvSpPr>
        <p:spPr>
          <a:xfrm>
            <a:off x="142920" y="1357200"/>
            <a:ext cx="8786880" cy="4109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	</a:t>
            </a:r>
            <a:r>
              <a:rPr b="0" lang="ru-RU" sz="1600" spc="-1" strike="noStrike">
                <a:solidFill>
                  <a:srgbClr val="2d2d8a"/>
                </a:solidFill>
                <a:latin typeface="Arial Black"/>
              </a:rPr>
              <a:t>Так, после поражения Шайх-Хайдар-хана Шейбани и другие потомки Абул-Хайра вынуждены были оставить родные степи и просить покровительства у астраханского правителя, а затем спасать свою жизнь поспешным бегством из осаждённого Хаджи-Тархана . С небольшим числом приверженцев из племени кушчи (кошчи) они долгое время скитались в окрестностях Сыгнака и Саурана, занимаясь грабежом и разбоем, пока не объединились с Бурудж-огланом.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	</a:t>
            </a:r>
            <a:r>
              <a:rPr b="0" lang="ru-RU" sz="1600" spc="-1" strike="noStrike">
                <a:solidFill>
                  <a:srgbClr val="2d2d8a"/>
                </a:solidFill>
                <a:latin typeface="Arial Black"/>
              </a:rPr>
              <a:t>Положение потомков Абул-Хайр-хана, потерявших все, покинутых людьми, «предавшими забвению обязательства соблюдать верность», прекрасно характеризуется несколькими строками, которые автор стихотворной хроники «Фатх-наме» вкладывает в уста самого Шейбани. Будущий завоеватель государства Тимуридов, обращаясь к сорока своим приближенным, горько сету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SkyMoon-4"/>
          <p:cNvPicPr/>
          <p:nvPr/>
        </p:nvPicPr>
        <p:blipFill>
          <a:blip r:embed="rId1"/>
          <a:stretch/>
        </p:blipFill>
        <p:spPr>
          <a:xfrm>
            <a:off x="0" y="0"/>
            <a:ext cx="9144000" cy="6858000"/>
          </a:xfrm>
          <a:prstGeom prst="rect">
            <a:avLst/>
          </a:prstGeom>
          <a:ln w="0">
            <a:noFill/>
          </a:ln>
        </p:spPr>
      </p:pic>
      <p:sp>
        <p:nvSpPr>
          <p:cNvPr id="347" name="TextBox 4"/>
          <p:cNvSpPr/>
          <p:nvPr/>
        </p:nvSpPr>
        <p:spPr>
          <a:xfrm>
            <a:off x="2214720" y="1071720"/>
            <a:ext cx="6929280" cy="5031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Не осталось у нас ни юрта, ни пристанищ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ни полностью попали к врагу,</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Нет у нас войска, чтобы отправиться воевать,</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Чтобы повести в бой знать и районы.</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Нигде никто не окажет нам покровительств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Даже презренный человек не приютит нас.</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Как небесный свод бродим мы вокруг мир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Доколе можно нам бродить так рассеянными!</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тныне мы пустим в дело меч и ру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1"/>
          <p:cNvSpPr/>
          <p:nvPr/>
        </p:nvSpPr>
        <p:spPr>
          <a:xfrm>
            <a:off x="285840" y="1571760"/>
            <a:ext cx="85010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И пускают. Но судьба не благоприятствовала Мухаммеду Шайбани, и он, гонимый казахскими владетелями, вынужден удалиться в Мавераннахр. На пути в Самарканд малочисленный отряд Шайбани был на голову разбит около Сабрана тамошником владетелем Иренджи-султаном, сыном Джанибек-хана. Оставшиеся в живых спутники царвеича почти не рассеялись. Он сам с братом Махмудом едва спасся бегством и вместо Самарканда поспешно направился в Бухару. Эмиры и бахадуры – все, кто был свидетелем того события, говорится в источнике об этом поражении Шайбани-хана, «разбежались в разные стороны, так что у них не было возможности соединиться друг с друг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SkyMoon-4"/>
          <p:cNvPicPr/>
          <p:nvPr/>
        </p:nvPicPr>
        <p:blipFill>
          <a:blip r:embed="rId1"/>
          <a:stretch/>
        </p:blipFill>
        <p:spPr>
          <a:xfrm>
            <a:off x="0" y="0"/>
            <a:ext cx="9144000" cy="6858000"/>
          </a:xfrm>
          <a:prstGeom prst="rect">
            <a:avLst/>
          </a:prstGeom>
          <a:ln w="0">
            <a:noFill/>
          </a:ln>
        </p:spPr>
      </p:pic>
      <p:sp>
        <p:nvSpPr>
          <p:cNvPr id="350" name="TextBox 5"/>
          <p:cNvSpPr/>
          <p:nvPr/>
        </p:nvSpPr>
        <p:spPr>
          <a:xfrm>
            <a:off x="1857240" y="214200"/>
            <a:ext cx="728676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	</a:t>
            </a:r>
            <a:r>
              <a:rPr b="0" lang="ru-RU" sz="1600" spc="-1" strike="noStrike">
                <a:solidFill>
                  <a:srgbClr val="2d2d8a"/>
                </a:solidFill>
                <a:latin typeface="Arial Black"/>
              </a:rPr>
              <a:t>А Мухаммед Шайбани-хан «в силу необходимости» с немногочисленными приближенными направил поводья решимости в сторону Бухар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	</a:t>
            </a:r>
            <a:r>
              <a:rPr b="0" lang="ru-RU" sz="1600" spc="-1" strike="noStrike">
                <a:solidFill>
                  <a:srgbClr val="2d2d8a"/>
                </a:solidFill>
                <a:latin typeface="Arial Black"/>
              </a:rPr>
              <a:t>Из чужой страны он решает выступить в родные края спустя 2 года, лишь после того, как ему удается, по всей вероятности, не без помощи ордена «накшбендия», с которым в какой-то степени, по-видимому, был связан его брат Махмуд-султан, собрать необходимые военные снаряжения. Отмечая двухлетнее пребывание Шейбани в Бухаре, Шади пишет: «Там у него появилось  обильное снаряжение для войны, тогда же сердце у него стало томиться мыслью о шахском достоинстве». С этой мыслью, никогда не покидавшей властолюбивого принца, Шейбани решается опять попытать счастья на поприще авантюры и захвата и направляется в Туркеста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SkyMoon-5"/>
          <p:cNvPicPr/>
          <p:nvPr/>
        </p:nvPicPr>
        <p:blipFill>
          <a:blip r:embed="rId1"/>
          <a:stretch/>
        </p:blipFill>
        <p:spPr>
          <a:xfrm>
            <a:off x="0" y="0"/>
            <a:ext cx="9144000" cy="6858000"/>
          </a:xfrm>
          <a:prstGeom prst="rect">
            <a:avLst/>
          </a:prstGeom>
          <a:ln w="0">
            <a:noFill/>
          </a:ln>
        </p:spPr>
      </p:pic>
      <p:sp>
        <p:nvSpPr>
          <p:cNvPr id="352" name="TextBox 4"/>
          <p:cNvSpPr/>
          <p:nvPr/>
        </p:nvSpPr>
        <p:spPr>
          <a:xfrm>
            <a:off x="214200" y="357120"/>
            <a:ext cx="7000920" cy="5854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днако слишком незначительны были его силы (300 человек) , чтобы можно было предпринять с ними что-либо серьёзное и добиться успеха в борьбе с казахскими владетелями, каждый из которых водил «многочисленное войско», а хан Бурундук располагал 50-тысячным войском. Тем не менее, ему в начале удается завладеть несколькими присырдарьинскими городами, но этот захват крепостей столь  же непродолжителен, насколько скоро оказались они в его власт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	</a:t>
            </a:r>
            <a:r>
              <a:rPr b="0" lang="ru-RU" sz="1800" spc="-1" strike="noStrike">
                <a:solidFill>
                  <a:srgbClr val="2d2d8a"/>
                </a:solidFill>
                <a:latin typeface="Arial Black"/>
              </a:rPr>
              <a:t>Немаловажной причиной кратковременных успехов Шайбани, несомненно, была и поддержка, которую он нашёл в мангытах, в значительной степени добровольно подчинившихся ему и даже выдвигавших его кандидатуру в ха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Рисунок 1" descr="uzb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1"/>
          <p:cNvSpPr/>
          <p:nvPr/>
        </p:nvSpPr>
        <p:spPr>
          <a:xfrm>
            <a:off x="357120" y="1500120"/>
            <a:ext cx="85726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Стремясь упрочить свои взаимоотношения с мангытскими мирзами, он женит своего дядю Суйундж Ходжа-султана на дочери Муса-мирзы, на одной из сестёр которой был женат сам. Но мангытские мирзы не только не выполнили своего обещания поднять его ханом, но вскоре перешли в лагерь его противников. Покинутый вчерашним союзником и неотступно преследуемый казахским ханом и султанами, он терпит поражение в жарком бою у перевала Согунлук, между Сузаком и Сыгнаком, в горах Кара-Тау, от объединённых сил Бурундук-хана и владетеля Сузака  Махмуд-султана, сына Джанибек-хана и спешно удаляется на полуостров Мангышла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SkyMoon-4"/>
          <p:cNvPicPr/>
          <p:nvPr/>
        </p:nvPicPr>
        <p:blipFill>
          <a:blip r:embed="rId1"/>
          <a:stretch/>
        </p:blipFill>
        <p:spPr>
          <a:xfrm>
            <a:off x="0" y="0"/>
            <a:ext cx="9144000" cy="6858000"/>
          </a:xfrm>
          <a:prstGeom prst="rect">
            <a:avLst/>
          </a:prstGeom>
          <a:ln w="0">
            <a:noFill/>
          </a:ln>
        </p:spPr>
      </p:pic>
      <p:sp>
        <p:nvSpPr>
          <p:cNvPr id="356" name="TextBox 5"/>
          <p:cNvSpPr/>
          <p:nvPr/>
        </p:nvSpPr>
        <p:spPr>
          <a:xfrm>
            <a:off x="1857240" y="117360"/>
            <a:ext cx="7286760" cy="556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Затем мы его видим на службе у Тимурида Ахмад-мирзы. Но волевой авантюрист, удалой молодей, каким был Мухаммед Шайбани, вовсе не думал всегда оставаться вассалом тимуридского султана. Скоро он покинул Ахмад-мирзу и перешёл на сторону моголов, заключив мир с его величеством Султан-Махмуд-ханом. Однако все эти союзы шайбанидского царевича, заверенные лишь устными клятвенными обещаниями, неискренны и столь же непрочны, как непрочно положение самого Шейбани. Как тонкий политик он прекрасно понимает, что и его терпят лишь постольку, поскольку его служба может принести пользу  в чьих-либо честолюбивых замыслах, что сразу же после того, как сегодняшним соратникам удастся достичь своих целей, этот союз тут же потеряет смысл для обеих сторон, что завтра они могут быть только соперниками. И поэтому после захвата Сабрана он, по словам Шади,  предупреждая своих спутников остерегаться козней и интриг старейшин города, говори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SkyMoon-5"/>
          <p:cNvPicPr/>
          <p:nvPr/>
        </p:nvPicPr>
        <p:blipFill>
          <a:blip r:embed="rId1"/>
          <a:stretch/>
        </p:blipFill>
        <p:spPr>
          <a:xfrm>
            <a:off x="0" y="0"/>
            <a:ext cx="9144000" cy="6858000"/>
          </a:xfrm>
          <a:prstGeom prst="rect">
            <a:avLst/>
          </a:prstGeom>
          <a:ln w="0">
            <a:noFill/>
          </a:ln>
        </p:spPr>
      </p:pic>
      <p:sp>
        <p:nvSpPr>
          <p:cNvPr id="358" name="TextBox 4"/>
          <p:cNvSpPr/>
          <p:nvPr/>
        </p:nvSpPr>
        <p:spPr>
          <a:xfrm>
            <a:off x="214200" y="1571760"/>
            <a:ext cx="7000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Arial Black"/>
              </a:rPr>
              <a:t>Ведь по необходимости отдали они нам город,</a:t>
            </a:r>
            <a:endParaRPr b="0" lang="en-US" sz="1800" spc="-1" strike="noStrike">
              <a:solidFill>
                <a:srgbClr val="000000"/>
              </a:solidFill>
              <a:latin typeface="Arial"/>
            </a:endParaRPr>
          </a:p>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Arial Black"/>
              </a:rPr>
              <a:t>Но не закрыли ни дверь козням и интригам.</a:t>
            </a:r>
            <a:endParaRPr b="0" lang="en-US" sz="1800" spc="-1" strike="noStrike">
              <a:solidFill>
                <a:srgbClr val="000000"/>
              </a:solidFill>
              <a:latin typeface="Arial"/>
            </a:endParaRPr>
          </a:p>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Arial Black"/>
              </a:rPr>
              <a:t>Чуть явится им покровительство с другой стороны,</a:t>
            </a:r>
            <a:endParaRPr b="0" lang="en-US" sz="1800" spc="-1" strike="noStrike">
              <a:solidFill>
                <a:srgbClr val="000000"/>
              </a:solidFill>
              <a:latin typeface="Arial"/>
            </a:endParaRPr>
          </a:p>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8a"/>
                </a:solidFill>
                <a:latin typeface="Arial Black"/>
              </a:rPr>
              <a:t>Поведут они тебе рассказ стрелой и секир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3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330" name="Рисунок 3" descr="uzb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1"/>
          <p:cNvSpPr/>
          <p:nvPr/>
        </p:nvSpPr>
        <p:spPr>
          <a:xfrm>
            <a:off x="357120" y="1500120"/>
            <a:ext cx="8501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пасения Шайбани оказались не напрасными. Старейшины Сабрана, добровольно вручившие ключи от города брату Шейбани Махмуд-султану, с такой же  легкостью открыли ворота перед казахским ханом Бурундуком, выдав ему Махмуд-султана вместе с семейством. А когда Бурундук-хан «с сыновьями Джанибек-хана и с войском мангытов» осадил Сыгнак, то городские сановники, не желая подвергаться ужасам расправы кочевников, склонили жителей выразить покорность казахскому хан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SkyMoon-4"/>
          <p:cNvPicPr/>
          <p:nvPr/>
        </p:nvPicPr>
        <p:blipFill>
          <a:blip r:embed="rId1"/>
          <a:stretch/>
        </p:blipFill>
        <p:spPr>
          <a:xfrm>
            <a:off x="0" y="0"/>
            <a:ext cx="9144000" cy="6858000"/>
          </a:xfrm>
          <a:prstGeom prst="rect">
            <a:avLst/>
          </a:prstGeom>
          <a:ln w="0">
            <a:noFill/>
          </a:ln>
        </p:spPr>
      </p:pic>
      <p:sp>
        <p:nvSpPr>
          <p:cNvPr id="361" name="TextBox 5"/>
          <p:cNvSpPr/>
          <p:nvPr/>
        </p:nvSpPr>
        <p:spPr>
          <a:xfrm>
            <a:off x="1857240" y="0"/>
            <a:ext cx="7286760" cy="593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Выбитый из присырдарьинских крепостей, часть которых перешла во владения казахского хана, Шейбани с отрядом в 400 человек устремился в низовья Аму-Дарьи, в вилайет Хорезм в надежде захватить владения Тимуридов.  Но и здесь его успехи оказались не блестящими, и он поспешил обратно в степи; тем более, что его звал туда Султан-Махмуд. Монгольсикй хан, опасаясь, что «Султан-Ахмад-мирза поведет наступление на вилайет Ташкент», уступил Шейбани только что взятую им у Тимуридов пограничную крепость Отрар. В ходе последовавших затем непрерывных войн с казахскими владетелями в руки узбекского царевича, не без помощи того же монгольского хана, перешли в ряд крепостей, в том числе и Ясы (г. Туркеста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d2d8a"/>
                </a:solidFill>
                <a:latin typeface="Arial Black"/>
              </a:rPr>
              <a:t>Переход некоторых  пограничных крепостей в руки Мухаммеда Шайбани скорее всего объясняется его умением выгодно использовать враждебные интересы своих соперников, коалиции которых были непрочны и быстро распадал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SkyMoon-5"/>
          <p:cNvPicPr/>
          <p:nvPr/>
        </p:nvPicPr>
        <p:blipFill>
          <a:blip r:embed="rId1"/>
          <a:stretch/>
        </p:blipFill>
        <p:spPr>
          <a:xfrm>
            <a:off x="0" y="0"/>
            <a:ext cx="9144000" cy="6858000"/>
          </a:xfrm>
          <a:prstGeom prst="rect">
            <a:avLst/>
          </a:prstGeom>
          <a:ln w="0">
            <a:noFill/>
          </a:ln>
        </p:spPr>
      </p:pic>
      <p:sp>
        <p:nvSpPr>
          <p:cNvPr id="363" name="TextBox 4"/>
          <p:cNvSpPr/>
          <p:nvPr/>
        </p:nvSpPr>
        <p:spPr>
          <a:xfrm>
            <a:off x="214200" y="1571760"/>
            <a:ext cx="7000920" cy="672840"/>
          </a:xfrm>
          <a:prstGeom prst="rect">
            <a:avLst/>
          </a:prstGeom>
          <a:noFill/>
          <a:ln w="0">
            <a:noFill/>
          </a:ln>
        </p:spPr>
        <p:style>
          <a:lnRef idx="0"/>
          <a:fillRef idx="0"/>
          <a:effectRef idx="0"/>
          <a:fontRef idx="minor"/>
        </p:style>
        <p:txBody>
          <a:bodyPr lIns="90000" rIns="90000" tIns="46800" bIns="46800" anchor="t">
            <a:spAutoFit/>
          </a:bodyPr>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6"/>
          <p:cNvSpPr/>
          <p:nvPr/>
        </p:nvSpPr>
        <p:spPr>
          <a:xfrm>
            <a:off x="214200" y="214200"/>
            <a:ext cx="6715080" cy="14495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Ярким примером его тактики ведения войны может служить поведение самого Шейбани в осажденной крепости. Когда казахский хан Бурундук в союзе с Мухаммад-Мазид-тарханом подошёл к Отрару, то Шайбани посоветовал запереться в крепости и не вступать в открытое сражение с преобладающей силой противника. «Поскольку их два-три соперничающих войска,  -говорил он своим приближенным, - то они могут воспылать подозрением друг к другу. Когда же все заподозрят друг друга, тогда дело пойдет к расстройству». И действительно, случилось то, что пишет далее Шади, восхищаясь мудростью своего патрона, что соизволил предсказать государ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1"/>
          <p:cNvSpPr/>
          <p:nvPr/>
        </p:nvSpPr>
        <p:spPr>
          <a:xfrm>
            <a:off x="214200" y="1428840"/>
            <a:ext cx="87156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Двойная игра молодого Шайбанида, исключительная его энергия и решимость в достижении своих целей и явные уже захватнические походы не могли быть не замечены могольским ханом, и Султан Махмуд, опасаясь за судьбу своих владений, вновь возрождает прерванный союз с казахскими владетелями, поставив целью вытеснить Шайбани из занятых им присырдарьинских пространств. Шайбани, отряд которого источники определяют в 100-300 человек, не смог оказать сопротивление объединенным силам и, потеряв ряд крепостей, заключил мир с казахами, который был скреплен брачными узами дочерей Бурундук-хана с братом Шайбани, Махмуд-султаном и сыном его Мухаммад-Тимур-султа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SkyMoon-4"/>
          <p:cNvPicPr/>
          <p:nvPr/>
        </p:nvPicPr>
        <p:blipFill>
          <a:blip r:embed="rId1"/>
          <a:stretch/>
        </p:blipFill>
        <p:spPr>
          <a:xfrm>
            <a:off x="0" y="0"/>
            <a:ext cx="9144000" cy="6858000"/>
          </a:xfrm>
          <a:prstGeom prst="rect">
            <a:avLst/>
          </a:prstGeom>
          <a:ln w="0">
            <a:noFill/>
          </a:ln>
        </p:spPr>
      </p:pic>
      <p:sp>
        <p:nvSpPr>
          <p:cNvPr id="367" name="TextBox 5"/>
          <p:cNvSpPr/>
          <p:nvPr/>
        </p:nvSpPr>
        <p:spPr>
          <a:xfrm>
            <a:off x="1857240" y="928800"/>
            <a:ext cx="7286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В итоге изложенного можно сказать, что все эти рассказы авторов, хорошо знавших подробности «годов казачетсва» Шайбани-хана, несомненно заслуживают внимания и не позволяют принять утверждение о существовании узбекского княжества Мухаммеда Шайбани, согласиться с мнением  о том, что внук Абул-Хайра до завоевания  Маверанахра выступал как руководитель массового по своему размаху дви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SkyMoon-5"/>
          <p:cNvPicPr/>
          <p:nvPr/>
        </p:nvPicPr>
        <p:blipFill>
          <a:blip r:embed="rId1"/>
          <a:stretch/>
        </p:blipFill>
        <p:spPr>
          <a:xfrm>
            <a:off x="0" y="0"/>
            <a:ext cx="9144000" cy="6858000"/>
          </a:xfrm>
          <a:prstGeom prst="rect">
            <a:avLst/>
          </a:prstGeom>
          <a:ln w="0">
            <a:noFill/>
          </a:ln>
        </p:spPr>
      </p:pic>
      <p:sp>
        <p:nvSpPr>
          <p:cNvPr id="369" name="TextBox 4"/>
          <p:cNvSpPr/>
          <p:nvPr/>
        </p:nvSpPr>
        <p:spPr>
          <a:xfrm>
            <a:off x="214200" y="1571760"/>
            <a:ext cx="7000920" cy="672840"/>
          </a:xfrm>
          <a:prstGeom prst="rect">
            <a:avLst/>
          </a:prstGeom>
          <a:noFill/>
          <a:ln w="0">
            <a:noFill/>
          </a:ln>
        </p:spPr>
        <p:style>
          <a:lnRef idx="0"/>
          <a:fillRef idx="0"/>
          <a:effectRef idx="0"/>
          <a:fontRef idx="minor"/>
        </p:style>
        <p:txBody>
          <a:bodyPr lIns="90000" rIns="90000" tIns="46800" bIns="46800" anchor="t">
            <a:spAutoFit/>
          </a:bodyPr>
          <a:p>
            <a:pPr algn="ct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5"/>
          <p:cNvSpPr/>
          <p:nvPr/>
        </p:nvSpPr>
        <p:spPr>
          <a:xfrm>
            <a:off x="285840" y="214200"/>
            <a:ext cx="69292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Завоевание государства Тимуридов Шайбани-ханом в начале </a:t>
            </a:r>
            <a:r>
              <a:rPr b="0" lang="en-US" sz="1800" spc="-1" strike="noStrike">
                <a:solidFill>
                  <a:srgbClr val="2d2d8a"/>
                </a:solidFill>
                <a:latin typeface="Arial Black"/>
              </a:rPr>
              <a:t>XVI </a:t>
            </a:r>
            <a:r>
              <a:rPr b="0" lang="ru-RU" sz="1800" spc="-1" strike="noStrike">
                <a:solidFill>
                  <a:srgbClr val="2d2d8a"/>
                </a:solidFill>
                <a:latin typeface="Arial Black"/>
              </a:rPr>
              <a:t>в. привело к окончательному уходу потомков территории Абул-Хайра с частью племен и родов Узбекского улуса с территории Дешт-и Кипчака и к перенесению термина </a:t>
            </a:r>
            <a:r>
              <a:rPr b="0" i="1" lang="ru-RU" sz="1800" spc="-1" strike="noStrike">
                <a:solidFill>
                  <a:srgbClr val="2d2d8a"/>
                </a:solidFill>
                <a:latin typeface="Arial Black"/>
              </a:rPr>
              <a:t>узбек </a:t>
            </a:r>
            <a:r>
              <a:rPr b="0" lang="ru-RU" sz="1800" spc="-1" strike="noStrike">
                <a:solidFill>
                  <a:srgbClr val="2d2d8a"/>
                </a:solidFill>
                <a:latin typeface="Arial Black"/>
              </a:rPr>
              <a:t>в покоренные ими области Средней Азии. С этого времени оба термина – казак и узбек – приобрели такое значение, что служили не только для обозначения приверженцев старой знати Шайбанидов или Керея, Джанибека и их потомков, но и для разделения сородичей по месту их жительства, ограниченного теперь рамками определенных политических грани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428760" y="157176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Black"/>
              </a:rPr>
              <a:t>Список использованной литерату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Black"/>
              </a:rPr>
              <a:t>1. С.Г.Кляшторный, Т.И.Султанов «Казахстан. Летопись трёх тысячелетий», Рауан, Алмата, 1992г.</a:t>
            </a:r>
            <a:endParaRPr b="0" lang="en-US" sz="1800" spc="-1" strike="noStrike">
              <a:solidFill>
                <a:srgbClr val="000000"/>
              </a:solidFill>
              <a:latin typeface="Arial"/>
            </a:endParaRPr>
          </a:p>
        </p:txBody>
      </p:sp>
      <p:sp>
        <p:nvSpPr>
          <p:cNvPr id="372" name="TextBox 2"/>
          <p:cNvSpPr/>
          <p:nvPr/>
        </p:nvSpPr>
        <p:spPr>
          <a:xfrm>
            <a:off x="500040" y="264312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2. Г.В.Кан «История Казахстана»  </a:t>
            </a:r>
            <a:endParaRPr b="0" lang="en-US" sz="2400" spc="-1" strike="noStrike">
              <a:solidFill>
                <a:srgbClr val="000000"/>
              </a:solidFill>
              <a:latin typeface="Arial"/>
            </a:endParaRPr>
          </a:p>
        </p:txBody>
      </p:sp>
      <p:sp>
        <p:nvSpPr>
          <p:cNvPr id="373" name="TextBox 4"/>
          <p:cNvSpPr/>
          <p:nvPr/>
        </p:nvSpPr>
        <p:spPr>
          <a:xfrm>
            <a:off x="428760" y="3214800"/>
            <a:ext cx="421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2268"/>
                </a:solidFill>
                <a:latin typeface="Arial"/>
              </a:rPr>
              <a:t>3. Шы</a:t>
            </a:r>
            <a:r>
              <a:rPr b="1" lang="kk-KZ" sz="2400" spc="-1" strike="noStrike">
                <a:solidFill>
                  <a:srgbClr val="222268"/>
                </a:solidFill>
                <a:latin typeface="Arial"/>
              </a:rPr>
              <a:t>ң </a:t>
            </a:r>
            <a:r>
              <a:rPr b="1" lang="ru-RU" sz="2400" spc="-1" strike="noStrike">
                <a:solidFill>
                  <a:srgbClr val="222268"/>
                </a:solidFill>
                <a:latin typeface="Arial"/>
              </a:rPr>
              <a:t>2006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4"/>
          <p:cNvSpPr/>
          <p:nvPr/>
        </p:nvSpPr>
        <p:spPr>
          <a:xfrm>
            <a:off x="214200" y="1571760"/>
            <a:ext cx="84297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н был внуком Абул-Хайр-хана и старшим сыном  Шах-Будак-султана (ум. в  864 /1459-60 гг.). Родился в 1451 г. По Бинаи и Хондамиру, родительницу его звали Аккозы – бегим, она была «из рода Алтан - хана». Собственное имя Шайбани – Мухаммед. Но, как известно, знатное происхождение создавало на мусульманском Востоке сложную систему имён, и полное имя взрослого человека может включать в себя 3-5 и более компонентов. По Бинаи и Юсуфу Мунши, ещё при рождении Мухаммада, его дедом Абул-Хайр-ханом ему было дано почётное прозвание (лакаб) Шахбахт; другие его прозвания, которые он получил позже, - АбулФатх, Шакибек-хан, Шайбек-хан, Шилдак-х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 descr="SkyMoon-4"/>
          <p:cNvPicPr/>
          <p:nvPr/>
        </p:nvPicPr>
        <p:blipFill>
          <a:blip r:embed="rId1"/>
          <a:stretch/>
        </p:blipFill>
        <p:spPr>
          <a:xfrm>
            <a:off x="0" y="0"/>
            <a:ext cx="9144000" cy="6858000"/>
          </a:xfrm>
          <a:prstGeom prst="rect">
            <a:avLst/>
          </a:prstGeom>
          <a:ln w="0">
            <a:noFill/>
          </a:ln>
        </p:spPr>
      </p:pic>
      <p:sp>
        <p:nvSpPr>
          <p:cNvPr id="333" name="TextBox 4"/>
          <p:cNvSpPr/>
          <p:nvPr/>
        </p:nvSpPr>
        <p:spPr>
          <a:xfrm>
            <a:off x="2000160" y="500040"/>
            <a:ext cx="69296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Бабур, политический и династийный противник Шахибек-хана, называет его «не видавшим света деревенщиной» и безграмотным писакой, «сочинившим несколько бездарных стихов». Однако тут – явное пристрастие. Мы знаем, что знаменитый внук  Абул-Хайр-хана был одним из образованнейших людей своего времени и известным в литературных кругах  поэтом, в творческом наследии которого значатся объёмистое поэтическое произведение под названием «Бахр ал-Худа» и многочисленные стихи; как поэт он пользовался литературным псевдонимом (тахаллус) Шейба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Рисунок 1" descr="5-64-1.jpg"/>
          <p:cNvPicPr/>
          <p:nvPr/>
        </p:nvPicPr>
        <p:blipFill>
          <a:blip r:embed="rId1"/>
          <a:stretch/>
        </p:blipFill>
        <p:spPr>
          <a:xfrm>
            <a:off x="0" y="1357200"/>
            <a:ext cx="9144000" cy="5500800"/>
          </a:xfrm>
          <a:prstGeom prst="rect">
            <a:avLst/>
          </a:prstGeom>
          <a:ln w="0">
            <a:noFill/>
          </a:ln>
        </p:spPr>
      </p:pic>
      <p:sp>
        <p:nvSpPr>
          <p:cNvPr id="335" name="TextBox 2"/>
          <p:cNvSpPr/>
          <p:nvPr/>
        </p:nvSpPr>
        <p:spPr>
          <a:xfrm>
            <a:off x="357120" y="0"/>
            <a:ext cx="8786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Black"/>
              </a:rPr>
              <a:t>Государство кочевых узбеков, основателем которого был Абул-Хайр-хан , дед завоевателя империи Тимуридов Мухаммада Шайбани-ха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SkyMoon-3"/>
          <p:cNvPicPr/>
          <p:nvPr/>
        </p:nvPicPr>
        <p:blipFill>
          <a:blip r:embed="rId1"/>
          <a:stretch/>
        </p:blipFill>
        <p:spPr>
          <a:xfrm>
            <a:off x="0" y="0"/>
            <a:ext cx="9144000" cy="6858000"/>
          </a:xfrm>
          <a:prstGeom prst="rect">
            <a:avLst/>
          </a:prstGeom>
          <a:ln w="0">
            <a:noFill/>
          </a:ln>
        </p:spPr>
      </p:pic>
      <p:sp>
        <p:nvSpPr>
          <p:cNvPr id="337" name="TextBox 4"/>
          <p:cNvSpPr/>
          <p:nvPr/>
        </p:nvSpPr>
        <p:spPr>
          <a:xfrm>
            <a:off x="214200" y="1214280"/>
            <a:ext cx="857268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2d2d8a"/>
                </a:solidFill>
                <a:latin typeface="Arial Black"/>
              </a:rPr>
              <a:t>Вот что пишет о нём Абул-Гази: «Имя старшего сына Абул-Хайр-хана – Шах-Будак-султан; у него было два сына: имя (ат) старшего сына было Мухаммад, прозвание (лакаб) – Шахбахт, да будет на нём милость божья! Он был поэт, и так как он происходил из потомков Шибан-хана, то принял тахаллус Шайбани, да помилует его бог!»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8a"/>
                </a:solidFill>
                <a:latin typeface="Arial Black"/>
              </a:rPr>
              <a:t>	</a:t>
            </a:r>
            <a:r>
              <a:rPr b="0" lang="ru-RU" sz="2000" spc="-1" strike="noStrike">
                <a:solidFill>
                  <a:srgbClr val="2d2d8a"/>
                </a:solidFill>
                <a:latin typeface="Arial Black"/>
              </a:rPr>
              <a:t>В источниках шайбанидского круга полное имя внука Абул-Хайр-хана обычно пишется в форме – Абул-Фатх Мухаммад Шейбани-ха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4" descr="SkyMoon-5"/>
          <p:cNvPicPr/>
          <p:nvPr/>
        </p:nvPicPr>
        <p:blipFill>
          <a:blip r:embed="rId1"/>
          <a:stretch/>
        </p:blipFill>
        <p:spPr>
          <a:xfrm>
            <a:off x="0" y="0"/>
            <a:ext cx="9144000" cy="6858000"/>
          </a:xfrm>
          <a:prstGeom prst="rect">
            <a:avLst/>
          </a:prstGeom>
          <a:ln w="0">
            <a:noFill/>
          </a:ln>
        </p:spPr>
      </p:pic>
      <p:sp>
        <p:nvSpPr>
          <p:cNvPr id="339" name="TextBox 4"/>
          <p:cNvSpPr/>
          <p:nvPr/>
        </p:nvSpPr>
        <p:spPr>
          <a:xfrm>
            <a:off x="285840" y="571680"/>
            <a:ext cx="65721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8a"/>
                </a:solidFill>
                <a:latin typeface="Arial Black"/>
              </a:rPr>
              <a:t>Он был основателем государства Шайбанидов  в Средней Азии (1500-1598). У него было три сына: Мухаммад-Тимур, Хуррамшах-султан и Абул-Хайр-султан. Прямые наследники самого Шайбани-хана никогда и ни где не правили, так что династии под названием Шейбаниды (Шайбаниды) не существовало. Шейбани-хан, его дети, его дед Абул-Хайр-хан – все они – были Шибанидами (Сыбанидами), т.е. потомками Шибана (Сыбана), сын Джучи, сына Чингиз-ха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285840" y="1500120"/>
            <a:ext cx="85010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8a"/>
                </a:solidFill>
                <a:latin typeface="Arial Black"/>
              </a:rPr>
              <a:t>Мухаммед Шайбани обладал большими военными и организаторскими способностями, исключительной энергией и волей, был человек отчаянной смелости и бесстрашный рубака. Однако на протяжении всей бранной, полной тревог и опасностей жизни, вплоть до завоевания Мавераннахра, он оставался простым искателем добычи и приключений, в лучшем случае удачливым предводителем и счастливым политическим авантюристом, что и можно усмотреть в тех же сочинениях шайбанидского кру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4" descr="SkyMoon-4"/>
          <p:cNvPicPr/>
          <p:nvPr/>
        </p:nvPicPr>
        <p:blipFill>
          <a:blip r:embed="rId1"/>
          <a:stretch/>
        </p:blipFill>
        <p:spPr>
          <a:xfrm>
            <a:off x="0" y="0"/>
            <a:ext cx="9144000" cy="6858000"/>
          </a:xfrm>
          <a:prstGeom prst="rect">
            <a:avLst/>
          </a:prstGeom>
          <a:ln w="0">
            <a:noFill/>
          </a:ln>
        </p:spPr>
      </p:pic>
      <p:sp>
        <p:nvSpPr>
          <p:cNvPr id="342" name="TextBox 4"/>
          <p:cNvSpPr/>
          <p:nvPr/>
        </p:nvSpPr>
        <p:spPr>
          <a:xfrm>
            <a:off x="2000160" y="500040"/>
            <a:ext cx="69296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2d8a"/>
                </a:solidFill>
                <a:latin typeface="Arial Black"/>
              </a:rPr>
              <a:t>Он был основным противником первых казахских ханов, выступивший с самого начала как талантливый организатор и энергичный предводитель Мухаммед Шайбани, который стремился восстановить господство семьи своего дела Абул-Хайр-хана над Восточным Дешт-и Кипчаком и объединить кочевые племена степей под своей властью. Причем при столкновении со своими  соперниками Шайбани имел дело уже с сыновьями основателей Казахского ханства, среди которых старший сын Керея Бурундук именуется верховным ханом казахов. Когда, и где и при каких обстоятельствах скончались Керей и Джанибек источники умалчив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5:57:46Z</dcterms:created>
  <dc:creator>User</dc:creator>
  <dc:description/>
  <dc:language>en-US</dc:language>
  <cp:lastModifiedBy>Sony</cp:lastModifiedBy>
  <dcterms:modified xsi:type="dcterms:W3CDTF">2014-03-20T02:04:37Z</dcterms:modified>
  <cp:revision>59</cp:revision>
  <dc:subject/>
  <dc:title>Слайд 1</dc:title>
</cp:coreProperties>
</file>