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E3D-55FA-4B8C-888A-D25829AB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AD3-4307-4B06-AF6F-DFD2F930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1DD9-4C69-42C3-A63F-4B5C790A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875-5566-4829-8EA1-93B649F8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32D-37FF-44D7-8E11-9BF09694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C04-1223-4C5F-AB31-5992660F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BEC-A238-4E77-9994-C47BED69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BB3-1954-43D7-852D-8A798E98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8EF-049F-44EA-AA58-BC3F548F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4CC-9225-4E6A-AC1A-13FD3AA6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81F-544F-4DEB-9A18-EA9D41B7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14A-928A-484E-B802-29EAD7BA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865B-CD13-4AC8-B02A-D0D1A5D432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Модель 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открытой системы обмена информацией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OSI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lang="en-US" sz="3600" spc="-1" strike="noStrike">
                <a:solidFill>
                  <a:srgbClr val="ccffcc"/>
                </a:solidFill>
                <a:latin typeface="Arial Narrow"/>
              </a:rPr>
              <a:t>Open System Interchange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)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формирует требования к сетям, в том числе и к локальным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Термин “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открытая система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” означает, что система не замкнута в себе и может наращиваться, связываться с другими системами.  В модели нет привязки к конкретной аппаратуре компьютеров, сетей, к типу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ПО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Модель 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OSI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меет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емь уровней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Каждый более высокий уровень опирается на все нижестоящие  и использует их в своих целях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Модель OSI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3" name="Line 8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Информация должна быть представлена пользо-вателю в понятном для него виде. На этом уровне определяются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форматы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данных, например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ASCII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. Здесь же выполняются операции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преобразования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форматов,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кодирования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декодирования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сжатия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разархивирования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данных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Этот уровень отвечает за управление потоками данных и их перенаправление на порты и уст-ва ввода-вывода. Так, этот уровень используется для направления запроса пользователя на сервер и возвращения ему отчет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Уровень представления данных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Здесь запускаются и выполняются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пользователь-ские приложения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, служебные утилиты для них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При запросе к базе данных на сервере его выполнение осуществляется за счет обращения к функциям и программам, работающим на прикладном уровн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Характерные службы этого уровня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 •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лужба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каталогов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 •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электронная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почт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 •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лужбы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доступа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к файлам и печат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 •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лужба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объявлений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Прикладной уровень 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24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Кабели соединяют отдельные </a:t>
            </a:r>
            <a:r>
              <a:rPr b="0" lang="ru-RU" sz="3600" spc="-1" strike="noStrike">
                <a:solidFill>
                  <a:srgbClr val="00ff00"/>
                </a:solidFill>
                <a:latin typeface="Arial Narrow"/>
              </a:rPr>
              <a:t>РС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по разному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в зависимости от топологии, вида сети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- </a:t>
            </a:r>
            <a:r>
              <a:rPr b="0" lang="en-US" sz="3600" spc="-1" strike="noStrike">
                <a:solidFill>
                  <a:srgbClr val="00ff00"/>
                </a:solidFill>
                <a:latin typeface="Arial Narrow"/>
              </a:rPr>
              <a:t>Ethernet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en-US" sz="3600" spc="-1" strike="noStrike">
                <a:solidFill>
                  <a:srgbClr val="00ff00"/>
                </a:solidFill>
                <a:latin typeface="Arial Narrow"/>
              </a:rPr>
              <a:t>Arcnet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en-US" sz="3600" spc="-1" strike="noStrike">
                <a:solidFill>
                  <a:srgbClr val="00ff00"/>
                </a:solidFill>
                <a:latin typeface="Arial Narrow"/>
              </a:rPr>
              <a:t>Token Ring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, которые отличаются метода-ми доступа к каналам передачи данных. У нас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наибольшее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распространение получил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Arial Narrow"/>
              </a:rPr>
              <a:t>Ethernet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. Для него используют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витую пару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коаксиальный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кабель или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оптоволоконный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кабель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первом случае для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Ethernet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спользуетс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медный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8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-жильный кабель, состоящий физичес-ки из</a:t>
            </a:r>
            <a:r>
              <a:rPr b="0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четырех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витых пар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Сетевое оборудование: Кабели 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5228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При этом различают неэкранированный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UTP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en-US" sz="3600" spc="-1" strike="noStrike">
                <a:solidFill>
                  <a:srgbClr val="ccffcc"/>
                </a:solidFill>
                <a:latin typeface="Arial Narrow"/>
              </a:rPr>
              <a:t>Unshielded Twisted Pair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 экранированный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STP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600" spc="-1" strike="noStrike">
                <a:solidFill>
                  <a:srgbClr val="ccffcc"/>
                </a:solidFill>
                <a:latin typeface="Arial Narrow"/>
              </a:rPr>
              <a:t>Shielded Twisted Pair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кабели.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Провода в паре свивают для уменьшения влия-ния электромагнитных полей одного провода на электрический сигнал другого провода. </a:t>
            </a:r>
            <a:r>
              <a:rPr b="0" lang="ru-RU" sz="3600" spc="-1" strike="noStrike">
                <a:solidFill>
                  <a:srgbClr val="ccffcc"/>
                </a:solidFill>
                <a:latin typeface="Arial Narrow"/>
              </a:rPr>
              <a:t>Число витков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на единицу длины кабеля – важная характеристика. Существует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 5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категорий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UTP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. Из них в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LAN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сп-ся кабели категории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5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, с числом витков –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4 на дюйм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lang="ru-RU" sz="3600" spc="-1" strike="noStrike">
                <a:solidFill>
                  <a:srgbClr val="ccffcc"/>
                </a:solidFill>
                <a:latin typeface="Arial Narrow"/>
              </a:rPr>
              <a:t>30,5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см). Первые – для рабо-ты со скоростью до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16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ccffcc"/>
                </a:solidFill>
                <a:latin typeface="Arial Narrow"/>
              </a:rPr>
              <a:t>Мбит/с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; вторые – до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100 </a:t>
            </a:r>
            <a:r>
              <a:rPr b="0" lang="ru-RU" sz="3600" spc="-1" strike="noStrike">
                <a:solidFill>
                  <a:srgbClr val="ccffcc"/>
                </a:solidFill>
                <a:latin typeface="Arial Narrow"/>
              </a:rPr>
              <a:t>Мбит/с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. Расстояние передачи –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сотни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метр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CABLE02"/>
          <p:cNvPicPr/>
          <p:nvPr/>
        </p:nvPicPr>
        <p:blipFill>
          <a:blip r:embed="rId1"/>
          <a:stretch/>
        </p:blipFill>
        <p:spPr>
          <a:xfrm>
            <a:off x="2909880" y="0"/>
            <a:ext cx="62341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ABLE01"/>
          <p:cNvPicPr/>
          <p:nvPr/>
        </p:nvPicPr>
        <p:blipFill>
          <a:blip r:embed="rId2"/>
          <a:stretch/>
        </p:blipFill>
        <p:spPr>
          <a:xfrm>
            <a:off x="0" y="0"/>
            <a:ext cx="4859280" cy="2825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5227560" y="5202360"/>
            <a:ext cx="3916440" cy="165564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Неэкранированная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витая пара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UTP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ECS"/>
          <p:cNvPicPr/>
          <p:nvPr/>
        </p:nvPicPr>
        <p:blipFill>
          <a:blip r:embed="rId1"/>
          <a:stretch/>
        </p:blipFill>
        <p:spPr>
          <a:xfrm>
            <a:off x="2514600" y="228600"/>
            <a:ext cx="6324480" cy="63244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 rot="16200000">
            <a:off x="-1905480" y="2284920"/>
            <a:ext cx="6248160" cy="228780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Неэкранированная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витая пара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UTP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 с большим числом па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8"/>
          <p:cNvGraphicFramePr/>
          <p:nvPr/>
        </p:nvGraphicFramePr>
        <p:xfrm>
          <a:off x="0" y="3684600"/>
          <a:ext cx="723888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846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9"/>
          <p:cNvGraphicFramePr/>
          <p:nvPr/>
        </p:nvGraphicFramePr>
        <p:xfrm>
          <a:off x="76320" y="0"/>
          <a:ext cx="4495680" cy="24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0"/>
                    <a:ext cx="449568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0" y="-360"/>
            <a:ext cx="4648320" cy="251460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Неэкранированная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витая пара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с разъемом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RJ-45</a:t>
            </a: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2666880"/>
            <a:ext cx="7238880" cy="91440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Экранированная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витая пар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76320" y="0"/>
            <a:ext cx="90676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Коаксиальный кабель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sz="3600" spc="-1" strike="noStrike">
                <a:solidFill>
                  <a:srgbClr val="ffffff"/>
                </a:solidFill>
                <a:latin typeface="Arial Narrow"/>
              </a:rPr>
              <a:t>Ethernet-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кабель) состоит из центрального проводника и внешней экрани-рующей оплетки. С его помощью соединяют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РС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на расстоянии нескольких км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Для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Ethernet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применяют кабель с волновым сопротивлением</a:t>
            </a:r>
            <a:r>
              <a:rPr b="0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sz="3600" spc="-1" strike="noStrike">
                <a:solidFill>
                  <a:srgbClr val="ffff00"/>
                </a:solidFill>
                <a:latin typeface="Arial Narrow"/>
              </a:rPr>
              <a:t>50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Ом. Существуют тонкий и толстый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Ethernet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с диаметром кабеля </a:t>
            </a:r>
            <a:r>
              <a:rPr b="0" sz="3600" spc="-1" strike="noStrike">
                <a:solidFill>
                  <a:srgbClr val="ffff00"/>
                </a:solidFill>
                <a:latin typeface="Arial Narrow"/>
              </a:rPr>
              <a:t>0,2</a:t>
            </a:r>
            <a:r>
              <a:rPr b="0" sz="3600" spc="-1" strike="noStrike">
                <a:solidFill>
                  <a:srgbClr val="ffffff"/>
                </a:solidFill>
                <a:latin typeface="Arial Narrow"/>
              </a:rPr>
              <a:t>"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</a:t>
            </a:r>
            <a:r>
              <a:rPr b="0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sz="3600" spc="-1" strike="noStrike">
                <a:solidFill>
                  <a:srgbClr val="ffff00"/>
                </a:solidFill>
                <a:latin typeface="Arial Narrow"/>
              </a:rPr>
              <a:t>0,4</a:t>
            </a:r>
            <a:r>
              <a:rPr b="0" sz="3600" spc="-1" strike="noStrike">
                <a:solidFill>
                  <a:srgbClr val="ffffff"/>
                </a:solidFill>
                <a:latin typeface="Arial Narrow"/>
              </a:rPr>
              <a:t>"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Общая длина сегмента тонкого кабеля не должна превышать</a:t>
            </a:r>
            <a:r>
              <a:rPr b="0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sz="3600" spc="-1" strike="noStrike">
                <a:solidFill>
                  <a:srgbClr val="ffff00"/>
                </a:solidFill>
                <a:latin typeface="Arial Narrow"/>
              </a:rPr>
              <a:t>185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м.  Максимальная длина кабелей всей сети может достигать</a:t>
            </a:r>
            <a:r>
              <a:rPr b="0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sz="3600" spc="-1" strike="noStrike">
                <a:solidFill>
                  <a:srgbClr val="ffff00"/>
                </a:solidFill>
                <a:latin typeface="Arial Narrow"/>
              </a:rPr>
              <a:t>925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м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Для толстого кабеля эти цифры равны  </a:t>
            </a:r>
            <a:r>
              <a:rPr b="0" sz="3600" spc="-1" strike="noStrike">
                <a:solidFill>
                  <a:srgbClr val="ffff00"/>
                </a:solidFill>
                <a:latin typeface="Arial Narrow"/>
              </a:rPr>
              <a:t>500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 </a:t>
            </a:r>
            <a:r>
              <a:rPr b="0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sz="3600" spc="-1" strike="noStrike">
                <a:solidFill>
                  <a:srgbClr val="ffff00"/>
                </a:solidFill>
                <a:latin typeface="Arial Narrow"/>
              </a:rPr>
              <a:t>2500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м, соответственн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oax"/>
          <p:cNvPicPr/>
          <p:nvPr/>
        </p:nvPicPr>
        <p:blipFill>
          <a:blip r:embed="rId1"/>
          <a:stretch/>
        </p:blipFill>
        <p:spPr>
          <a:xfrm>
            <a:off x="0" y="206208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Коаксиальный кабель</a:t>
            </a:r>
            <a:r>
              <a:rPr b="0" lang="ru-RU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Коаксиальный кабель 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graphicFrame>
        <p:nvGraphicFramePr>
          <p:cNvPr id="96" name="Object 14"/>
          <p:cNvGraphicFramePr/>
          <p:nvPr/>
        </p:nvGraphicFramePr>
        <p:xfrm>
          <a:off x="0" y="2819520"/>
          <a:ext cx="8915400" cy="29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19520"/>
                    <a:ext cx="8915400" cy="29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1"/>
          <p:cNvGraphicFramePr/>
          <p:nvPr/>
        </p:nvGraphicFramePr>
        <p:xfrm>
          <a:off x="0" y="1981080"/>
          <a:ext cx="9144000" cy="449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81080"/>
                    <a:ext cx="9144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28600" y="1636560"/>
          <a:ext cx="8686800" cy="4919760"/>
        </p:xfrm>
        <a:graphic>
          <a:graphicData uri="http://schemas.openxmlformats.org/drawingml/2006/table">
            <a:tbl>
              <a:tblPr/>
              <a:tblGrid>
                <a:gridCol w="609480"/>
                <a:gridCol w="80773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Уровень </a:t>
                      </a:r>
                      <a:r>
                        <a:rPr b="0" lang="ru-RU" sz="3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приложений                     </a:t>
                      </a:r>
                      <a:r>
                        <a:rPr b="0" i="1" lang="ru-RU" sz="32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Applica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Уровень </a:t>
                      </a:r>
                      <a:r>
                        <a:rPr b="0" lang="ru-RU" sz="3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представления данных   </a:t>
                      </a:r>
                      <a:r>
                        <a:rPr b="0" i="1" lang="ru-RU" sz="32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resenta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Сеансовый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уровень                       </a:t>
                      </a:r>
                      <a:r>
                        <a:rPr b="0" i="1" lang="ru-RU" sz="32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Sess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Транспортный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уровень                  </a:t>
                      </a:r>
                      <a:r>
                        <a:rPr b="0" i="1" lang="en-US" sz="32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T</a:t>
                      </a:r>
                      <a:r>
                        <a:rPr b="0" i="1" lang="ru-RU" sz="32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ranspor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Сетевой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уровень                            </a:t>
                      </a:r>
                      <a:r>
                        <a:rPr b="0" i="1" lang="ru-RU" sz="32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Networ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Канальный уровень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</a:t>
                      </a:r>
                      <a:br>
                        <a:rPr sz="3600"/>
                      </a:br>
                      <a:r>
                        <a:rPr b="0" i="1" lang="ru-RU" sz="3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                                Data Link Medium Access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Физический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уровень                      </a:t>
                      </a:r>
                      <a:r>
                        <a:rPr b="0" i="1" lang="ru-RU" sz="3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hysical</a:t>
                      </a:r>
                      <a:r>
                        <a:rPr b="0" i="1" lang="ru-RU" sz="3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.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Rectangle 3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Уровни модели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OS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Опто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- или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стекловолоконный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кабель 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FOC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en-US" sz="3600" spc="-1" strike="noStrike">
                <a:solidFill>
                  <a:srgbClr val="ccffcc"/>
                </a:solidFill>
                <a:latin typeface="Arial Narrow"/>
              </a:rPr>
              <a:t>Fiber Optic Cable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)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остоит из двух проводов. Передача данных осуществляется в одном направлении. Кабель не подвержен влиянию электрических  полей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В оболочке находятся усиливающие волокна в виде слоев пластика. Длина волны  света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0,85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ли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1,2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мкм, толщина волокна около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10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мкм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Скорость передачи данных до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Гбит/с, длина (</a:t>
            </a:r>
            <a:r>
              <a:rPr b="0" sz="3600" spc="-1" strike="noStrike">
                <a:solidFill>
                  <a:srgbClr val="ffff00"/>
                </a:solidFill>
                <a:latin typeface="Arial Narrow"/>
              </a:rPr>
              <a:t>50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км и выше) почти не играет роли в затухании сигнала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Оптоволоконный кабель</a:t>
            </a:r>
            <a:r>
              <a:rPr b="1" lang="ru-RU" sz="5400" spc="-1" strike="noStrike">
                <a:solidFill>
                  <a:srgbClr val="ff9900"/>
                </a:solidFill>
                <a:latin typeface="Arial Narrow"/>
              </a:rPr>
              <a:t> </a:t>
            </a:r>
            <a:endParaRPr b="0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FOCS"/>
          <p:cNvPicPr/>
          <p:nvPr/>
        </p:nvPicPr>
        <p:blipFill>
          <a:blip r:embed="rId1"/>
          <a:stretch/>
        </p:blipFill>
        <p:spPr>
          <a:xfrm>
            <a:off x="2268360" y="165240"/>
            <a:ext cx="6715440" cy="6715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 rot="16200000">
            <a:off x="-1911240" y="2536200"/>
            <a:ext cx="6094440" cy="168768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Оптоволоконный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кабель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(FOC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1" descr="optic2"/>
          <p:cNvPicPr/>
          <p:nvPr/>
        </p:nvPicPr>
        <p:blipFill>
          <a:blip r:embed="rId2"/>
          <a:srcRect l="0" t="21507" r="1890" b="17404"/>
          <a:stretch/>
        </p:blipFill>
        <p:spPr>
          <a:xfrm>
            <a:off x="2268360" y="189000"/>
            <a:ext cx="381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Для подключения компьютера к коаксиальному тонкому кабелю применяется разъем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BNC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lang="en-US" sz="3600" spc="-1" strike="noStrike">
                <a:solidFill>
                  <a:srgbClr val="ccffcc"/>
                </a:solidFill>
                <a:latin typeface="Arial Narrow"/>
              </a:rPr>
              <a:t>Bayonet Neil</a:t>
            </a:r>
            <a:r>
              <a:rPr b="0" lang="ru-RU" sz="3600" spc="-1" strike="noStrike">
                <a:solidFill>
                  <a:srgbClr val="ccffcc"/>
                </a:solidFill>
                <a:latin typeface="Arial Narrow"/>
              </a:rPr>
              <a:t>-</a:t>
            </a:r>
            <a:r>
              <a:rPr b="0" lang="en-US" sz="3600" spc="-1" strike="noStrike">
                <a:solidFill>
                  <a:srgbClr val="ccffcc"/>
                </a:solidFill>
                <a:latin typeface="Arial Narrow"/>
              </a:rPr>
              <a:t>Concelman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). Он изготавливается из двух соединяющихся частей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Одна содержит центральный контакт, который соединяется с коаксиальным сердечником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Другая состоит из приемника, куда вставляется первая часть, соединяемого с сердечником кабеля подключаемого сегмента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Разъемы</a:t>
            </a:r>
            <a:r>
              <a:rPr b="1" lang="ru-RU" sz="54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для 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LAN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Цилиндрический разъем такого типа может соединять вместе два кабельных сегмента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ccffcc"/>
                </a:solidFill>
                <a:latin typeface="Arial Narrow"/>
              </a:rPr>
              <a:t>Т-разъем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спользуется для подключения рабочих станций к сет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152280" y="2044800"/>
          <a:ext cx="89917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44800"/>
                    <a:ext cx="89917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228600" y="152280"/>
            <a:ext cx="89154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Разъемы для кабелей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TP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называются модульны-ми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8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ли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RJ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-45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lang="en-US" sz="3600" spc="-1" strike="noStrike">
                <a:solidFill>
                  <a:srgbClr val="99ffcc"/>
                </a:solidFill>
                <a:latin typeface="Arial Narrow"/>
              </a:rPr>
              <a:t>Registered Jack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стандарта раз-водки контактов 45). Они похожи на телефонные, но по размеру крупне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Их защелка позволяет легко подсоединять и отсоединять кабель от розетк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Кабели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UTP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категорий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5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имеют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8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отдельных проводов, или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4 пары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 Пары имеют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цветовую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маркировку: один из проводов в паре имеет сплошной окрас, а другой – полоски того же цвет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76320" y="0"/>
            <a:ext cx="9067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Маркировка проводов в кабеле описывается стандартами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EIA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/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TIA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568А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6320" y="990720"/>
            <a:ext cx="90676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1 –</a:t>
            </a:r>
            <a:r>
              <a:rPr b="0" lang="ru-RU" sz="3600" spc="-1" strike="noStrike">
                <a:solidFill>
                  <a:srgbClr val="00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 Narrow"/>
              </a:rPr>
              <a:t>синий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 с синей </a:t>
            </a:r>
            <a:r>
              <a:rPr b="0" lang="ru-RU" sz="3600" spc="-1" strike="noStrike">
                <a:solidFill>
                  <a:srgbClr val="0000ff"/>
                </a:solidFill>
                <a:latin typeface="Arial Narrow"/>
              </a:rPr>
              <a:t>полосой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на белом фон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2 –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9900"/>
                </a:solidFill>
                <a:latin typeface="Arial Narrow"/>
              </a:rPr>
              <a:t>оранжевый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 с оранжевой </a:t>
            </a:r>
            <a:r>
              <a:rPr b="0" lang="ru-RU" sz="3600" spc="-1" strike="noStrike">
                <a:solidFill>
                  <a:srgbClr val="ff9900"/>
                </a:solidFill>
                <a:latin typeface="Arial Narrow"/>
              </a:rPr>
              <a:t>полосой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на белом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3 –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9900"/>
                </a:solidFill>
                <a:latin typeface="Arial Narrow"/>
              </a:rPr>
              <a:t>зеленый</a:t>
            </a:r>
            <a:r>
              <a:rPr b="0" lang="ru-RU" sz="3600" spc="-1" strike="noStrike">
                <a:solidFill>
                  <a:srgbClr val="33cc33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 с зеленой </a:t>
            </a:r>
            <a:r>
              <a:rPr b="0" lang="ru-RU" sz="3600" spc="-1" strike="noStrike">
                <a:solidFill>
                  <a:srgbClr val="009900"/>
                </a:solidFill>
                <a:latin typeface="Arial Narrow"/>
              </a:rPr>
              <a:t>полосой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на белом фон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4 –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663300"/>
                </a:solidFill>
                <a:latin typeface="Arial Narrow"/>
              </a:rPr>
              <a:t>коричневый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 с коричневой </a:t>
            </a:r>
            <a:r>
              <a:rPr b="0" lang="ru-RU" sz="3600" spc="-1" strike="noStrike">
                <a:solidFill>
                  <a:srgbClr val="663300"/>
                </a:solidFill>
                <a:latin typeface="Arial Narrow"/>
              </a:rPr>
              <a:t>полосой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на бело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76320" y="3124080"/>
            <a:ext cx="9067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В кабеле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UTP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исп-ся только </a:t>
            </a:r>
            <a:r>
              <a:rPr b="0" lang="ru-RU" sz="3600" spc="-1" strike="noStrike">
                <a:solidFill>
                  <a:srgbClr val="ccffcc"/>
                </a:solidFill>
                <a:latin typeface="Arial Narrow"/>
              </a:rPr>
              <a:t>вторая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 </a:t>
            </a:r>
            <a:r>
              <a:rPr b="0" lang="ru-RU" sz="3600" spc="-1" strike="noStrike">
                <a:solidFill>
                  <a:srgbClr val="ccffcc"/>
                </a:solidFill>
                <a:latin typeface="Arial Narrow"/>
              </a:rPr>
              <a:t>третья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пара (</a:t>
            </a:r>
            <a:r>
              <a:rPr b="0" lang="ru-RU" sz="3600" spc="-1" strike="noStrike">
                <a:solidFill>
                  <a:srgbClr val="ccffcc"/>
                </a:solidFill>
                <a:latin typeface="Arial Narrow"/>
              </a:rPr>
              <a:t>оранжевые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 </a:t>
            </a:r>
            <a:r>
              <a:rPr b="0" lang="ru-RU" sz="3600" spc="-1" strike="noStrike">
                <a:solidFill>
                  <a:srgbClr val="ccffcc"/>
                </a:solidFill>
                <a:latin typeface="Arial Narrow"/>
              </a:rPr>
              <a:t>зеленые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провода)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К контактам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подключаются </a:t>
            </a:r>
            <a:r>
              <a:rPr b="0" lang="ru-RU" sz="3600" spc="-1" strike="noStrike">
                <a:solidFill>
                  <a:srgbClr val="ccffcc"/>
                </a:solidFill>
                <a:latin typeface="Arial Narrow"/>
              </a:rPr>
              <a:t>передающие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провода, а к контактам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6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ru-RU" sz="3600" spc="-1" strike="noStrike">
                <a:solidFill>
                  <a:srgbClr val="ccffcc"/>
                </a:solidFill>
                <a:latin typeface="Arial Narrow"/>
              </a:rPr>
              <a:t>приемные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. Важно, чтобы передающие и приемные провода были спарены вместе. Если в паре взять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ccffcc"/>
                </a:solidFill>
                <a:latin typeface="Arial Narrow"/>
              </a:rPr>
              <a:t>синий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ccffcc"/>
                </a:solidFill>
                <a:latin typeface="Arial Narrow"/>
              </a:rPr>
              <a:t>зеленый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провод, то это снизит скорость передач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Разъемы</a:t>
            </a:r>
            <a:r>
              <a:rPr b="1" lang="ru-RU" sz="5400" spc="-1" strike="noStrike">
                <a:solidFill>
                  <a:srgbClr val="ff9900"/>
                </a:solidFill>
                <a:latin typeface="Arial Narrow"/>
              </a:rPr>
              <a:t> </a:t>
            </a:r>
            <a:r>
              <a:rPr b="1" lang="en-US" sz="5400" spc="-1" strike="noStrike">
                <a:solidFill>
                  <a:srgbClr val="ff9900"/>
                </a:solidFill>
                <a:latin typeface="Arial Narrow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RJ-45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7" name="Line 5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59"/>
          <p:cNvGraphicFramePr/>
          <p:nvPr/>
        </p:nvGraphicFramePr>
        <p:xfrm>
          <a:off x="0" y="1219320"/>
          <a:ext cx="9144000" cy="56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56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TOOL01"/>
          <p:cNvPicPr/>
          <p:nvPr/>
        </p:nvPicPr>
        <p:blipFill>
          <a:blip r:embed="rId1"/>
          <a:stretch/>
        </p:blipFill>
        <p:spPr>
          <a:xfrm>
            <a:off x="684360" y="5067360"/>
            <a:ext cx="3666960" cy="1790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TOOL02"/>
          <p:cNvPicPr/>
          <p:nvPr/>
        </p:nvPicPr>
        <p:blipFill>
          <a:blip r:embed="rId2"/>
          <a:stretch/>
        </p:blipFill>
        <p:spPr>
          <a:xfrm>
            <a:off x="4930920" y="5311800"/>
            <a:ext cx="4213080" cy="1523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knife"/>
          <p:cNvPicPr/>
          <p:nvPr/>
        </p:nvPicPr>
        <p:blipFill>
          <a:blip r:embed="rId3"/>
          <a:stretch/>
        </p:blipFill>
        <p:spPr>
          <a:xfrm>
            <a:off x="2340000" y="3029040"/>
            <a:ext cx="2519280" cy="188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j45"/>
          <p:cNvPicPr/>
          <p:nvPr/>
        </p:nvPicPr>
        <p:blipFill>
          <a:blip r:embed="rId4"/>
          <a:stretch/>
        </p:blipFill>
        <p:spPr>
          <a:xfrm>
            <a:off x="34920" y="3100320"/>
            <a:ext cx="2305080" cy="176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tool"/>
          <p:cNvPicPr/>
          <p:nvPr/>
        </p:nvPicPr>
        <p:blipFill>
          <a:blip r:embed="rId5"/>
          <a:stretch/>
        </p:blipFill>
        <p:spPr>
          <a:xfrm>
            <a:off x="4859280" y="3100320"/>
            <a:ext cx="4284720" cy="1841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2comp"/>
          <p:cNvPicPr/>
          <p:nvPr/>
        </p:nvPicPr>
        <p:blipFill>
          <a:blip r:embed="rId6"/>
          <a:stretch/>
        </p:blipFill>
        <p:spPr>
          <a:xfrm>
            <a:off x="5940360" y="333360"/>
            <a:ext cx="2514600" cy="2006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CABLE01"/>
          <p:cNvPicPr/>
          <p:nvPr/>
        </p:nvPicPr>
        <p:blipFill>
          <a:blip r:embed="rId7"/>
          <a:stretch/>
        </p:blipFill>
        <p:spPr>
          <a:xfrm>
            <a:off x="0" y="-27000"/>
            <a:ext cx="485928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22860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Кабели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UTP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подключаются на одной стороне к сетевому адаптеру рабочей станции, на другом – к гнезду концентратора или хаба. Концентратор отвечает за коммутацию приемных и передаю-щих сигналов для последующей их пересылки другим станциям в сет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Для соединения двух рабочих станций между собой, минуя хаб, используют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кроссировочный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кабель. Для этого нужно  поменять местами передающие и приемные пары на одном конце кабеля согласно цветовой маркировке  </a:t>
            </a:r>
            <a:r>
              <a:rPr b="0" lang="ru-RU" sz="3600" spc="-1" strike="noStrike">
                <a:solidFill>
                  <a:srgbClr val="ccffcc"/>
                </a:solidFill>
                <a:latin typeface="Arial Narrow"/>
              </a:rPr>
              <a:t>Т568В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ub"/>
          <p:cNvPicPr/>
          <p:nvPr/>
        </p:nvPicPr>
        <p:blipFill>
          <a:blip r:embed="rId1"/>
          <a:stretch/>
        </p:blipFill>
        <p:spPr>
          <a:xfrm>
            <a:off x="0" y="0"/>
            <a:ext cx="9144000" cy="314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LANBNC"/>
          <p:cNvPicPr/>
          <p:nvPr/>
        </p:nvPicPr>
        <p:blipFill>
          <a:blip r:embed="rId2"/>
          <a:srcRect l="0" t="5893" r="0" b="10228"/>
          <a:stretch/>
        </p:blipFill>
        <p:spPr>
          <a:xfrm>
            <a:off x="3348000" y="3191040"/>
            <a:ext cx="5796000" cy="37004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212640"/>
            <a:ext cx="3384720" cy="364500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Концентратор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 или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Hub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28600" y="1600200"/>
          <a:ext cx="8686800" cy="51260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Прикладн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ffcc"/>
                          </a:solidFill>
                          <a:latin typeface="Arial Narrow"/>
                        </a:rPr>
                        <a:t>Прикладн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Представления 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дан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ffcc"/>
                          </a:solidFill>
                          <a:latin typeface="Arial Narrow"/>
                        </a:rPr>
                        <a:t>Представления 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ccffcc"/>
                          </a:solidFill>
                          <a:latin typeface="Arial Narrow"/>
                        </a:rPr>
                        <a:t>дан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Сеансов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ffcc"/>
                          </a:solidFill>
                          <a:latin typeface="Arial Narrow"/>
                        </a:rPr>
                        <a:t>Сеансов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Транспорт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ffcc"/>
                          </a:solidFill>
                          <a:latin typeface="Arial Narrow"/>
                        </a:rPr>
                        <a:t>Транспорт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Сетев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ffcc"/>
                          </a:solidFill>
                          <a:latin typeface="Arial Narrow"/>
                        </a:rPr>
                        <a:t>Сетев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Кан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ffcc"/>
                          </a:solidFill>
                          <a:latin typeface="Arial Narrow"/>
                        </a:rPr>
                        <a:t>Кан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Физ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5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ffcc"/>
                          </a:solidFill>
                          <a:latin typeface="Arial Narrow"/>
                        </a:rPr>
                        <a:t>Физ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Line 96"/>
          <p:cNvSpPr/>
          <p:nvPr/>
        </p:nvSpPr>
        <p:spPr>
          <a:xfrm>
            <a:off x="3352680" y="6400800"/>
            <a:ext cx="25146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97"/>
          <p:cNvSpPr/>
          <p:nvPr/>
        </p:nvSpPr>
        <p:spPr>
          <a:xfrm>
            <a:off x="3352680" y="5638680"/>
            <a:ext cx="25146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Line 98"/>
          <p:cNvSpPr/>
          <p:nvPr/>
        </p:nvSpPr>
        <p:spPr>
          <a:xfrm>
            <a:off x="3352680" y="5029200"/>
            <a:ext cx="25146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Line 99"/>
          <p:cNvSpPr/>
          <p:nvPr/>
        </p:nvSpPr>
        <p:spPr>
          <a:xfrm>
            <a:off x="3352680" y="4343400"/>
            <a:ext cx="25146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Line 100"/>
          <p:cNvSpPr/>
          <p:nvPr/>
        </p:nvSpPr>
        <p:spPr>
          <a:xfrm>
            <a:off x="3352680" y="3581280"/>
            <a:ext cx="25146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Line 101"/>
          <p:cNvSpPr/>
          <p:nvPr/>
        </p:nvSpPr>
        <p:spPr>
          <a:xfrm>
            <a:off x="3352680" y="2819520"/>
            <a:ext cx="25146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Line 102"/>
          <p:cNvSpPr/>
          <p:nvPr/>
        </p:nvSpPr>
        <p:spPr>
          <a:xfrm>
            <a:off x="3352680" y="1981080"/>
            <a:ext cx="2514600" cy="0"/>
          </a:xfrm>
          <a:prstGeom prst="line">
            <a:avLst/>
          </a:prstGeom>
          <a:ln w="3816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Взаимодействие уровней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в модели OSI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На нем происходят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физические процессы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передачи битов данных по сетевым кабелям и используется следующее сетевое оборудование: 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кабели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разъемы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; электрические и оптические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сигнальные устройства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Здесь определяется, сколько контактов должно быть в разъеме, какой механизм интерпретации сигналов используется (манчестерский или дифференциальный) и т.д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Физический уровень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Line 8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Функции этого уровня – гарантировать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коррект-ную и стабильную передачу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данных по сети от одного узла к другому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На этом уровне работает утилиты выявления ошибок в кадрах, циркулирующих между устрой-ствами на физическом уровне. Отдельные биты физического уровня преобразуются на каналь-ном уровне в кадры данных со специфическим для сети форматом, которые понятны для протоколов следующего уровн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Канальный уровень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" name="Line 7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76320" y="0"/>
            <a:ext cx="90676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Канальный уровень подразделен на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2 подуровня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: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MAC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lang="en-US" sz="3600" spc="-1" strike="noStrike">
                <a:solidFill>
                  <a:srgbClr val="ccffcc"/>
                </a:solidFill>
                <a:latin typeface="Arial Narrow"/>
              </a:rPr>
              <a:t>Media Access Control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– управление доступом к среде передачи) и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LLC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lang="en-US" sz="3600" spc="-1" strike="noStrike">
                <a:solidFill>
                  <a:srgbClr val="ccffcc"/>
                </a:solidFill>
                <a:latin typeface="Arial Narrow"/>
              </a:rPr>
              <a:t>Logical Link Control Layer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– управление логическим каналом). Изначально этих подуровней не было в модели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OSI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, их ввели для описания стандартов сетевой технологии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Ethernet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. На уровне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LLC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создаются служебные 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точки доступа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SAP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lang="en-US" sz="3600" spc="-1" strike="noStrike">
                <a:solidFill>
                  <a:srgbClr val="ccffcc"/>
                </a:solidFill>
                <a:latin typeface="Arial Narrow"/>
              </a:rPr>
              <a:t>Service Access Point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), на которые могут ссылаться другие устройства при пересылке данных. Подуровень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MAC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отвечает за 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корректный прием и передачу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кадров, циркулирующих между узлам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Здесь формируются взаимосвязи между узлами сети, устанавливаются и прерываются соедине-ния, поддерживаются другие службы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• 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обмен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логическими и физическими 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адресами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 устройств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• 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маршрутизация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 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коммутация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связе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• 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управление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сетевым 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трафиком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•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процедуры 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фрагментации и восстановления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 пакетов данных, если устройство не может работать с исходным размером пакет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Этот уровень полностью отвлечен от физичес-ких аспектов передачи сигналов по сет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Сетевой уровень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" name="Line 5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Он отвечает за обмен данными 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между узлами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 поддерживает следующие службы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• 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безошибочная передача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данных: крупные пакеты сегментируются для эффективности передачи и восстанавливаются на этом же уровне в удаленной систем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•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подготовка и корректная передача данных в 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верхние уровни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модели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OSI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•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оповещение станций отправителя и получате-ля об 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успешной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 неуспешной передаче данных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• </a:t>
            </a:r>
            <a:r>
              <a:rPr b="0" lang="ru-RU" sz="3600" spc="-1" strike="noStrike">
                <a:solidFill>
                  <a:srgbClr val="ffffcc"/>
                </a:solidFill>
                <a:latin typeface="Arial Narrow"/>
              </a:rPr>
              <a:t>управление потоками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данных на уровне транс-портных протокол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Транспортный уровень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8915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Для поддержки обмена данными между приложениями, запущенными на разных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ЭВМ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, нужно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идентифицировать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их принадлежность одному сеансу работы. Так, протокол </a:t>
            </a: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NetBIOS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создает на этом уровне сеанс, основываясь на именах компьютеров и идентификаторах приложений. Программы управления сеансами определяют порядок обмена данными между станциями и поддерживают взаимодействие на уровне отдельных приложений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 На уровне сеансов происходит запуск, поддерж-ка и закрытие программ на удаленных </a:t>
            </a:r>
            <a:r>
              <a:rPr b="0" lang="ru-RU" sz="3600" spc="-1" strike="noStrike">
                <a:solidFill>
                  <a:srgbClr val="ffff00"/>
                </a:solidFill>
                <a:latin typeface="Arial Narrow"/>
              </a:rPr>
              <a:t>ЭВМ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gradFill rotWithShape="0">
            <a:gsLst>
              <a:gs pos="0">
                <a:srgbClr val="3189a5"/>
              </a:gs>
              <a:gs pos="100000">
                <a:srgbClr val="173f4c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Сеансовый уровень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9T11:14:37Z</dcterms:created>
  <dc:creator>Буралков А.А.</dc:creator>
  <dc:description/>
  <dc:language>en-US</dc:language>
  <cp:lastModifiedBy>Admin</cp:lastModifiedBy>
  <dcterms:modified xsi:type="dcterms:W3CDTF">2013-08-28T09:00:30Z</dcterms:modified>
  <cp:revision>456</cp:revision>
  <dc:subject/>
  <dc:title>Устройство ЭВМ IBM PC</dc:title>
</cp:coreProperties>
</file>