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8593-573E-4F37-87E2-E2C149FFF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D556-5E6F-45C9-8FF5-19B11DC7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CAD4-5674-4393-98C7-0A37850D7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6BF5-C312-4792-9D9B-3756A0D99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7836-5560-4F57-A1ED-942FB4BD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6FB4-BAF4-47FB-91F9-07824848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CA37-AD6C-4804-AADC-C928EFB6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19F8-2C73-41CB-BF41-95F85CEE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02ED-622B-4BB4-82F4-EAF88834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C604-6EB1-4106-B486-E2AE5564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8A43-0387-4FD0-9412-4ED57391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ABF5-6D2E-41C9-974C-1284E80C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6587-BA8D-4833-B15B-777926C26FD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980640"/>
            <a:ext cx="3203640" cy="547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СПИНАЛЬНАЯ АНЕСТЕЗИЯ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3382920" y="260280"/>
            <a:ext cx="5761080" cy="62643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0" y="-60120"/>
            <a:ext cx="91440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ИСТЕРСТВО ЗДРАВООХРАНЕНИЯ И СОЦИАЛЬНОГО РАЗВИТИЯ РОССИЙСКОЙ ФЕДЕРАЦИ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ГБОУ ВПО «ИРКУТСКИЙ ГОСУДАРСТВЕННЫЙ МЕДИЦИНСКИЙ УНИВЕРСИТЕТ»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АФЕДРА АНЕСТЕЗИОЛОГИИ И РЕАНИМАТОЛОГИ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чебное пособие. Лек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Зав.каф., проф., д.м.н. Голуб И.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оц., к.м.н. Сорокина Л.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сс. , к.м.н. Нетесин Е.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ркутск, 2011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457200" y="260280"/>
            <a:ext cx="822960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ahoma"/>
              </a:rPr>
              <a:t>Проявления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рез 3-7 минут после введения местного анестетика наступает обратимая блокада нервных волокон, иннервирующих нижнюю половину тела, что сопровождаетс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ощущением теп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возникновением онем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) снижение чувствитель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) расслабление мышц нижних конечностей. Длительность блокады в зависимости от выбранного анестетика может составлять от 1,5 до 6 час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ahoma"/>
              </a:rPr>
              <a:t>Осложнения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вреждение сосудов субарахноидального и субдурального простран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зкое снижение артериального давления ( обусловлено блокадой симпатических волокон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гнетение дыхания, рвота ( при распространения анестетика к центрам продолговатого мозг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ahoma"/>
              </a:rPr>
              <a:t>Поздние осложнения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512280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Гнойный менингит ( при нарушении асептики или метастазирования инфекции из септического очаг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двигательные параличи и парез нижних конечност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 парез глазодвигательного нерва  (проявляется в виде косоглазия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) головная боль, явления менингизма  (в результате раздражения оболочек мозга йодом, занесенным при пункции, применение недостаточно химически чистых анестетиков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5796000" y="2421000"/>
            <a:ext cx="3348000" cy="1736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6732720" y="4076640"/>
            <a:ext cx="2286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184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685080" y="6453000"/>
            <a:ext cx="277560" cy="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720" bIns="277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40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115920"/>
            <a:ext cx="874872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Впервые спинальная анестезия описан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в 1899 году Августом Бир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4500720" y="1125360"/>
            <a:ext cx="4464000" cy="52563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395280" y="1559160"/>
            <a:ext cx="4105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ир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Авгус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дин из основоположников немецкой хирургии. Изучал медицину в Берлине, Лейпциге, Киле. В Киле работал у известного хирурга Ф. Эсмарха. Основные работы по проблеме костного туберкулёза, гиперемии как лечебному методу при инфекционных процессах; исследования по регенерации тканей. Бир ввёл оригинальную методику костнопластических ампутаций с созданием опорной культи; впервые опубликовал (1901) метод спинномозговой анестезии, развил учение о венозной анестезии (1909) и о воспалении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ahoma"/>
              </a:rPr>
              <a:t>Спинальная анестезия 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тод регионарной анестезии, при котором раствор местного анестетика вводится в субарахноидальное пространство.    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Tahoma"/>
              </a:rPr>
              <a:t>Показания: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Оперативные вмешательства н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нижних конечностя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азобедренном сустав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меж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ижнем этаже брюшной стен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ндоскопические урологические опер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ерации на прямой кишк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льные с ИБС нуждающиеся в опер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ahoma"/>
              </a:rPr>
              <a:t>Противопоказания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4360" y="2031840"/>
            <a:ext cx="4032360" cy="40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336699"/>
                </a:solidFill>
                <a:latin typeface="Tahoma"/>
              </a:rPr>
              <a:t>Абсолютны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епси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актерием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нфекция кожи в месте пунк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раженная гиповолем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агулопат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ечение антикоагулянта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вышенное внутричерепное давл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согласие больно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336699"/>
                </a:solidFill>
                <a:latin typeface="Tahoma"/>
              </a:rPr>
              <a:t>Относительны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периферическая неропат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лечение гепарином в «мини-дозах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 психоз или демен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) лечение астерин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) длительное оперативное вмешательств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) аортальный стеноз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7) психологическая или эмоциональная лабильность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ahoma"/>
              </a:rPr>
              <a:t>Положение больного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178080" cy="4248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3780000" y="1197000"/>
            <a:ext cx="4897440" cy="43210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539640" y="58770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идя или лежа на боку при максимальном сгибании позвоночника («голова к коленям»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64800"/>
            <a:ext cx="8229600" cy="15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ahoma"/>
              </a:rPr>
              <a:t>Набор для спинальной анестези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76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Tahoma"/>
              </a:rPr>
              <a:t>Местные анестетики, используемые для С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4" descr="Анестезиология - Долина 2006_109"/>
          <p:cNvPicPr/>
          <p:nvPr/>
        </p:nvPicPr>
        <p:blipFill>
          <a:blip r:embed="rId1"/>
          <a:stretch/>
        </p:blipFill>
        <p:spPr>
          <a:xfrm>
            <a:off x="324000" y="1584360"/>
            <a:ext cx="8640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ahoma"/>
              </a:rPr>
              <a:t>Методика выполнения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спинномозговой канал вводят 3 мл 2% раствора </a:t>
            </a:r>
            <a:r>
              <a:rPr b="0" lang="ru-RU" sz="1600" spc="-1" strike="noStrike">
                <a:solidFill>
                  <a:srgbClr val="ff0000"/>
                </a:solidFill>
                <a:latin typeface="Tahoma"/>
              </a:rPr>
              <a:t>лидокаин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ли 2,5-3,5 мл 0,5% раствора </a:t>
            </a:r>
            <a:r>
              <a:rPr b="0" lang="ru-RU" sz="1600" spc="-1" strike="noStrike">
                <a:solidFill>
                  <a:srgbClr val="ff0000"/>
                </a:solidFill>
                <a:latin typeface="Tahoma"/>
              </a:rPr>
              <a:t>бупивакаин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жу спины обрабатывают эфиром и этанолом, смазывают спиртовым раствором йода, который затем смывают этиловым спиртом. Пункцию производят обычно (при операциях на органах малого таза и нижних конечнос­тях) между остистыми отростками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Lm </a:t>
            </a:r>
            <a:r>
              <a:rPr b="0" lang="ru-RU" sz="1600" spc="-1" strike="noStrike">
                <a:solidFill>
                  <a:srgbClr val="ff0000"/>
                </a:solidFill>
                <a:latin typeface="Tahoma"/>
              </a:rPr>
              <a:t>и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LIV </a:t>
            </a:r>
            <a:r>
              <a:rPr b="0" lang="ru-RU" sz="1600" spc="-1" strike="noStrike">
                <a:solidFill>
                  <a:srgbClr val="ff0000"/>
                </a:solidFill>
                <a:latin typeface="Tahoma"/>
              </a:rPr>
              <a:t>или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L</a:t>
            </a:r>
            <a:r>
              <a:rPr b="0" lang="ru-RU" sz="1600" spc="-1" strike="noStrike">
                <a:solidFill>
                  <a:srgbClr val="ff0000"/>
                </a:solidFill>
                <a:latin typeface="Tahoma"/>
              </a:rPr>
              <a:t>„ и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LIU</a:t>
            </a:r>
            <a:r>
              <a:rPr b="0" lang="ru-RU" sz="16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Ориентиром при этом служит остистый отросток IV поясничного позвонка,расположен­ный на линии, соединяющей верхние точки гребней подвздошных костей (линия Якоби). Кожу в месте пункции с помощью обычной иглы инфильтрируют 0,25% раство­ром новокаина. Затем специальной иглой для люмбальной пункции (с мандре­ном) производят прокол инфильтрированной новокаином кожи и строго по сред­ней линии продвигают иглу между остистыми отростками с небольшим (5—10°) наклоном книзу. При пункции в среднегрудном отделе угол наклона иглы может достигать 50—60°. При этом врач дважды ощущает легкое сопротивление - при прохождении желтой связки и при проколе твердой мозговой оболочки. При ощущении «проваливания» иглы мандрен извлекают, а иглу, слегка врашая, продвига­ют вперед еще на 2-3 мм до момента поступления из нее прозрачной (в норме) цереброспинальной жидкости. К игле присоединяют шприц с точно отмеренным количеством анестетика и берут 2-3 мл жидкости. Смешанный с нею анестетик вводят в субдуральное пространство. Иглу удаляют, к месту пункции прикладыва­ют марлевый шарик со спиртом и фиксируют его лейкопластыре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9T11:49:05Z</dcterms:created>
  <dc:creator>1</dc:creator>
  <dc:description/>
  <dc:language>en-US</dc:language>
  <cp:lastModifiedBy>Admin</cp:lastModifiedBy>
  <dcterms:modified xsi:type="dcterms:W3CDTF">2012-05-15T14:54:05Z</dcterms:modified>
  <cp:revision>7</cp:revision>
  <dc:subject/>
  <dc:title>Слайд 1</dc:title>
</cp:coreProperties>
</file>