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E43-06A3-452D-B0D9-C1BA9470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283-E906-4AE6-A0DE-567165FD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3D2-3721-4729-B15A-FB818F99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8E6-E426-4762-AFFB-6EE33435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ECDF-9A98-4980-8C50-5683FF07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E24C-FD86-4845-BEB9-70BC2DBF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08FA-1D74-42D0-98E9-E88C7E64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B2B7-9A4B-400C-92AA-1C213144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8C68-5381-42CB-8DE3-F2B0C2B4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B213-CF70-4328-9D70-8B9D0AA4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5977-126A-46FE-A156-161B6E0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694-3271-4C69-B918-3A3907A8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0CB5-CB43-431D-BB83-3B81A53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E7B7-2F6A-4321-9C12-ABF2F19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128-48B1-478A-847C-60073EDE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4306-02C9-47A3-9E7F-82DB5CCD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B346-D0CE-4517-ABE9-F487BA89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F586-DC73-4175-83D2-2404F49E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CA12-1BC7-4C65-9265-7918CC86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35E8-ED57-4ADC-B9FE-A6A561B3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3255-4E01-4055-BB50-3D2F67A8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F6DE-86C8-4BB3-8CD5-085A14DD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49B-7618-4C32-8E78-1EA57934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965F5-5635-4051-A362-6364B7AB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51F6-EBA0-4605-AF73-396B473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D65C-DB81-4D9E-AAC6-0383A0E1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56833-089B-4421-AD78-2E689E6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BE5D-E3F3-448F-BDBE-1EC775F8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4071-BF74-4502-BE3C-62D000F7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C127-7F8A-4CA3-A436-C09FAAF9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0B72-7375-48E5-80DF-D3B9E98E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45F32-18C5-4640-B999-C8013A64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6C5E-7E34-4DE6-91DE-DFEBF495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99A-B173-478F-A0E5-B3B30B2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280D-A0F5-4D66-8B92-471F29F7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3059-CE90-41AD-B5B6-CCF356ED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6D1A-7B2D-44F7-A63E-D86265F9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847DA-1EE1-48DF-A9E4-B9F7682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B1BB-FE59-4CF6-8067-D8195CD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CDFA7-C230-46B9-A441-398A7A20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6FFE-0577-41AB-BD23-74B374A4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0E39-7EAA-4CE6-90B7-B92ECB9A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15CB-0A2A-4130-80D0-F7681A06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FCE7-376A-4097-BAFB-71B78CEB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C85-6119-4110-8C18-3303799D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AF264-5E34-428C-BFF1-85D2FB1A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A567-C76F-4F1E-B1DD-FA15C722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93218-B923-47EA-B3DA-449C7F1B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EAEF-06A9-4272-8374-F91297BC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1669-849C-4B8E-AA23-3E085A0B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08060-A7E9-4143-BCE0-B87E3D00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C7756-6952-4518-BED9-EFE2CDD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EF9B9-49C5-4985-9CDC-5156B30B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A922-F7CF-4F57-9499-DB8B5AA6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ED82A-30BC-4706-ADFD-772D04CD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F8B-E7EC-4226-8829-6F429C93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C432-CB41-48BC-A099-CBC8598A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70E-3ED8-4A9F-9F97-8C4F5F80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2CD-D431-4717-89DB-40C3205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339-3D04-4522-80FE-62278B56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5CDC-D278-4CF3-B682-8E0F07DB536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14B1-7BAC-4DDE-83C7-694B4A081D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ED0-6612-421D-82CA-F750A14F13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F489-5DDF-4FA1-B242-F4FEB9220C1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3E43-228E-4520-87E9-B2756D69E3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996633"/>
                </a:solidFill>
                <a:latin typeface="Monotype Corsiva"/>
              </a:rPr>
              <a:t>Александр Галич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851280" y="4220640"/>
            <a:ext cx="4641840" cy="1968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аботу выполни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Студент 5 кур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Заочной формы обу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Направления «Туризм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Вишняков Ив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http://www.tonb.ru/upload/iblock/01d/01d41ef69ae6cf46ad79d9d53b03b3a8.jpg"/>
          <p:cNvPicPr/>
          <p:nvPr/>
        </p:nvPicPr>
        <p:blipFill>
          <a:blip r:embed="rId1"/>
          <a:stretch/>
        </p:blipFill>
        <p:spPr>
          <a:xfrm>
            <a:off x="539640" y="426960"/>
            <a:ext cx="39610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900000" y="620640"/>
            <a:ext cx="77774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 1971  году прошло заседание секретариата Московского отделения Союза писателей, на повестке дня которого стоял один вопро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«об исключении писателя Галича Александра Аркадьевича 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з членов Союза советских писателей за несоответствие высокому званию члена данного Союз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алича обвинили в политической неблагонадёжности, антисоветчине,  в нелюбви к ро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http://nagrada.moscow/files/68/img-811-1p.jpg"/>
          <p:cNvPicPr/>
          <p:nvPr/>
        </p:nvPicPr>
        <p:blipFill>
          <a:blip r:embed="rId1"/>
          <a:stretch/>
        </p:blipFill>
        <p:spPr>
          <a:xfrm>
            <a:off x="611280" y="4221000"/>
            <a:ext cx="1962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611280" y="765000"/>
            <a:ext cx="7848360" cy="45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оворят, в доказательство неблагонадёжности Галича на том самом заседании прокрутили «Старательский вальсок» - одну из самых прямых и жёстких его пе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</a:t>
            </a: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Вот как просто попасть в богачи,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Вот как просто попасть в первачи,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Вот как просто попасть - в палачи: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Промолчи, промолчи, промол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539640" y="404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1974  году Галич был вынужден эмигрировать: «…я ведь в сущности не уезжаю.  Меня выгоняют… Единственная моя мечта, надежда,  вера,  счастье –удовлетворение в том,  что я всё время буду возвращаться на эту землю.  А уж мёртвый - то я вернусь наверня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539640" y="3068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О деталях источники расходятся. По одной версии, он номинально выехал в Норвегию для участия в семинаре по творчеству К. С. Станиславского, но сразу после пересечения границы был лишён советского гражданства. По другой — эмигрировал по т. н. «израильской виз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611280" y="62712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7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22 октября 1974 года постановлением Главлита по согласованию с ЦК КПСС все его ранее изданные произведения были запрещены в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Первым его пристанищем за рубежом стала Норвегия, затем он переехал в Мюнхен, где некоторое время работал на американской радиостанции «Свобода», стал членом НТС. Потом Галич поселился и жил в Пари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http://www3.sympatico.ca/pratten/NSB/nomusic.JPG"/>
          <p:cNvPicPr/>
          <p:nvPr/>
        </p:nvPicPr>
        <p:blipFill>
          <a:blip r:embed="rId1"/>
          <a:stretch/>
        </p:blipFill>
        <p:spPr>
          <a:xfrm>
            <a:off x="503280" y="404640"/>
            <a:ext cx="207972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611280" y="60336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15 декабря 1977 года, около 14:00, в результате несчастного случая, на 60-м году жизни А. Галич трагически погиб от удара электрическим током при подключении антенны к телевиз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3780000" y="23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Александр Аркадьевич Галич был похоронен 22 декабря 1977, недалеко от Парижа, на русском кладбище Сент-Женевьев-де-Б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155520" y="-1461960"/>
            <a:ext cx="209556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307800" y="-1309680"/>
            <a:ext cx="209556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460440" y="-1157400"/>
            <a:ext cx="209556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4"/>
          <p:cNvSpPr/>
          <p:nvPr/>
        </p:nvSpPr>
        <p:spPr>
          <a:xfrm>
            <a:off x="155520" y="-2986200"/>
            <a:ext cx="4267080" cy="62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5" descr=""/>
          <p:cNvPicPr/>
          <p:nvPr/>
        </p:nvPicPr>
        <p:blipFill>
          <a:blip r:embed="rId1"/>
          <a:stretch/>
        </p:blipFill>
        <p:spPr>
          <a:xfrm>
            <a:off x="755640" y="2343240"/>
            <a:ext cx="27097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7"/>
          <p:cNvSpPr/>
          <p:nvPr/>
        </p:nvSpPr>
        <p:spPr>
          <a:xfrm>
            <a:off x="826920" y="692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лександр Аркадьевич Галич родился в 1918 году, детство прошло в Севасто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clipViewImg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763640" y="620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сем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ребралась в Москву, в Кривоколенный переу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fl683329671"/>
          <p:cNvPicPr/>
          <p:nvPr/>
        </p:nvPicPr>
        <p:blipFill>
          <a:blip r:embed="rId1"/>
          <a:stretch/>
        </p:blipFill>
        <p:spPr>
          <a:xfrm>
            <a:off x="1258920" y="1844640"/>
            <a:ext cx="69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971640" y="76500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1935  году, окончив 10  классов средней школы, Галич поступил на поэтическое Литературного института и одновременно в театральную Школу- студию под руководством Станисла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stanisl"/>
          <p:cNvPicPr/>
          <p:nvPr/>
        </p:nvPicPr>
        <p:blipFill>
          <a:blip r:embed="rId1"/>
          <a:srcRect l="5190" t="6778" r="3905" b="5089"/>
          <a:stretch/>
        </p:blipFill>
        <p:spPr>
          <a:xfrm>
            <a:off x="1979640" y="2997360"/>
            <a:ext cx="5040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826920" y="765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годы войны Галич в составе фронтового театра </a:t>
            </a:r>
            <a:r>
              <a:rPr b="1" i="1" lang="ru-RU" sz="2400" spc="-1" strike="noStrike">
                <a:solidFill>
                  <a:srgbClr val="800000"/>
                </a:solidFill>
                <a:latin typeface="Estrangelo Edessa"/>
              </a:rPr>
              <a:t>Валентина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Плучека со спектаклями и концертами объездили весь фрон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192_big"/>
          <p:cNvPicPr/>
          <p:nvPr/>
        </p:nvPicPr>
        <p:blipFill>
          <a:blip r:embed="rId1"/>
          <a:stretch/>
        </p:blipFill>
        <p:spPr>
          <a:xfrm>
            <a:off x="1619280" y="2205000"/>
            <a:ext cx="5705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900000" y="9079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сле войны Галич оставляет актёрскую студию и начинает работать как драматург:  он – автор комедии «Вас вызывает Таймыр», один из авторов фильма «Верные друзья»;  он пишет для театра пьесы «Пути, которые мы выбираем», «Август», «Матросская тиш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meli"/>
          <p:cNvPicPr/>
          <p:nvPr/>
        </p:nvPicPr>
        <p:blipFill>
          <a:blip r:embed="rId1"/>
          <a:stretch/>
        </p:blipFill>
        <p:spPr>
          <a:xfrm>
            <a:off x="1332000" y="3429000"/>
            <a:ext cx="3382920" cy="2817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XGetDBPicServlet"/>
          <p:cNvPicPr/>
          <p:nvPr/>
        </p:nvPicPr>
        <p:blipFill>
          <a:blip r:embed="rId2"/>
          <a:stretch/>
        </p:blipFill>
        <p:spPr>
          <a:xfrm>
            <a:off x="5580000" y="3357720"/>
            <a:ext cx="20955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684360" y="692280"/>
            <a:ext cx="77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Первые песни — «Леночка» (1959), «Про маляров, истопника и теорию относительности» и «Закон природы» (обе 1962) — будучи относительно безобидными в политическом отношении, тем не менее резко диссонировали с официальной советской эстетикой. Так начался коренной перелом в творчестве весьма благополучного советского литера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http://legionzvukov.ru/uploads/images/aleksandr_galich_pro_maljarov_istopnika_i_teoriu_otnositelnosti_1963.jpg"/>
          <p:cNvPicPr/>
          <p:nvPr/>
        </p:nvPicPr>
        <p:blipFill>
          <a:blip r:embed="rId1"/>
          <a:stretch/>
        </p:blipFill>
        <p:spPr>
          <a:xfrm>
            <a:off x="6588000" y="3500280"/>
            <a:ext cx="19875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468360" y="62064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Его песни становились всё более глубокими и политически острыми, что привело к конфликту с властью. Галичу было запрещено давать публичные концерты. Его не печатали и не позволяли выпустить пластинку. По сути дела, это был запрет на любую профессиональную деятельность и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ttp://chainimage.com/images/warning-stop-and-do-not-symbol-psdgraphics.jpg"/>
          <p:cNvPicPr/>
          <p:nvPr/>
        </p:nvPicPr>
        <p:blipFill>
          <a:blip r:embed="rId1"/>
          <a:stretch/>
        </p:blipFill>
        <p:spPr>
          <a:xfrm>
            <a:off x="2468520" y="3162240"/>
            <a:ext cx="39196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5"/>
          <p:cNvSpPr/>
          <p:nvPr/>
        </p:nvSpPr>
        <p:spPr>
          <a:xfrm>
            <a:off x="684360" y="62064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Он выступал со своими песнями по квартирам, на так называемых «домашних концертах», собиравших ему очень небольшие заработки. Его песни распространяли и передавали друг другу в магнитофонных записях, благодаря которым он становился всё более популярен, и которые изымались работниками КГБ при обы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762120" y="3483000"/>
            <a:ext cx="37386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6:53:39Z</dcterms:created>
  <dc:creator/>
  <dc:description/>
  <dc:language>en-US</dc:language>
  <cp:lastModifiedBy>ZlorD</cp:lastModifiedBy>
  <dcterms:modified xsi:type="dcterms:W3CDTF">2016-10-27T07:41:05Z</dcterms:modified>
  <cp:revision>36</cp:revision>
  <dc:subject/>
  <dc:title>Слайд 1</dc:title>
</cp:coreProperties>
</file>