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31CF8-0796-4C63-83FA-37023574F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9EAF-7985-4597-BE32-BA0703EE2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2704A-A5F1-4D48-8537-83D09EF999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6E60-9434-40A7-B2CF-E00902B15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00E39-0C94-4F92-A2AD-9B8639D36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3D15-120E-4BA6-9221-B66FB582D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4B90-EAC5-4F02-8872-A1156B574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3B845-5F0D-43F7-9270-D8646008D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82019-B75D-4C43-9DA4-6901237B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175F4-CA9B-4DEA-A249-652733E64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2A5F8-9855-4686-8A80-E14CD0CB3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012BB-ACBD-4250-9528-03CFEA4D8B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C09B3-6C87-4D22-9BEA-02752DB309E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f99ff"/>
            </a:gs>
            <a:gs pos="100000">
              <a:srgbClr val="ccff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1692360" y="692280"/>
            <a:ext cx="53877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Times New Roman"/>
              </a:rPr>
              <a:t>Жевательная резинка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3"/>
          <a:stretch/>
        </p:blipFill>
        <p:spPr>
          <a:xfrm>
            <a:off x="684360" y="2133720"/>
            <a:ext cx="7619760" cy="451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c9fcb"/>
            </a:gs>
            <a:gs pos="100000">
              <a:srgbClr val="f8b04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Жевательная резинка, но что это такое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Жева́тельная рези́нк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— это кулинарное изделие, которое состоит из несъедобной эластичной основы и различных вкусовых и ароматических добавок. В процессе употребления жевательная резинка практически не уменьшается в объеме, но все наполнители постепенно растворяются, после чего основа становится безвкусной и обычно выбрасывается. Из многих видов жевательной резинки в качестве развлечения можно выдувать пузыри, что в англоязычных странах дало ей еще одно название 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Bubble Gum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(то есть что-то вроде «резина для пузырей»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редыстория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50560" y="1599840"/>
            <a:ext cx="4244760" cy="492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рообразы современной жевательной резинки можно найти в любой части св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Известно, что ещё древние греки жевали смолу мастичного дерева для освежения дыхания и очистки зубов от остатков пищи. Для этого также использовался пчелиный воск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Племена Майя использовали в качестве жевательной резинки застывший сок гевеи—каучук. На севере Америки индейцы жевали смолу хвойных деревьев, которую выпаривали на костр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 Сибири применялась так называемая сибирская смолка, которой не только чистили зубы, но и укрепляли дёсны, а также лечили различные болезн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5076720" y="1844640"/>
            <a:ext cx="368928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ccccff"/>
            </a:gs>
            <a:gs pos="100000">
              <a:srgbClr val="ccccff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64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Современная жевательная резинка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96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928 год. Двадцатитрёхлетний бухгалтер Уолтер Димер вывел идеальную формулу жевательной резинки, которая соблюдается и по сей день: 20 % каучука, 60 % сахара (или его заменителей), 19 % кукурузного сиропа и 1 % ароматизатора.Особенностью данной жевательной резинки стала гораздо большая эластичность. Свою жевательную резинку Димер назвал 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Dubble Bubble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поскольку из неё можно было выдувать пузыри. Жевательная резинка изменила цвет на розовый, что особенно привлекало дет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Из интервью Уолтера Димера в 1996 год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Это получилось совершенно случайно. Я занимался непонятно чем, а закончил заниматься непонятно чем с пузырями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ddebcf"/>
            </a:gs>
            <a:gs pos="100000">
              <a:srgbClr val="156b13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Состав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08000" y="1412640"/>
            <a:ext cx="4387680" cy="55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временная жевательная резинка состоит в первую очередь из жевательной основы (преимущественно синтетические полимеры), в которую иногда добавляют компоненты, получаемые из сока дерева Саподилла или из живицы хвойных деревье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зинка также содержит вкусовые добавки, ароматизаторы, консерванты и другие пищевые добавки. В последнее время стали популярны резинки, содержащие сахарозаменители и противокариозные вещества, например, соединения фтора, ксилит, мочевина (карбамид). Однако остановить или вылечить уже имеющийся кариес эти вещества, как и в случае с зубной пастой, не могу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4648320" y="2133720"/>
            <a:ext cx="431640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5cbf"/>
            </a:gs>
            <a:gs pos="100000">
              <a:srgbClr val="03d4a8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5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Развлечения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4182840" cy="5229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Нередко под обертку жевательной резинки изготовители вкладывают картинки, наклейки, переводные татуировки, называемые детьми «вкладышами». На них изображаются сцены и герои мультфильмов, комиксов, автомобили. С начала 1970-х годов в СССР (в Москве и портовых городах, с начала 1990-х — по всей стране), фантики от жевательных резинок и особенно «вкладыши» выступали объектом коллекционирования и предметом азартных игр среди школьнико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4788000" y="1413000"/>
            <a:ext cx="3744720" cy="24476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4643280" y="3933720"/>
            <a:ext cx="392616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fee7f2"/>
            </a:gs>
            <a:gs pos="100000">
              <a:srgbClr val="fbeac7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Вред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жевательной резинки!!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ециалисты рекомендуют использовать жевательную резинку только сразу после еды и не более пяти минут в день. В противном случае она способствует выделению в пустой желудок желудочного сока, что может способствовать развитию язвы желудка и гастрита.Однако после еды, у людей, страдающих изжогой, жевательная резинка способствует купированию её симптомов. Выделяющаяся слюна, имеющая щелочную реакцию, сглатывается. Кислое содержимое нижней трети пищевода нейтрализуется. При этом постоянное поступление слюны обеспечивает очистку нижней трети пищевод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1T09:47:08Z</dcterms:created>
  <dc:creator>Windows</dc:creator>
  <dc:description/>
  <dc:language>en-US</dc:language>
  <cp:lastModifiedBy>Windows</cp:lastModifiedBy>
  <dcterms:modified xsi:type="dcterms:W3CDTF">2012-12-01T10:12:53Z</dcterms:modified>
  <cp:revision>2</cp:revision>
  <dc:subject/>
  <dc:title>Слайд 1</dc:title>
</cp:coreProperties>
</file>