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204020-9B5A-4662-BEE2-0CB43115D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08BA1A-565D-4804-8737-EFE4EECAB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F92CE-79C8-40E8-B044-C2D8201B9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CB5D4-172B-4330-B402-2A63D0562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4843-E0E4-4F94-AA61-A6DFB63EF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FC42E-64F1-40D1-AC84-3E526D095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92B54-E013-4A6C-8F39-FB43AE8D2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33E28-D7C7-40EF-B403-45A90E92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540AB-C6E1-4189-83C1-C10ABD270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933AB-B183-4B04-B8D0-8C015C9A3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D76-4F63-44CE-92EF-74BF31FC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34C44-9BED-4C03-8CDD-5D56E1ED8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97B2-3A98-48B0-89CB-9A6544380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A4246-0C6E-4CD5-BDE0-14A8FE7B1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A4E01-2145-4343-BEC7-34673D1B4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1C13C-BB17-4674-823A-0094BF176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BEF9A-7B34-47A3-BADB-D7FFAB2E7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76A98-AB64-479C-922C-3CB4CD59D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384A4-4DD2-477D-B6F0-04B2080A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60726-49BE-4C6F-BC94-74B8D4663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EF5B23-F83F-4843-B0A4-6F73DCC4D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B1438-018A-4480-B46E-50FF34927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3A5F3-955F-42A2-A260-D8C8D271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DD012-15EE-4F77-A44B-58D071693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7A450-10E2-433E-836D-46E5DEA3646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c3d91"/>
            </a:gs>
            <a:gs pos="100000">
              <a:srgbClr val="00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EE6B-D270-441C-BC65-E7F89F2624B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1428480"/>
            <a:ext cx="885816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Заболевания плевры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13" name="Picture 3" descr=""/>
          <p:cNvPicPr/>
          <p:nvPr/>
        </p:nvPicPr>
        <p:blipFill>
          <a:blip r:embed="rId1"/>
          <a:stretch/>
        </p:blipFill>
        <p:spPr>
          <a:xfrm>
            <a:off x="1042920" y="549360"/>
            <a:ext cx="7201080" cy="597528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User\Рабочий стол\Рисунок1 Копировать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5" name="TextBox 5"/>
          <p:cNvSpPr/>
          <p:nvPr/>
        </p:nvSpPr>
        <p:spPr>
          <a:xfrm>
            <a:off x="4429080" y="785880"/>
            <a:ext cx="47149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При достаточном обьеме  торакоцентез – прост. Безопасное место – лопа-точная линия, на 1 м\р ниже зоны тупости при перкуссии. Если ПВ – ати-пичный, то точку пункции находят с помощью УЗИ.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6" name="TextBox 6"/>
          <p:cNvSpPr/>
          <p:nvPr/>
        </p:nvSpPr>
        <p:spPr>
          <a:xfrm>
            <a:off x="4067280" y="4395960"/>
            <a:ext cx="507672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Удаляя жидкость, надо помнить то, что в полости плевры имеется </a:t>
            </a:r>
            <a:r>
              <a:rPr b="1" lang="ru-RU" sz="1600" spc="-1" strike="noStrike">
                <a:solidFill>
                  <a:srgbClr val="003399"/>
                </a:solidFill>
                <a:latin typeface="Tahoma"/>
              </a:rPr>
              <a:t>(-)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. Поэтому нельзя допустить контакт с атмосферным воздухом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(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развитие пневмоторакса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)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. Безопасно одноразовое извлечение </a:t>
            </a:r>
            <a:r>
              <a:rPr b="1" lang="en-US" sz="2000" spc="-1" strike="noStrike">
                <a:solidFill>
                  <a:srgbClr val="003399"/>
                </a:solidFill>
                <a:latin typeface="Tahoma"/>
              </a:rPr>
              <a:t>~</a:t>
            </a:r>
            <a:r>
              <a:rPr b="1" lang="ru-RU" sz="2000" spc="-1" strike="noStrike">
                <a:solidFill>
                  <a:srgbClr val="003399"/>
                </a:solidFill>
                <a:latin typeface="Tahoma"/>
              </a:rPr>
              <a:t>1,5 л.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4"/>
          <p:cNvSpPr/>
          <p:nvPr/>
        </p:nvSpPr>
        <p:spPr>
          <a:xfrm>
            <a:off x="-42480" y="1080"/>
            <a:ext cx="814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  <a:ea typeface="Times New Roman"/>
              </a:rPr>
              <a:t>Диагностические аспекты плевральной пункци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4920" y="571680"/>
          <a:ext cx="9109080" cy="4617720"/>
        </p:xfrm>
        <a:graphic>
          <a:graphicData uri="http://schemas.openxmlformats.org/drawingml/2006/table">
            <a:tbl>
              <a:tblPr/>
              <a:tblGrid>
                <a:gridCol w="2751120"/>
                <a:gridCol w="3965760"/>
                <a:gridCol w="239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1-я проби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2-я проби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ff00"/>
                          </a:solidFill>
                          <a:latin typeface="Garamond"/>
                          <a:ea typeface="Times New Roman"/>
                        </a:rPr>
                        <a:t>3-я пробирка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Биохимическое исследование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: рН, уровни белка, ЛДГ, холес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ерина, глюкозы, амилазы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Цитология: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 число клеток и их диференциация (эритроциты, лейкоциты, атипичные, 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LE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, Бере-зовского-Штернберга); микробиологическое исследование (посев на среды, выделение аэро-анаэробных, чистой кул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тур, чувствительность к АБ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ff0000"/>
                          </a:solidFill>
                          <a:latin typeface="Garamond"/>
                          <a:ea typeface="Times New Roman"/>
                        </a:rPr>
                        <a:t>Исследование на БК 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Tahoma"/>
                          <a:ea typeface="Times New Roman"/>
                        </a:rPr>
                        <a:t>–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культураль</a:t>
                      </a: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-</a:t>
                      </a:r>
                      <a:r>
                        <a:rPr b="1" lang="ru-RU" sz="2400" spc="-1" strike="noStrike">
                          <a:solidFill>
                            <a:srgbClr val="ffffff"/>
                          </a:solidFill>
                          <a:latin typeface="Garamond"/>
                          <a:ea typeface="Times New Roman"/>
                        </a:rPr>
                        <a:t>ный метод или ПЦ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9" name="Text Box 66"/>
          <p:cNvSpPr/>
          <p:nvPr/>
        </p:nvSpPr>
        <p:spPr>
          <a:xfrm>
            <a:off x="0" y="5643720"/>
            <a:ext cx="914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 норме в плевральной полости содержится - 20 мл прозрачной жидкости, содержащей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  <a:ea typeface="Arial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  <a:ea typeface="Arial"/>
              </a:rPr>
              <a:t>15 г/л белка и 1500 клеток в мкл (мезотелиальные, моноциты, лимфоциты и немного ПЯЛ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0" y="298800"/>
            <a:ext cx="914400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Экссудат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- темно-желтая, янтарная, слегка мутная жидкость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лассические признаки экссудата (Р.Лайт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елок выпот/кровь &gt;0,5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ЛДГ выпот/кровь &gt;0,6 </a:t>
            </a: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(лучший тест для разраничения от транссуда) 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ровень ЛДГ&gt;200 Ед/л (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2/3 нормальной верхней границы содержания в крови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ругие, часто используемые признак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лотность &gt;1,018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ровень белка &gt;30 г/л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оложительная проба Ривольта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содержание лейкоцитов&gt;1,0*10</a:t>
            </a:r>
            <a:r>
              <a:rPr b="1" lang="ru-RU" sz="2000" spc="-1" strike="noStrike" baseline="30000">
                <a:solidFill>
                  <a:srgbClr val="ffff00"/>
                </a:solidFill>
                <a:latin typeface="Tahoma"/>
              </a:rPr>
              <a:t>9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/л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ысокий уровень холестерина &gt;55 мг/сут (или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1,6 ммоль\л)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билирубин ПВ\кровь 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&gt;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0,6;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изкий уровень глюкозы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(</a:t>
            </a:r>
            <a:r>
              <a:rPr b="1" lang="en-US" sz="2000" spc="-1" strike="noStrike">
                <a:solidFill>
                  <a:srgbClr val="ffff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3,0 ммоль\л).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Значение вышеуказанных критериев не абсолютно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4"/>
          <p:cNvSpPr/>
          <p:nvPr/>
        </p:nvSpPr>
        <p:spPr>
          <a:xfrm>
            <a:off x="0" y="-90360"/>
            <a:ext cx="9144000" cy="67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Транссудат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- «фильтрат крови» (по биохимическому составу приближается к ней)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чистая, прозрачная, стерильная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,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невязкая жидкость;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лотность &lt;1,015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отрицательная проба Ривольта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содержание белка &lt;30 г/л (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lt;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1\2 белка сыворотки);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ПЯЛ &lt;50%; 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уровень глюкозы похож на таковой в крови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ЛДГ&lt;200 Ед/л и соотношение - выпот/кровь &lt;0,6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холестерин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lt;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1,6 ммоль\л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билирубин ПВ\сыворотка 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&lt;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0,6;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Транссудат --  обычно двухсторонний (иногда сразу появляется на одной стороне, а потом на другой) и быстро рассасывается,   не  оставляет спаек. Основная причина дифференцировать транссудат – то, что дальнейшая диагностика прекращается и усилия направляются на лечение основной причины – ХСН, нефроза или цирроза печени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0" y="304200"/>
            <a:ext cx="9144000" cy="59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3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частых вида экссудатов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2800" spc="-1" strike="noStrike" u="sng">
                <a:solidFill>
                  <a:srgbClr val="ffffff"/>
                </a:solidFill>
                <a:uFillTx/>
                <a:latin typeface="Tahoma"/>
              </a:rPr>
              <a:t>(&gt;80% всех экссудатов):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ызванные инфекцией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--  выраженный плеврит имеется у 40% больных  бактериальной ВБП, у 20% с  микоплазменной пневмонии и у 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70% -  стафилококковой пневмонией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связанные с постпервичным ТВС легких без доказательств поражения на рентгеновском снимке легких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частая причина в странах СНГ);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бусловленные опухолями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20%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Туберкулезный плеврит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91440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ыделяют три патогенетических варианта туберкулезного плеврита: аллергический, перифокальный и туберкулез плевры.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В основе аллергического ТП лежит гиперсенсибилизация,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которая приводит к воспалительной реакции со стороны плевры, сопровождающейся выраженной экссудацией, как правило, без образования  очагов и обсеменения. При исследовании плевральной жидкости выявляется  большое количество эозинофилов, что в сочетании с эозинофилией крови свидетельствует об аллергическом ее характере. Естественно, что  микобактерии туберкулеза в экссудате, как правило, не обнаруживаются.</a:t>
            </a:r>
            <a:r>
              <a:rPr b="1" lang="ru-RU" sz="24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5e5ff"/>
                </a:solidFill>
                <a:latin typeface="Garamond"/>
              </a:rPr>
              <a:t>Плевриты при онкологических заболеваниях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Рак легког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етастазы из разных источник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Лимфом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Мезотелиома плевр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4"/>
          <p:cNvSpPr/>
          <p:nvPr/>
        </p:nvSpPr>
        <p:spPr>
          <a:xfrm>
            <a:off x="0" y="-96480"/>
            <a:ext cx="9144000" cy="69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Практические рекомендации п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Дифференциальному диагнозу ПВ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ередко представлятся сложным (довольно широкий круг причин, многие из которых трудно распознаютс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порные факторы для решения данной проблемы: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клинической ситуации (ХСН, цирроз печени, нефротический синдром, панкреатит, пневмония – имеют достаточно четкую клиническую картину, в рамках которой ПВ логично и очевидно вписывается)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Визуальная оценка выпота: гемоторакс, хилоторакс, гной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Оценка характера выпота – транссудат/экссудат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Цитологический состав выпота: раковые клетки, микобактерии туберкулеза, лимфоцитоз (тбс), эозинофилия, нейтрофилез (эмпиема), </a:t>
            </a: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LE-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клетки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indent="450720"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Использование дополнительных уточняющих методов: КТ ОГК, бронхоскопия, биопсия плевры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Указанное обследование не гарантирует установление диагноза, что приводит к расширению поиска и новым обследованиям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Garamond"/>
              </a:rPr>
              <a:t>Лечебная тактика при плевритах и плевральных выпотах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ие направления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Извлечение жидкости для декомпрессии внутренних органо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Устранение причин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тибактериальная терап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езболивающ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4"/>
          <p:cNvSpPr/>
          <p:nvPr/>
        </p:nvSpPr>
        <p:spPr>
          <a:xfrm>
            <a:off x="0" y="0"/>
            <a:ext cx="9144000" cy="68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леврит</a:t>
            </a:r>
            <a:r>
              <a:rPr b="1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-  воспаление листков плевры, проявляющееся двумя основными клиническими вариантами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разованием на поверхности листков фибринозных отложений (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фибринозный, «сухой» плеврит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коплением экссудата в плевральной полости (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экссудативный плеврит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Плевриты, как правило, вторичны – это реакция плевры на основное заболевание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До уточнения характера жидкости в плевральной полости (транссудат, экссудат) правильно использовать термин </a:t>
            </a:r>
            <a:r>
              <a:rPr b="1" lang="ru-RU" sz="2600" spc="-1" strike="noStrike">
                <a:solidFill>
                  <a:srgbClr val="ffff00"/>
                </a:solidFill>
                <a:latin typeface="Tahoma"/>
              </a:rPr>
              <a:t>плевральный выпот (ПВ) 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comb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250920" y="573120"/>
            <a:ext cx="871380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Избыточное скопление жидкости в плевральной полости является следствием 3-х основных нарушений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взаимодействия  гидростатического и  онкотического давлений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транссуд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проницаемости мезотелиального слоя плевры и эндотелия капилляров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 (</a:t>
            </a:r>
            <a:r>
              <a:rPr b="1" lang="ru-RU" sz="2800" spc="-1" strike="noStrike">
                <a:solidFill>
                  <a:srgbClr val="ff0000"/>
                </a:solidFill>
                <a:latin typeface="Tahoma"/>
              </a:rPr>
              <a:t>экссудат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);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нарушение дренажной функции лимфатической системы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4"/>
          <p:cNvSpPr/>
          <p:nvPr/>
        </p:nvSpPr>
        <p:spPr>
          <a:xfrm>
            <a:off x="468360" y="405360"/>
            <a:ext cx="8280360" cy="61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ссудативные  плевриты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воспалительные (инфекционны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)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ще  неспецифическая бактериальная инфекция  (парапневмонические, при АЛ) и ТВС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опухолевые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: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аще  метастазы  в плевру, бронхогенный рак, лимфома и лейкемия, реже   -- злокачественная мезотелио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атологии сосудов легких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неинфекционный): ТЭЛА с инфарктом легкого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атология брюшной полост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 гнойно-воспалительные процессы в органах, прилегающих или отдаленных (панкреатогенные или при поддиафрагмальном абсцессе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ДБС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чаще -- РА, СКВ и реже – ССД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аллергически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е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: постинфарктный синдром Дресслера (пневмонит, плеврит и перикардит) и лекарственная аллергия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неинфекционные гранулематозные болезни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саркоидоз);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ff00"/>
                </a:solidFill>
                <a:latin typeface="Tahoma"/>
              </a:rPr>
              <a:t>прочие болезни и состояни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--  асбестоз, синдром Мейгса (ПВ и асцит на фоне рака яичников), уремия, ателектаз,  разрыв пищевода, рентгеновское облучение грудной клетки, болезни перикард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onstantia"/>
              </a:rPr>
              <a:t>Транссудативные ПВ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снижено Р онкотическо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(из-за диспротеинемии, гипоальбуминемии):  нефротический синдром, цирроз печен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овышено Р гидростатическое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: ХСН различного генеза, констриктивный перикардит, обструкция верхней полой вены (вследствие опухоли средостения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яд заболеваний могут иметь как транссудат, так и экссудат (туберкулез, панкреатит, рак…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4"/>
          <p:cNvSpPr/>
          <p:nvPr/>
        </p:nvSpPr>
        <p:spPr>
          <a:xfrm>
            <a:off x="0" y="-311400"/>
            <a:ext cx="9144000" cy="75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линическая картина плеврита зависит от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сновного заболевания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, характера воспаления плевры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(количества жидкости в плевральной полости)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изменения функции соседних органов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Ведущие симптомы плеврита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ff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боль в грудной клетке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или в области нижних ребер (при диафрагмальном плеврите); - обычно внезапная, резкая, усиливающаяся при глубоком дыхании и наклоне в здоровую сторону, уменьшающаяся лежа на больном боку. По мере увеличения объема выпота боль ослабевает и может исчезнуть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ahoma"/>
              </a:rPr>
              <a:t>одышка; - </a:t>
            </a:r>
            <a:r>
              <a:rPr b="0" lang="ru-RU" sz="2800" spc="-1" strike="noStrike">
                <a:solidFill>
                  <a:srgbClr val="ffffff"/>
                </a:solidFill>
                <a:latin typeface="Constantia"/>
              </a:rPr>
              <a:t>за счет снижения объема легкого и боли (ограничение дыхательных движений). Зависит от объема выпота и скорости наполнения – от одышки при физической нагрузке до выраженной ДН в покое.</a:t>
            </a:r>
            <a:r>
              <a:rPr b="0" lang="ru-RU" sz="2800" spc="-1" strike="noStrike">
                <a:solidFill>
                  <a:srgbClr val="ffff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Constant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e5e5ff"/>
                </a:solidFill>
                <a:latin typeface="Tahoma"/>
              </a:rPr>
              <a:t>Клиническая картина</a:t>
            </a:r>
            <a:endParaRPr b="1" lang="en-US" sz="2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сухой кашель; повышение температуры  тела (выраженность зависит от причины)</a:t>
            </a:r>
            <a:r>
              <a:rPr b="1" lang="ru-RU" sz="2800" spc="-1" strike="noStrike">
                <a:solidFill>
                  <a:srgbClr val="ffffff"/>
                </a:solidFill>
                <a:latin typeface="Garamond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Осмотр: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 отставание пораженной части в акте дыхания, выбухание межреберных промежутков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Пальпация и перкуссия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: 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ослабление голосового дрожания, притупление перкуторного звука (абсолютная тупость) над областью выпот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Garamond"/>
              </a:rPr>
              <a:t>Аускультация: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Garamond"/>
              </a:rPr>
              <a:t>резкое ослабление везикулярного дыхание над зоной выпота, шум трения плевры при фибринозном плеврит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395280" y="1141560"/>
            <a:ext cx="8497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Визуальная диагностика плевритов: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ff00"/>
                </a:solidFill>
                <a:uFillTx/>
                <a:latin typeface="Tahoma"/>
              </a:rPr>
              <a:t>Рентгенография легких</a:t>
            </a:r>
            <a:r>
              <a:rPr b="1" lang="ru-RU" sz="2400" spc="-1" strike="noStrike" u="sng">
                <a:solidFill>
                  <a:srgbClr val="ffffff"/>
                </a:solidFill>
                <a:uFillTx/>
                <a:latin typeface="Tahoma"/>
              </a:rPr>
              <a:t> – наиболее простой и точный способ подтверждения плеврального выпота. Выполняется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в 2-х проекциях. Исследование в положении лежа на больном и здоровом боку позволяет  выявить небольшой ПВ (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~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 100 мл). 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buClr>
                <a:srgbClr val="ffff00"/>
              </a:buClr>
              <a:buSzPct val="7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Компьютерная томография</a:t>
            </a:r>
            <a:r>
              <a:rPr b="1" lang="en-US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–важна для оценки состояния легочной паренхимы у больных с ПВ</a:t>
            </a: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(</a:t>
            </a: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абсцесс легкого, пневмония, рак, мезотелиома, осумкования плевры)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buClr>
                <a:srgbClr val="ffff00"/>
              </a:buClr>
              <a:buSzPct val="70000"/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ff00"/>
                </a:solidFill>
                <a:uFillTx/>
                <a:latin typeface="Garamond"/>
              </a:rPr>
              <a:t>УЗИ плевры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– скопление жидкости не дает эхо-сигнала, в отличии от легкого и грудной стенки. Верифицирует небольшие, локальные или осумкованные ПВ; по показателям эхогенности позволяет отличить серозный ПВ от гнойного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7T10:33:26Z</dcterms:created>
  <dc:creator>asd</dc:creator>
  <dc:description/>
  <dc:language>en-US</dc:language>
  <cp:lastModifiedBy>Тарас</cp:lastModifiedBy>
  <dcterms:modified xsi:type="dcterms:W3CDTF">2016-02-20T12:55:45Z</dcterms:modified>
  <cp:revision>206</cp:revision>
  <dc:subject/>
  <dc:title>Слайд 1</dc:title>
</cp:coreProperties>
</file>