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DF3-89C6-4B75-9F0B-FA6EC299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3E6-93A3-4EDF-8960-4CEB2F6F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A99-A021-4EF9-AAE1-7B840BE8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0FB-E4DD-4C5D-92AD-A5159A12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AF80-75AA-4972-A052-EA90443F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3154-6624-4450-8258-DF5542FE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60B2-1767-4A61-AF6E-3B5B76B4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B2B5-DBBB-4F6A-A531-6FA9167E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B505-CBBF-4802-9F1C-04014817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CDFA-BEA2-42BA-A551-6A917FBE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41A3-1BBB-4F45-BC3A-D8C9A67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A07-2E23-453B-852D-AF16E11F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C7FD-CE76-4837-910B-297A2CF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429-85DE-4310-B795-FBF4B15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E9DB-C859-412E-98E6-5CEC0F3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8E9C-D2C3-4BAF-B9F7-8E61148F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4376-5801-433A-9135-4CCEB61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661-B6E5-4691-996F-DB789DD7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5E8-4A55-400E-8799-6A32A6F2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E5E-EE83-4DCE-AADD-C85DFF5A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463-D51E-4A46-896F-D00F9358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B7D-7B6F-474B-8424-DB6FDC7D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2B3-7F99-4B64-BAFE-1D7863FD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3CCC-EAEC-4A03-969E-55B540C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D007-861B-4332-A7E3-8BD656D582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328A-F344-4E9F-8230-BD626323EF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6600"/>
                </a:solidFill>
                <a:latin typeface="Arial"/>
              </a:rPr>
              <a:t>Василь Стефаник</a:t>
            </a:r>
            <a:br>
              <a:rPr sz="4000"/>
            </a:br>
            <a:r>
              <a:rPr b="1" lang="uk-UA" sz="4000" spc="-1" strike="noStrike">
                <a:solidFill>
                  <a:srgbClr val="cc6600"/>
                </a:solidFill>
                <a:latin typeface="Arial"/>
              </a:rPr>
              <a:t>(1871-193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ата народження: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4 травня 18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ісце народження: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ус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ата смерті: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7 грудня 19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ромадянство: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встро-Угорська Імпері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ід діяльності: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ки активності: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1897-19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Vasil_Stefanik"/>
          <p:cNvPicPr/>
          <p:nvPr/>
        </p:nvPicPr>
        <p:blipFill>
          <a:blip r:embed="rId7">
            <a:lum contrast="18000"/>
          </a:blip>
          <a:srcRect l="6916" t="0" r="7729" b="0"/>
          <a:stretch/>
        </p:blipFill>
        <p:spPr>
          <a:xfrm>
            <a:off x="539640" y="1700280"/>
            <a:ext cx="3381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ам'ятник Василеві Стефанику у Львові на вулиці Стефаника перед входом у Національну бібліотеку імені Стефа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4648320" y="549360"/>
            <a:ext cx="403848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ам'ятник Василеві Стефанику в Івано-Франківську у подвір'ї Прикарпатського університету на вулиці Шевч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5043600" y="692280"/>
            <a:ext cx="364320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137440" cy="58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Тяжка хвороба затьмарила останні роки життя письменника. Він жив один: не було в живих дружини, сини також не жили при батькові. 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Син Кирило згадував: «Хоч по хворобі батько змінився, тяжко пересувався з палицею, сам із себе був невдоволений, найчастіше пересиджував на стільчику... розум мав твердий і блискучий». Це видно з написаних перед смертю трьох новел: «Гріх», «У нас все свято», «Червоний вексель». Не стало В. Стефаника у грудні 1936 р. Поховано його на сільському цвинтар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3600" spc="-1" strike="noStrike">
                <a:solidFill>
                  <a:srgbClr val="ff3300"/>
                </a:solidFill>
                <a:latin typeface="Arial"/>
              </a:rPr>
              <a:t>Стефаник </a:t>
            </a:r>
            <a:r>
              <a:rPr b="0" lang="uk-UA" sz="3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0" lang="uk-UA" sz="3600" spc="-1" strike="noStrike">
                <a:solidFill>
                  <a:srgbClr val="ff3300"/>
                </a:solidFill>
                <a:latin typeface="Palace Script MT"/>
              </a:rPr>
              <a:t>це митець з Божої ласки. Він досконало володіє формою і має подиву   гідний смак у доброті своїх творчих засобів. Він уміє найпростішими засобами справити якнайбільше враження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959160" y="536580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І. Фран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3300"/>
                </a:solidFill>
                <a:latin typeface="Arial"/>
              </a:rPr>
              <a:t>Життєвий шлях письменн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ти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родився 14 травня 1871 року в селі Русів (тепер Снятинського району Івано-Франківської області) в сім'ї заможного селянина. У 1880 р. батько віддав його до другого класу початкової школи в Снятин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382920" cy="3311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4716360" y="54338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цьому будинку жив з 1910 ро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атько письменника - Семен Стефаник (1846-192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rcRect l="0" t="0" r="6368" b="2468"/>
          <a:stretch/>
        </p:blipFill>
        <p:spPr>
          <a:xfrm>
            <a:off x="826920" y="1413000"/>
            <a:ext cx="2205360" cy="3671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03280" y="333000"/>
            <a:ext cx="576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3300"/>
                </a:solidFill>
                <a:latin typeface="Times New Roman"/>
              </a:rPr>
              <a:t>Осві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авчався у Снятинській міській, школі, потім у польських гімназіях у Коломиї та Дрогобичі. Був виключений з Коломийської гімназії через участь у «Покутській трійці» — таємному творчому об'єднанні духовно близьких митців-земляків, до складу якої входили також Лесь Мартович та Марко Черемшина. По закінченні Дрогобицької гімназії вступив до медичного факультету Краківського Університету (1892). У Кракові Стефаник на довгі роки заприязнився з польським лікарем і культурним діячем В. Морачевським. Приятелювання з ним, а також дружні стосунки з плеядою письменників «Молодої Польщі» (зокрема з С. Пшибишевським), В. Орканом та інші відкрили Стефанику, за його власним висловом, «дорогу в світ». Багато працюючи над своєю загальною 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освітою і знайомлячись з сучасною йому західно-європейською літературою, Стефаник поступово втрачав зацікавлення медициною і зрештою у 1900 покину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42447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першу В.Стефаник писав невеличкі поезії в прозі, та не знайшов для них видавця. З осені 1897 р. в газетах почали з’являтися його реалістичні новели. Потім вийшли збірки творів “Синя книжечка” (1899), “Камінний хрест” (1900) і “Дорога” (1901). Вивчення медицини письменник залишив у 1900 р. Восени 1903 р. у складі делегації він відвідав Київ. Тут зустрівся з відомими письменниками – Лесею Українкою, М.Коцюбинським, М.Старицьким та ін. Відвідав могилу Т.Шевченка в Канев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1904 р. одружившись на Ользі Гаморак, Стефаник деякий час відійшов від літератури, займався сільським господарств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4832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 1908 р. по 1918 р. він був депутатом парламенту і використовував можливості “мужицького посла” для захисту бідноти у старостві й на су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ід час першої світової війни австрійські військові власті заарештували Стефаника за зв’язки з російськими солдатами. Страждання трудящих, породжені війною, змусили письменника знову взятися за перо, і він пише ряд антивоєнних нове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1928 р. уряд Радянської України призначив Стефаникові пенсію за його заслуги в розвитку літератури. Це була велика матеріальна й моральна підтрим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У творчості Стефаника було два періоди: перший припадає на 1897-1901, а другий на 1916-1933 рр. Головна тема його новел – важке життя західноукраїнської сільської бідноти, її остаточне зубожіння і пролетаризаці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stefannik"/>
          <p:cNvPicPr/>
          <p:nvPr/>
        </p:nvPicPr>
        <p:blipFill>
          <a:blip r:embed="rId2"/>
          <a:stretch/>
        </p:blipFill>
        <p:spPr>
          <a:xfrm>
            <a:off x="5651640" y="1197000"/>
            <a:ext cx="29685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амінний хрест (1900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18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і еміграції українських селян присвятили свої твори російський прозаїк В. Короленко (Без язика), польська поете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. Конопніцька  (Пан Бельцер у Бразилії ). У цьому річищі творили українські письменники І. Франкко (По селах, До Бразилії), Тю Бордуляк (Бузьки, Іван Бразилієць), М. Черемшина (Осінь), О. Кобилянська (Земля), Б. Лепкий (Журавлі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е, мені на чужині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ти легше буд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к іноді в Україні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гадувати будут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Т. Шевченк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971640" y="3505320"/>
            <a:ext cx="2530440" cy="280980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4716360" y="35053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жна все на світі вибирати, сину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брати не можна тільки Батьківщину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. Симоненк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2249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заïк. Автор оповiдань i новел; що увiйшли в збiрки “Синя книжечка” (1899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мiнний хрест” (1900), “Дорога” (1901), “Моє слово” (1905), “Земля” (192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звивав у лiтературi жанровий рiзновид психологiчноï новели, у якiй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ньому планi стоять почуття i переживання, настроï персонажа, викликан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вними життєвими обставин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48:33Z</dcterms:created>
  <dc:creator>АЛЛА</dc:creator>
  <dc:description/>
  <dc:language>en-US</dc:language>
  <cp:lastModifiedBy>Алексей</cp:lastModifiedBy>
  <dcterms:modified xsi:type="dcterms:W3CDTF">2012-04-14T08:10:17Z</dcterms:modified>
  <cp:revision>4</cp:revision>
  <dc:subject/>
  <dc:title>Василь Стефаник (1871-1936)</dc:title>
</cp:coreProperties>
</file>