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gif" ContentType="image/gif"/>
  <Override PartName="/ppt/media/image24.gif" ContentType="image/gif"/>
  <Override PartName="/ppt/media/image32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36.gif" ContentType="image/gif"/>
  <Override PartName="/ppt/media/image20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49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31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30.jpeg" ContentType="image/jpeg"/>
  <Override PartName="/ppt/media/image37.jpeg" ContentType="image/jpeg"/>
  <Override PartName="/ppt/media/image47.gif" ContentType="image/gif"/>
  <Override PartName="/ppt/media/image10.gif" ContentType="image/gif"/>
  <Override PartName="/ppt/media/image39.jpeg" ContentType="image/jpeg"/>
  <Override PartName="/ppt/media/image45.jpeg" ContentType="image/jpeg"/>
  <Override PartName="/ppt/media/image40.gif" ContentType="image/gi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41.png" ContentType="image/png"/>
  <Override PartName="/ppt/media/image42.gif" ContentType="image/gif"/>
  <Override PartName="/ppt/media/image44.gif" ContentType="image/gif"/>
  <Override PartName="/ppt/media/image43.gif" ContentType="image/gif"/>
  <Override PartName="/ppt/media/image4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26.jpeg" ContentType="image/jpeg"/>
  <Override PartName="/ppt/media/image11.gif" ContentType="image/gif"/>
  <Override PartName="/ppt/media/image29.gif" ContentType="image/gif"/>
  <Override PartName="/ppt/media/image35.gif" ContentType="image/gif"/>
  <Override PartName="/ppt/media/image5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E05-AE40-42B7-815C-E00EE9D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079-7E47-456F-BCFD-DFD2836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4E9-395C-4519-B0E1-8654C7BC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688-4C79-4372-9E47-E1B3621D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1B9-CC00-4147-9AAE-E131FE1E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945D-EDC9-4165-B792-5F8DA9B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F824-896B-4488-9EBD-FA831BF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F48-42BC-48EE-ACA9-7F5A578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1DB-6521-4CED-9DEF-EA60A34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EAB5-2931-4837-93B4-FD39E011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4FA8-C987-4EB7-B39C-160907A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373-8CEC-40AD-81B6-BBBE384B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587D-09E7-47E6-B02B-42FCB4E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76FB-5A87-46B5-82D9-FA569DB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311-1A95-44ED-A6DD-CCBEB6E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971-ADC4-421F-B7D1-66F96DCE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76FC-0E80-40DC-8C14-0A854657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79A-8784-4294-8A3C-0B337F39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705-F0B4-4978-A538-68DE6DE8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105-6AF0-438F-AE97-3C675F9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AE3-A88F-4073-8AF4-19878A9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132-6F8B-43F6-9F34-A43D56F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F39-A6D8-41E5-973B-EE34C77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AF4-E347-4E3D-82C8-D0CA503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28C-CF96-440A-8156-58E114D3EC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31E-8E11-4161-8FAF-550A617814FC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rest.geoman.ru/geo_forest/forest/item/f00/s01/e0001178/pic/000_43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nauka.relis.ru/08/0404/neur1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tdrom.com/files/journal/1744/322/322_0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primamedica.ru/kletki_krovi1.jpg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rsclub.ru/animal/05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byaki.net/uploads/posts/1172184728_1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photo.simix.ru/d/6710-1/015.JPG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495680" y="3657240"/>
            <a:ext cx="4267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Автор презентации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Учитель биологии                        МОУ СОШ № 37                               пос. Тюменский,          Туапсинского района,  Краснодарского края</a:t>
            </a:r>
            <a:r>
              <a:rPr b="1" i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ЛИНИНА МАРИН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ЛАДИМИРОВНА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2007- 2008  учебный год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Picture 4" descr="Scan10076"/>
          <p:cNvPicPr/>
          <p:nvPr/>
        </p:nvPicPr>
        <p:blipFill>
          <a:blip r:embed="rId1"/>
          <a:stretch/>
        </p:blipFill>
        <p:spPr>
          <a:xfrm>
            <a:off x="380880" y="1676520"/>
            <a:ext cx="352296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304920" y="30492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ОБРАЗИЕ ЖИВЫХ ОРГАНИЗМ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600200"/>
            <a:ext cx="4495680" cy="14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А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Comic Sans MS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7" descr="MMj02834570000[1]"/>
          <p:cNvPicPr/>
          <p:nvPr/>
        </p:nvPicPr>
        <p:blipFill>
          <a:blip r:embed="rId4"/>
          <a:stretch/>
        </p:blipFill>
        <p:spPr>
          <a:xfrm>
            <a:off x="4334040" y="319104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MMj02363150000[1]"/>
          <p:cNvPicPr/>
          <p:nvPr/>
        </p:nvPicPr>
        <p:blipFill>
          <a:blip r:embed="rId5"/>
          <a:stretch/>
        </p:blipFill>
        <p:spPr>
          <a:xfrm>
            <a:off x="4572000" y="4724280"/>
            <a:ext cx="6476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Mj03568240000[1]"/>
          <p:cNvPicPr/>
          <p:nvPr/>
        </p:nvPicPr>
        <p:blipFill>
          <a:blip r:embed="rId6"/>
          <a:stretch/>
        </p:blipFill>
        <p:spPr>
          <a:xfrm>
            <a:off x="4419720" y="190512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cc"/>
                </a:solidFill>
                <a:latin typeface="Arial"/>
              </a:rPr>
              <a:t>БИОСФЕРНЫЙ УРОВЕН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БИОСФЕРА – ЭТО ОБОЛОЧКА ЗЕМЛИ, ЗАСЕЛЕННАЯ ЖИВЫМИ ОРГАНИЗМАМ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5" descr="Картинка 2 из 97"/>
          <p:cNvPicPr/>
          <p:nvPr/>
        </p:nvPicPr>
        <p:blipFill>
          <a:blip r:embed="rId1"/>
          <a:stretch/>
        </p:blipFill>
        <p:spPr>
          <a:xfrm>
            <a:off x="2438280" y="2209680"/>
            <a:ext cx="4267440" cy="41817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228600" y="2286000"/>
            <a:ext cx="198108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228600" y="3733920"/>
            <a:ext cx="198108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28600" y="5181480"/>
            <a:ext cx="198108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6934320" y="21337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934320" y="32767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6934320" y="44197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6934320" y="55627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04920" y="26668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152280" y="4114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</a:rPr>
              <a:t>ГИДРОСФЕР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28600" y="5562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ЛИТОСФЕР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934320" y="22096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ЖИВОЕ ВЕЩЕСТВ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934320" y="33526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СНОЕ ВЕЩЕСТВ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934320" y="4495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БИОКОСНОЕ ВЕЩЕСТВ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10280" y="56386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БИОГЕННОЕ ВЕЩЕСТВ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5" name="Picture 20" descr="planets_10"/>
          <p:cNvPicPr/>
          <p:nvPr/>
        </p:nvPicPr>
        <p:blipFill>
          <a:blip r:embed="rId2"/>
          <a:stretch/>
        </p:blipFill>
        <p:spPr>
          <a:xfrm>
            <a:off x="2286000" y="198108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ЧАРЛЗ ДАРВИН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56386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КУССТВЕННЫЙ ОТБО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УРЕНЦИ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ТЕСТВЕННЫЙ ОТБО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8" name="Picture 4" descr="Scan10076"/>
          <p:cNvPicPr/>
          <p:nvPr/>
        </p:nvPicPr>
        <p:blipFill>
          <a:blip r:embed="rId1"/>
          <a:stretch/>
        </p:blipFill>
        <p:spPr>
          <a:xfrm>
            <a:off x="6103800" y="3200400"/>
            <a:ext cx="2711520" cy="3276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5"/>
          <p:cNvSpPr/>
          <p:nvPr/>
        </p:nvSpPr>
        <p:spPr>
          <a:xfrm>
            <a:off x="533520" y="1143000"/>
            <a:ext cx="8229600" cy="762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8580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УТЕШЕСТВИЕ НА КОРАБЛЕ «БИГЛЬ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533520" y="2057400"/>
            <a:ext cx="678168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9900"/>
                </a:solidFill>
                <a:latin typeface="Arial"/>
              </a:rPr>
              <a:t>ИНДИВИДУАЛЬНАЯ НАСЛЕДСТВЕННАЯ ИЗМЕНЧИВОСТЬ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28600" y="52578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ЭВОЛЮЦИЯ ВИДОВ В ПРИРОДЕ – ПРИЧИНА МНОГООБРАЗИЯ ЖИВЫХ ОРГАНИЗМОВ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Picture 12" descr="MMj03033640000[1]"/>
          <p:cNvPicPr/>
          <p:nvPr/>
        </p:nvPicPr>
        <p:blipFill>
          <a:blip r:embed="rId2"/>
          <a:stretch/>
        </p:blipFill>
        <p:spPr>
          <a:xfrm>
            <a:off x="7848720" y="2286000"/>
            <a:ext cx="64764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500040" y="28584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ИРОВОЗЗРЕНИЕ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–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взгляд на окружающий мир                 и место человека в нё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357120" y="2357280"/>
            <a:ext cx="378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АТЕРИАЛИЗ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материя – разу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ЖИВЫЕ ОРГАНИЗМЫ ВОЗНИКЛИ В ПРОЦЕССЕ ЭВОЛЮ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4429080" y="2357280"/>
            <a:ext cx="392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ИДЕАЛИЗ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Разум – матер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ЖИВЫЕ ОРГАНИЗМЫ СОТВОРЕНЫ БОГО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Стрелка вниз 4"/>
          <p:cNvSpPr/>
          <p:nvPr/>
        </p:nvSpPr>
        <p:spPr>
          <a:xfrm rot="2700000">
            <a:off x="2857320" y="1714320"/>
            <a:ext cx="71640" cy="642960"/>
          </a:xfrm>
          <a:prstGeom prst="downArrow">
            <a:avLst>
              <a:gd name="adj1" fmla="val 50000"/>
              <a:gd name="adj2" fmla="val 4986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Стрелка вниз 5"/>
          <p:cNvSpPr/>
          <p:nvPr/>
        </p:nvSpPr>
        <p:spPr>
          <a:xfrm flipH="1" rot="18900000">
            <a:off x="5646600" y="1717560"/>
            <a:ext cx="71640" cy="642960"/>
          </a:xfrm>
          <a:prstGeom prst="downArrow">
            <a:avLst>
              <a:gd name="adj1" fmla="val 50000"/>
              <a:gd name="adj2" fmla="val 4986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cc"/>
                </a:solidFill>
                <a:latin typeface="Arial"/>
              </a:rPr>
              <a:t>КАРЛ ЛИННЕЙ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315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ankGothic Lt BT"/>
              </a:rPr>
              <a:t>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BankGothic Lt BT"/>
              </a:rPr>
              <a:t>СИСТЕМАТИКА</a:t>
            </a:r>
            <a:r>
              <a:rPr b="1" lang="ru-RU" sz="2800" spc="-1" strike="noStrike">
                <a:solidFill>
                  <a:srgbClr val="ffff00"/>
                </a:solidFill>
                <a:latin typeface="BankGothic Lt BT"/>
              </a:rPr>
              <a:t> – НАУКА О МНОГО-ОБРАЗИИ РАЗЛИЧНЫХ ОРГАНИЗ-МОВ И ИХ КЛАССИФИК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Picture 5" descr="Картинка 4 из 21"/>
          <p:cNvPicPr/>
          <p:nvPr/>
        </p:nvPicPr>
        <p:blipFill>
          <a:blip r:embed="rId1"/>
          <a:stretch/>
        </p:blipFill>
        <p:spPr>
          <a:xfrm>
            <a:off x="6781680" y="1143000"/>
            <a:ext cx="2144880" cy="28954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"/>
          <p:cNvSpPr/>
          <p:nvPr/>
        </p:nvSpPr>
        <p:spPr>
          <a:xfrm>
            <a:off x="228600" y="2743200"/>
            <a:ext cx="2895480" cy="1295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3581280" y="4343400"/>
            <a:ext cx="2438640" cy="22096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28600" y="5257800"/>
            <a:ext cx="2895480" cy="1295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657600" y="2743200"/>
            <a:ext cx="2895480" cy="1295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6553080" y="4343400"/>
            <a:ext cx="2362320" cy="22096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80880" y="2895480"/>
            <a:ext cx="25909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Tahoma"/>
              </a:rPr>
              <a:t>«КНЯЗЬ БОТАНИКИ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505320" y="3048120"/>
            <a:ext cx="3124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ИСКУССТВЕННАЯ СИСТЕМ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04920" y="5638680"/>
            <a:ext cx="2666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ИЕРАРХ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657600" y="51055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АКСОН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6705720" y="5029200"/>
            <a:ext cx="213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ДВОЙН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3" name="Picture 16" descr="MMj03363510000[1]"/>
          <p:cNvPicPr/>
          <p:nvPr/>
        </p:nvPicPr>
        <p:blipFill>
          <a:blip r:embed="rId2"/>
          <a:stretch/>
        </p:blipFill>
        <p:spPr>
          <a:xfrm>
            <a:off x="1219320" y="4572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MMj03544720000[1]"/>
          <p:cNvPicPr/>
          <p:nvPr/>
        </p:nvPicPr>
        <p:blipFill>
          <a:blip r:embed="rId3"/>
          <a:stretch/>
        </p:blipFill>
        <p:spPr>
          <a:xfrm>
            <a:off x="7924680" y="533520"/>
            <a:ext cx="505080" cy="52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MMj03544990000[1]"/>
          <p:cNvPicPr/>
          <p:nvPr/>
        </p:nvPicPr>
        <p:blipFill>
          <a:blip r:embed="rId4"/>
          <a:stretch/>
        </p:blipFill>
        <p:spPr>
          <a:xfrm>
            <a:off x="1371600" y="43434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49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ВИД – ОСНОВНАЯ ЕДИНИЦА КЛАССИФИК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953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ИД – ЭТО СОВОКУПНОСТЬ ОСОБЕЙ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8" name="Picture 4" descr="Картинка 101 из 2984"/>
          <p:cNvPicPr/>
          <p:nvPr/>
        </p:nvPicPr>
        <p:blipFill>
          <a:blip r:embed="rId1"/>
          <a:stretch/>
        </p:blipFill>
        <p:spPr>
          <a:xfrm>
            <a:off x="5715000" y="3581280"/>
            <a:ext cx="3048120" cy="3032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Картинка 65 из 458"/>
          <p:cNvPicPr/>
          <p:nvPr/>
        </p:nvPicPr>
        <p:blipFill>
          <a:blip r:embed="rId2"/>
          <a:stretch/>
        </p:blipFill>
        <p:spPr>
          <a:xfrm>
            <a:off x="762120" y="1523880"/>
            <a:ext cx="2514600" cy="1822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380880" y="3505320"/>
            <a:ext cx="5562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меющих сходное строение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дущих сходный образ жизни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пособных к скрещиванию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ающих плодовитое потомство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селяющих определенную территорию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Picture 8" descr="MMj02363150000[1]"/>
          <p:cNvPicPr/>
          <p:nvPr/>
        </p:nvPicPr>
        <p:blipFill>
          <a:blip r:embed="rId3"/>
          <a:stretch/>
        </p:blipFill>
        <p:spPr>
          <a:xfrm>
            <a:off x="8077320" y="380880"/>
            <a:ext cx="647640" cy="190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MMj02363340000[1]"/>
          <p:cNvPicPr/>
          <p:nvPr/>
        </p:nvPicPr>
        <p:blipFill>
          <a:blip r:embed="rId4"/>
          <a:stretch/>
        </p:blipFill>
        <p:spPr>
          <a:xfrm>
            <a:off x="8153280" y="2971800"/>
            <a:ext cx="63828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4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ТАКСОН – ГРУППА ОРГАНИЗМОВ, ОБЪЕДИНЕННЫХ ОПРЕДЕЛЕННЫМИ ПРИЗНАКАМ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АРСТВО ЖИВОТНЫЕ                    ЦАРСТВО РАСТЕНИ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380880" y="2286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380880" y="3048120"/>
            <a:ext cx="1981440" cy="5331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380880" y="380988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380880" y="4572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380880" y="5334120"/>
            <a:ext cx="1981440" cy="5331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380880" y="609588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6781680" y="2286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6781680" y="3048120"/>
            <a:ext cx="198144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6781680" y="380988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6781680" y="4572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6781680" y="5334120"/>
            <a:ext cx="198144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6781680" y="609588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533520" y="2362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ТИП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5720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380880" y="3886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ТРЯ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457200" y="4648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ЕМЕЙСТВ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57200" y="5410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РО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Text Box 40"/>
          <p:cNvSpPr/>
          <p:nvPr/>
        </p:nvSpPr>
        <p:spPr>
          <a:xfrm>
            <a:off x="4572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И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AutoShape 42"/>
          <p:cNvSpPr/>
          <p:nvPr/>
        </p:nvSpPr>
        <p:spPr>
          <a:xfrm>
            <a:off x="2514600" y="243828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AutoShape 47"/>
          <p:cNvSpPr/>
          <p:nvPr/>
        </p:nvSpPr>
        <p:spPr>
          <a:xfrm>
            <a:off x="2514600" y="32767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AutoShape 48"/>
          <p:cNvSpPr/>
          <p:nvPr/>
        </p:nvSpPr>
        <p:spPr>
          <a:xfrm>
            <a:off x="2514600" y="411480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AutoShape 49"/>
          <p:cNvSpPr/>
          <p:nvPr/>
        </p:nvSpPr>
        <p:spPr>
          <a:xfrm>
            <a:off x="2514600" y="495288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AutoShape 50"/>
          <p:cNvSpPr/>
          <p:nvPr/>
        </p:nvSpPr>
        <p:spPr>
          <a:xfrm>
            <a:off x="2514600" y="5791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6934320" y="2362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ОТДЕЛ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Text Box 56"/>
          <p:cNvSpPr/>
          <p:nvPr/>
        </p:nvSpPr>
        <p:spPr>
          <a:xfrm>
            <a:off x="685800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Text Box 57"/>
          <p:cNvSpPr/>
          <p:nvPr/>
        </p:nvSpPr>
        <p:spPr>
          <a:xfrm>
            <a:off x="6858000" y="3886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ОРЯДК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685800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ЕМЕЙСТВ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Text Box 59"/>
          <p:cNvSpPr/>
          <p:nvPr/>
        </p:nvSpPr>
        <p:spPr>
          <a:xfrm>
            <a:off x="6934320" y="5410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РО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Text Box 60"/>
          <p:cNvSpPr/>
          <p:nvPr/>
        </p:nvSpPr>
        <p:spPr>
          <a:xfrm>
            <a:off x="6781680" y="6172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ИД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AutoShape 61"/>
          <p:cNvSpPr/>
          <p:nvPr/>
        </p:nvSpPr>
        <p:spPr>
          <a:xfrm flipH="1">
            <a:off x="6400080" y="243828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AutoShape 62"/>
          <p:cNvSpPr/>
          <p:nvPr/>
        </p:nvSpPr>
        <p:spPr>
          <a:xfrm flipH="1">
            <a:off x="6400080" y="32767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AutoShape 63"/>
          <p:cNvSpPr/>
          <p:nvPr/>
        </p:nvSpPr>
        <p:spPr>
          <a:xfrm flipH="1">
            <a:off x="6400080" y="411480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AutoShape 64"/>
          <p:cNvSpPr/>
          <p:nvPr/>
        </p:nvSpPr>
        <p:spPr>
          <a:xfrm flipH="1">
            <a:off x="6400080" y="4952880"/>
            <a:ext cx="228600" cy="762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AutoShape 65"/>
          <p:cNvSpPr/>
          <p:nvPr/>
        </p:nvSpPr>
        <p:spPr>
          <a:xfrm flipH="1">
            <a:off x="6400080" y="5791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2895480" y="2666880"/>
            <a:ext cx="3429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mo sapiens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ловек разумны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ser domesticus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робей домово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sa canina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иповник собачи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inus sylvestris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на обыкновенна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8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8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ОЛК СТЕПНОЙ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anis lupu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ЦАРСТВО : ЖИВОТНЫЕ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ИП: ХОРДОВЫЕ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ЛАСС: МЛЕКОПИТАЮЩИЕ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ТРЯД: ХИЩНЫЕ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ЕМЕЙСТВО: ВОЛЧЬИ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ОД: ВОЛК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ИД: ВОЛК СТЕПНОЙ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2" name="Picture 4" descr="Scan10075"/>
          <p:cNvPicPr/>
          <p:nvPr/>
        </p:nvPicPr>
        <p:blipFill>
          <a:blip r:embed="rId1"/>
          <a:stretch/>
        </p:blipFill>
        <p:spPr>
          <a:xfrm>
            <a:off x="5638680" y="3809880"/>
            <a:ext cx="3075120" cy="2756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MMj03033820000[1]"/>
          <p:cNvPicPr/>
          <p:nvPr/>
        </p:nvPicPr>
        <p:blipFill>
          <a:blip r:embed="rId2"/>
          <a:stretch/>
        </p:blipFill>
        <p:spPr>
          <a:xfrm>
            <a:off x="7010280" y="1905120"/>
            <a:ext cx="1082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Comic Sans MS"/>
              </a:rPr>
              <a:t>ЖИВОЙ ОРГАНИЗМ – ЭТО ЖИВОЕ СУЩЕСТВО, СПОСОБНОЕ К САМОСТОЯТЕЛЬНОМУ СУЩЕСТВОВАНИ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9760" y="5208480"/>
            <a:ext cx="10666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057400" y="1905120"/>
            <a:ext cx="48769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81480" y="2895480"/>
            <a:ext cx="335304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19320" y="2971800"/>
            <a:ext cx="228600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191120" y="3733920"/>
            <a:ext cx="213336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858000" y="3886200"/>
            <a:ext cx="1676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696080" y="4952880"/>
            <a:ext cx="1143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24480" y="5867280"/>
            <a:ext cx="2057400" cy="60984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 rot="1515000">
            <a:off x="5409720" y="2666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rot="1515000">
            <a:off x="7086600" y="3581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rot="3076800">
            <a:off x="7602120" y="459072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 rot="8089200">
            <a:off x="6514560" y="46098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rot="5400000">
            <a:off x="6591240" y="5067000"/>
            <a:ext cx="1447560" cy="152640"/>
          </a:xfrm>
          <a:prstGeom prst="rightArrow">
            <a:avLst>
              <a:gd name="adj1" fmla="val 50000"/>
              <a:gd name="adj2" fmla="val 2370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 rot="8509200">
            <a:off x="5257080" y="358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 rot="9098400">
            <a:off x="2285280" y="27424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286000" y="198108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ЖИВЫЕ ОРГАНИЗМ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219320" y="3048120"/>
            <a:ext cx="2286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ЛЕТОЧНЫЕ ФОРМЫ (ВИРУСЫ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5334120" y="2971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ЛЕТОЧНЫЕ ФОРМ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4191120" y="3809880"/>
            <a:ext cx="2133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БЕЗЪЯДЕРНЫЕ (БАКТЕРИИ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858000" y="3886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ЯДЕРНЫ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548640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АСТ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7696080" y="5029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ГРИБ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400800" y="6019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ЖИВОТНЫ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27" descr="MMj01724900000[1]"/>
          <p:cNvPicPr/>
          <p:nvPr/>
        </p:nvPicPr>
        <p:blipFill>
          <a:blip r:embed="rId1"/>
          <a:stretch/>
        </p:blipFill>
        <p:spPr>
          <a:xfrm>
            <a:off x="533520" y="4800600"/>
            <a:ext cx="2286000" cy="155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MMj02362690000[1]"/>
          <p:cNvPicPr/>
          <p:nvPr/>
        </p:nvPicPr>
        <p:blipFill>
          <a:blip r:embed="rId2"/>
          <a:stretch/>
        </p:blipFill>
        <p:spPr>
          <a:xfrm>
            <a:off x="7543800" y="1752480"/>
            <a:ext cx="1066680" cy="90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9" descr="MMAG00130_0000[1]"/>
          <p:cNvPicPr/>
          <p:nvPr/>
        </p:nvPicPr>
        <p:blipFill>
          <a:blip r:embed="rId3"/>
          <a:stretch/>
        </p:blipFill>
        <p:spPr>
          <a:xfrm>
            <a:off x="533520" y="1905120"/>
            <a:ext cx="761760" cy="65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MMAG00630_0000[1]"/>
          <p:cNvPicPr/>
          <p:nvPr/>
        </p:nvPicPr>
        <p:blipFill>
          <a:blip r:embed="rId4"/>
          <a:stretch/>
        </p:blipFill>
        <p:spPr>
          <a:xfrm>
            <a:off x="3276720" y="5029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MMj03365880000[1]"/>
          <p:cNvPicPr/>
          <p:nvPr/>
        </p:nvPicPr>
        <p:blipFill>
          <a:blip r:embed="rId5"/>
          <a:stretch/>
        </p:blipFill>
        <p:spPr>
          <a:xfrm>
            <a:off x="3733920" y="2895480"/>
            <a:ext cx="1143000" cy="814680"/>
          </a:xfrm>
          <a:prstGeom prst="rect">
            <a:avLst/>
          </a:prstGeom>
          <a:ln w="0">
            <a:noFill/>
          </a:ln>
        </p:spPr>
      </p:pic>
      <p:sp>
        <p:nvSpPr>
          <p:cNvPr id="133" name="Oval 32"/>
          <p:cNvSpPr/>
          <p:nvPr/>
        </p:nvSpPr>
        <p:spPr>
          <a:xfrm>
            <a:off x="609480" y="335268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8458200" y="571500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429000" y="426708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4724280" y="502920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Oval 36"/>
          <p:cNvSpPr/>
          <p:nvPr/>
        </p:nvSpPr>
        <p:spPr>
          <a:xfrm>
            <a:off x="5562720" y="5943600"/>
            <a:ext cx="5331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Text Box 37"/>
          <p:cNvSpPr/>
          <p:nvPr/>
        </p:nvSpPr>
        <p:spPr>
          <a:xfrm>
            <a:off x="6858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ext Box 38"/>
          <p:cNvSpPr/>
          <p:nvPr/>
        </p:nvSpPr>
        <p:spPr>
          <a:xfrm>
            <a:off x="3505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48006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5638680" y="6019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853452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86800" y="-3235680"/>
            <a:ext cx="7632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52280" y="17524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5 ЦАРСТВ ЖИВЫХ ОРГАНИЗМ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9" descr="MMj03180560000[1]"/>
          <p:cNvPicPr/>
          <p:nvPr/>
        </p:nvPicPr>
        <p:blipFill>
          <a:blip r:embed="rId1"/>
          <a:stretch/>
        </p:blipFill>
        <p:spPr>
          <a:xfrm>
            <a:off x="2514600" y="609480"/>
            <a:ext cx="762120" cy="47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MMj02363510000[1]"/>
          <p:cNvPicPr/>
          <p:nvPr/>
        </p:nvPicPr>
        <p:blipFill>
          <a:blip r:embed="rId2"/>
          <a:stretch/>
        </p:blipFill>
        <p:spPr>
          <a:xfrm>
            <a:off x="5029200" y="68580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MMj03544210000[1]"/>
          <p:cNvPicPr/>
          <p:nvPr/>
        </p:nvPicPr>
        <p:blipFill>
          <a:blip r:embed="rId3"/>
          <a:stretch/>
        </p:blipFill>
        <p:spPr>
          <a:xfrm>
            <a:off x="7696080" y="533520"/>
            <a:ext cx="819360" cy="61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MMAG00327_0000[1]"/>
          <p:cNvPicPr/>
          <p:nvPr/>
        </p:nvPicPr>
        <p:blipFill>
          <a:blip r:embed="rId4"/>
          <a:stretch/>
        </p:blipFill>
        <p:spPr>
          <a:xfrm>
            <a:off x="6629400" y="6858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MMj02362490000[1]"/>
          <p:cNvPicPr/>
          <p:nvPr/>
        </p:nvPicPr>
        <p:blipFill>
          <a:blip r:embed="rId5"/>
          <a:stretch/>
        </p:blipFill>
        <p:spPr>
          <a:xfrm>
            <a:off x="1219320" y="685800"/>
            <a:ext cx="761760" cy="3906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5"/>
          <p:cNvSpPr/>
          <p:nvPr/>
        </p:nvSpPr>
        <p:spPr>
          <a:xfrm>
            <a:off x="457200" y="3200400"/>
            <a:ext cx="3352680" cy="8380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895480" y="4343400"/>
            <a:ext cx="3353040" cy="8380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457200" y="5486400"/>
            <a:ext cx="3352680" cy="8380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5334120" y="5486400"/>
            <a:ext cx="3352680" cy="8380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5334120" y="3276720"/>
            <a:ext cx="3352680" cy="8380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762120" y="3352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АКТЕРИ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5562720" y="3429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РАСТ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3200400" y="4495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ГРИБ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76212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ЖИВОТНЫ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556272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ВИРУСЫ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28600" y="4343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КЛЕТОЧНЫЕ НЕКЛЕТОЧНЫ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6324480" y="4343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ЯДЕРНЫЕ БЕЗЪЯДЕРНЫ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457200" y="2666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АВТОТРОФЫ                               ГЕТЕРОТРОФ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Oval 28"/>
          <p:cNvSpPr/>
          <p:nvPr/>
        </p:nvSpPr>
        <p:spPr>
          <a:xfrm>
            <a:off x="4038480" y="3048120"/>
            <a:ext cx="106704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4038480" y="5486400"/>
            <a:ext cx="106704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42670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ccff"/>
                </a:solidFill>
                <a:latin typeface="Arial"/>
              </a:rPr>
              <a:t>КЛЕТОЧНЫЙ УРОВЕН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ЛЕТКА – СТРУКТУРНАЯ И ФУНКЦИОНАЛЬНАЯ ЕДИНИЦА       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ЖИВ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5" descr="Картинка 30 из 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438280"/>
            <a:ext cx="2959200" cy="335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инка 74 из 1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1371600"/>
            <a:ext cx="1476360" cy="1752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Картинка 18 из 1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58128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Картинка 69 из 1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3048120"/>
            <a:ext cx="2019240" cy="1817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4"/>
          <p:cNvSpPr/>
          <p:nvPr/>
        </p:nvSpPr>
        <p:spPr>
          <a:xfrm>
            <a:off x="3505320" y="52578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Чем отличается клетка многоклеточного организм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2286000" y="6019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от клетки одноклеточного организма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76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ТКАНЕВОЙ УРОВЕН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ТКАНЬ – ЭТО ГРУППА КЛЕТОК, СХОДНЫХ ПО РАЗМЕРУ, СТРОЕНИЮ И ВЫПОЛНЯЕМЫМ ФУНКЦИЯ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4" descr="Scan10076"/>
          <p:cNvPicPr/>
          <p:nvPr/>
        </p:nvPicPr>
        <p:blipFill>
          <a:blip r:embed="rId1"/>
          <a:stretch/>
        </p:blipFill>
        <p:spPr>
          <a:xfrm>
            <a:off x="533520" y="4114800"/>
            <a:ext cx="3809880" cy="228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an10077"/>
          <p:cNvPicPr/>
          <p:nvPr/>
        </p:nvPicPr>
        <p:blipFill>
          <a:blip r:embed="rId2"/>
          <a:stretch/>
        </p:blipFill>
        <p:spPr>
          <a:xfrm>
            <a:off x="4952880" y="2819520"/>
            <a:ext cx="3733920" cy="21333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533520" y="2819520"/>
            <a:ext cx="3809880" cy="1066680"/>
          </a:xfrm>
          <a:prstGeom prst="downArrowCallout">
            <a:avLst>
              <a:gd name="adj1" fmla="val 89301"/>
              <a:gd name="adj2" fmla="val 89293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09480" y="29718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ЖИВОТНЫЕ ТКА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4952880" y="5181480"/>
            <a:ext cx="3886200" cy="1143000"/>
          </a:xfrm>
          <a:prstGeom prst="upArrowCallout">
            <a:avLst>
              <a:gd name="adj1" fmla="val 85008"/>
              <a:gd name="adj2" fmla="val 85000"/>
              <a:gd name="adj3" fmla="val 16667"/>
              <a:gd name="adj4" fmla="val 66660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029200" y="5715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РАСТИТЕЛЬНЫЕ ТКА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РГАННЫЙ УРОВЕН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388620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ЗАНИМАЕТ В ОРГАНИЗ-МЕ ОПРЕДЕЛЕННОЕ МЕСТО И ВЫПОЛНЯЕТ ОПРЕДЕЛЕННУЮ ФУНКЦИ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Picture 4" descr="Scan10076"/>
          <p:cNvPicPr/>
          <p:nvPr/>
        </p:nvPicPr>
        <p:blipFill>
          <a:blip r:embed="rId1"/>
          <a:stretch/>
        </p:blipFill>
        <p:spPr>
          <a:xfrm>
            <a:off x="457200" y="2895480"/>
            <a:ext cx="3021120" cy="3581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can10077"/>
          <p:cNvPicPr/>
          <p:nvPr/>
        </p:nvPicPr>
        <p:blipFill>
          <a:blip r:embed="rId2"/>
          <a:stretch/>
        </p:blipFill>
        <p:spPr>
          <a:xfrm>
            <a:off x="5029200" y="1447920"/>
            <a:ext cx="3525840" cy="2122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57200" y="15238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ОРГАН – ЭТО ЧАСТЬ ТЕЛА, КОТО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7" descr="MMj02362140000[1]"/>
          <p:cNvPicPr/>
          <p:nvPr/>
        </p:nvPicPr>
        <p:blipFill>
          <a:blip r:embed="rId3"/>
          <a:stretch/>
        </p:blipFill>
        <p:spPr>
          <a:xfrm>
            <a:off x="3733920" y="243828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MMAG00157_0000[1]"/>
          <p:cNvPicPr/>
          <p:nvPr/>
        </p:nvPicPr>
        <p:blipFill>
          <a:blip r:embed="rId4"/>
          <a:stretch/>
        </p:blipFill>
        <p:spPr>
          <a:xfrm>
            <a:off x="7696080" y="548640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РГАНИЗМЕННЫЙ УРОВ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Picture 4" descr="Картинка 24 из 29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666880"/>
            <a:ext cx="2638440" cy="19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Картинка 44 из 4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962520"/>
            <a:ext cx="1571760" cy="236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артинка 53 из 37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304920" y="114300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ИЗМ – ЭТО СОВОКУПНОСТЬ КЛЕТОК, ТКАНЕЙ И ОРГАНОВ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362320" y="49528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УЩЕСТВУЮЩИХ В ОПРЕДЕЛЕННОМ ВЗАИМОДЕЙСТВ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8600" y="2895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ДНОКЛЕТОЧНЫЙ ОРГАНИЗМ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019920" y="38862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МНОГОКЛЕТОЧНЫЙ ОРГАНИЗМ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Picture 11" descr="MMj02835720000[1]"/>
          <p:cNvPicPr/>
          <p:nvPr/>
        </p:nvPicPr>
        <p:blipFill>
          <a:blip r:embed="rId7"/>
          <a:stretch/>
        </p:blipFill>
        <p:spPr>
          <a:xfrm>
            <a:off x="6858000" y="4952880"/>
            <a:ext cx="1771560" cy="120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Arial"/>
              </a:rPr>
              <a:t>ПОПУЛЯЦИОННО-ВИДОВОЙ УРОВ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Picture 4" descr="Картинка 10 из 3768"/>
          <p:cNvPicPr/>
          <p:nvPr/>
        </p:nvPicPr>
        <p:blipFill>
          <a:blip r:embed="rId1"/>
          <a:stretch/>
        </p:blipFill>
        <p:spPr>
          <a:xfrm>
            <a:off x="304920" y="1676520"/>
            <a:ext cx="3124080" cy="2400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Картинка 5 из 1373"/>
          <p:cNvPicPr/>
          <p:nvPr/>
        </p:nvPicPr>
        <p:blipFill>
          <a:blip r:embed="rId2"/>
          <a:stretch/>
        </p:blipFill>
        <p:spPr>
          <a:xfrm>
            <a:off x="5638680" y="4191120"/>
            <a:ext cx="3171960" cy="23796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9"/>
          <p:cNvSpPr/>
          <p:nvPr/>
        </p:nvSpPr>
        <p:spPr>
          <a:xfrm>
            <a:off x="3733920" y="1752480"/>
            <a:ext cx="5105160" cy="213372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809880" y="190512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ВИД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СОВОКУПНОСТЬ СХОДНЫХ ПО СТРОЕНИЮ И ФИЗИОЛОГИЧЕСКИМ ОСОБЕННОСТЯМ ОСОБЕ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304920" y="4343400"/>
            <a:ext cx="5105160" cy="213372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457200" y="449568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ПОПУЛЯЦИЯ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– СОВОКУП-НОСТЬ ОСОБЕЙ ОДНОГО ВИДА, ОБИТАЮЩИХ НА ОДНОЙ ТЕРРИТОР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БИОЦЕНОТИЧЕСКИЙ УРОВЕН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Picture 4" descr="Картинка 66 из 2984"/>
          <p:cNvPicPr/>
          <p:nvPr/>
        </p:nvPicPr>
        <p:blipFill>
          <a:blip r:embed="rId1"/>
          <a:stretch/>
        </p:blipFill>
        <p:spPr>
          <a:xfrm>
            <a:off x="2743200" y="2514600"/>
            <a:ext cx="3781440" cy="2836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28600" y="1295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БИОЦЕНОЗ – СООБЩЕСТВО ЖИВЫХ ОРГАНИЗ-МОВ, ИМЕЮЩИХ ОБЩЕЕ МЕСТООБИТАНИ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80880" y="55627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И ТЕСНО ВЗАИМОДЕЙСТВУЮЩИХ МЕЖДУ СОБО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457200" y="25146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1143000" y="4038480"/>
            <a:ext cx="12952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858000" y="4038480"/>
            <a:ext cx="12952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7391520" y="2438280"/>
            <a:ext cx="129528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16" descr="MMj03567310000[1]"/>
          <p:cNvPicPr/>
          <p:nvPr/>
        </p:nvPicPr>
        <p:blipFill>
          <a:blip r:embed="rId2"/>
          <a:stretch/>
        </p:blipFill>
        <p:spPr>
          <a:xfrm>
            <a:off x="7543800" y="2743200"/>
            <a:ext cx="1028880" cy="69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MMj03567250000[1]"/>
          <p:cNvPicPr/>
          <p:nvPr/>
        </p:nvPicPr>
        <p:blipFill>
          <a:blip r:embed="rId3"/>
          <a:stretch/>
        </p:blipFill>
        <p:spPr>
          <a:xfrm>
            <a:off x="7010280" y="4343400"/>
            <a:ext cx="1028880" cy="71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MMj02888630000[1]"/>
          <p:cNvPicPr/>
          <p:nvPr/>
        </p:nvPicPr>
        <p:blipFill>
          <a:blip r:embed="rId4"/>
          <a:stretch/>
        </p:blipFill>
        <p:spPr>
          <a:xfrm>
            <a:off x="1295280" y="4343400"/>
            <a:ext cx="9907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MMj03652500000[1]"/>
          <p:cNvPicPr/>
          <p:nvPr/>
        </p:nvPicPr>
        <p:blipFill>
          <a:blip r:embed="rId5"/>
          <a:stretch/>
        </p:blipFill>
        <p:spPr>
          <a:xfrm>
            <a:off x="609480" y="2819520"/>
            <a:ext cx="990720" cy="67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8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38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38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2T17:46:4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