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projctor.wav" ContentType="audio/x-wav"/>
  <Override PartName="/ppt/media/cashreg.wav" ContentType="audio/x-wav"/>
  <Override PartName="/ppt/media/image8.wmf" ContentType="image/x-wmf"/>
  <Override PartName="/ppt/media/image12.jpeg" ContentType="image/jpeg"/>
  <Override PartName="/ppt/media/ricochet.wav" ContentType="audio/x-wav"/>
  <Override PartName="/ppt/media/chimes.wav" ContentType="audio/x-wav"/>
  <Override PartName="/ppt/media/driveby.wav" ContentType="audio/x-wav"/>
  <Override PartName="/ppt/media/type.wav" ContentType="audio/x-wav"/>
  <Override PartName="/ppt/media/image7.jpeg" ContentType="image/jpeg"/>
  <Override PartName="/ppt/media/camera.wav" ContentType="audio/x-wav"/>
  <Override PartName="/ppt/media/image6.png" ContentType="image/png"/>
  <Override PartName="/ppt/media/image14.wmf" ContentType="image/x-wmf"/>
  <Override PartName="/ppt/media/image4.png" ContentType="image/png"/>
  <Override PartName="/ppt/media/laser.wav" ContentType="audio/x-wav"/>
  <Override PartName="/ppt/media/image15.jpeg" ContentType="image/jpeg"/>
  <Override PartName="/ppt/media/explode.wav" ContentType="audio/x-wav"/>
  <Override PartName="/ppt/media/drumroll.wav" ContentType="audio/x-wav"/>
  <Override PartName="/ppt/media/image9.jpeg" ContentType="image/jpeg"/>
  <Override PartName="/ppt/media/image10.wmf" ContentType="image/x-wmf"/>
  <Override PartName="/ppt/media/image2.png" ContentType="image/png"/>
  <Override PartName="/ppt/media/glass.wav" ContentType="audio/x-wav"/>
  <Override PartName="/ppt/media/image1.jpeg" ContentType="image/jpeg"/>
  <Override PartName="/ppt/media/image5.png" ContentType="image/png"/>
  <Override PartName="/ppt/media/image13.wmf" ContentType="image/x-wmf"/>
  <Override PartName="/ppt/media/image11.wmf" ContentType="image/x-wmf"/>
  <Override PartName="/ppt/media/gunshot.wav" ContentType="audio/x-wav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52C-2FEB-42A8-AEA8-1AB02421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C1D-5670-414D-938A-AB37D77B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7F8-A62A-4C84-983A-AAC02B3B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E91-A6CD-401B-8BA4-C684386D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3AFD-311D-4A3F-A0D2-4E519386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C52A-3E94-49B4-A59A-4BB07CD0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5BD9-2E8A-45CA-A2E7-9F26088C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3A6C-40CC-40A2-A394-12F7259D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B48A-0D65-49D4-BB38-15BA3645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14A6-336B-4271-92BB-B49BC81D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29A8-57D0-4274-A627-F7CBC8E6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BAC-A0B3-4853-9A68-190A60A0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D2F4-0CDE-45B6-92CA-DE71FE29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3EEE-F7ED-4BAF-8513-4BEDC9E4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6E4C-7220-4384-A3B4-62282125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9A79-6692-481C-BC41-2D623BF0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34AA-B6E1-44AB-8D66-E07CA3CD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D21-AAE3-41E5-A86E-E55CF1CC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263-36B3-4529-81FA-DF0EEA26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E614-A375-4FBA-AF89-29363594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398-A180-470A-B090-C7279749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6D5-4211-4361-9A6B-96D19527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EEE-A168-4B9F-A273-8D322946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60B-0B29-47B6-9201-727F42C4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C1E7-BECE-46AC-93F8-610EA1F3C57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AA36-77E9-499C-BE82-F9EDAC05447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audio" Target="../media/glass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projctor.wav"/><Relationship Id="rId14" Type="http://schemas.openxmlformats.org/officeDocument/2006/relationships/audio" Target="../media/projctor.wav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glass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drumroll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ricochet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ashreg.wav"/><Relationship Id="rId6" Type="http://schemas.openxmlformats.org/officeDocument/2006/relationships/audio" Target="../media/camera.wav"/><Relationship Id="rId7" Type="http://schemas.openxmlformats.org/officeDocument/2006/relationships/audio" Target="../media/cashreg.wav"/><Relationship Id="rId8" Type="http://schemas.openxmlformats.org/officeDocument/2006/relationships/audio" Target="../media/camera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projctor.wav"/><Relationship Id="rId7" Type="http://schemas.openxmlformats.org/officeDocument/2006/relationships/audio" Target="../media/chimes.wav"/><Relationship Id="rId8" Type="http://schemas.openxmlformats.org/officeDocument/2006/relationships/audio" Target="../media/projctor.wav"/><Relationship Id="rId9" Type="http://schemas.openxmlformats.org/officeDocument/2006/relationships/audio" Target="../media/chimes.wav"/><Relationship Id="rId10" Type="http://schemas.openxmlformats.org/officeDocument/2006/relationships/audio" Target="../media/projctor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8.wmf"/><Relationship Id="rId8" Type="http://schemas.openxmlformats.org/officeDocument/2006/relationships/audio" Target="../media/glass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440" y="159984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82400"/>
                </a:solidFill>
                <a:latin typeface="Trebuchet MS"/>
              </a:rPr>
              <a:t>     </a:t>
            </a:r>
            <a:r>
              <a:rPr b="1" lang="ru-RU" sz="6000" spc="-1" strike="noStrike">
                <a:solidFill>
                  <a:srgbClr val="ff0000"/>
                </a:solidFill>
                <a:latin typeface="Century Gothic"/>
              </a:rPr>
              <a:t>СПИД –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entury Gothic"/>
              </a:rPr>
              <a:t>чума </a:t>
            </a:r>
            <a:r>
              <a:rPr b="1" lang="en-US" sz="6000" spc="-1" strike="noStrike">
                <a:solidFill>
                  <a:srgbClr val="ff0000"/>
                </a:solidFill>
                <a:latin typeface="Century Gothic"/>
              </a:rPr>
              <a:t>XX</a:t>
            </a:r>
            <a:r>
              <a:rPr b="1" lang="ru-RU" sz="6000" spc="-1" strike="noStrike">
                <a:solidFill>
                  <a:srgbClr val="ff0000"/>
                </a:solidFill>
                <a:latin typeface="Century Gothic"/>
              </a:rPr>
              <a:t> века</a:t>
            </a:r>
            <a:endParaRPr b="0" lang="en-US" sz="6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med" advTm="2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7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ВИЧ инфекция не передаются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поцелуя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использовании одной посудой с инфицирован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чиха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ерез стульчак туал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ерез укус насеком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бассей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Группы риска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мосексуалис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рком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юди, часто меняющие половых партне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юди, занимающиеся проституц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7315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Гарантия безопасности от СПИДа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доровый образ жи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репость брачных уз и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91320" y="4743360"/>
            <a:ext cx="3047760" cy="2114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62120" y="2206800"/>
            <a:ext cx="24382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1600200"/>
            <a:ext cx="6248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ица, склонные к гомосексуальным связям , наркомании, должны понять, что такого рода привычки становятся пагубными уже не только для их здоровья, но я для жизни окружающ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Вопросы для закрепления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895480" y="2362320"/>
            <a:ext cx="3429000" cy="316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3520" y="4797360"/>
            <a:ext cx="236196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2400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1. Какова биологическая природа СПИДа?</a:t>
            </a:r>
            <a:br>
              <a:rPr sz="2600"/>
            </a:b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2. В чем опасность СПИДа? Почему его называют «чумой </a:t>
            </a:r>
            <a:r>
              <a:rPr b="0" lang="en-US" sz="2600" spc="-1" strike="noStrike">
                <a:solidFill>
                  <a:srgbClr val="482400"/>
                </a:solidFill>
                <a:latin typeface="Times New Roman"/>
              </a:rPr>
              <a:t>XX</a:t>
            </a: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 века»?</a:t>
            </a:r>
            <a:br>
              <a:rPr sz="2600"/>
            </a:b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3. Что поражает вирус?</a:t>
            </a:r>
            <a:br>
              <a:rPr sz="2600"/>
            </a:b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4. Каковы пути передачи ВИЧ?</a:t>
            </a:r>
            <a:br>
              <a:rPr sz="2600"/>
            </a:b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5. Кто относится к группе риска?</a:t>
            </a:r>
            <a:br>
              <a:rPr sz="2600"/>
            </a:b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6. Велика ли опасность заразиться СПИДом?</a:t>
            </a:r>
            <a:br>
              <a:rPr sz="2600"/>
            </a:b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7. Что является гарантией безопасности от СПИДа?</a:t>
            </a:r>
            <a:endParaRPr b="0" lang="en-US" sz="26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Использованная литература: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f718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18f"/>
                </a:solidFill>
                <a:latin typeface="Times New Roman"/>
              </a:rPr>
              <a:t>«Найти и уничтожить» Вокруг Света №2 (2749) февраль 2003г. С. 1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f718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18f"/>
                </a:solidFill>
                <a:latin typeface="Times New Roman"/>
              </a:rPr>
              <a:t>Экзамен на 5. Экзаменационные ответы на вопросы. Биология. 9 класс.,О.Н. Ридигер, М., «АСТ-Пресс Школ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f718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18f"/>
                </a:solidFill>
                <a:latin typeface="Times New Roman"/>
              </a:rPr>
              <a:t>Брошюра, изданная в рамках проекта социального маркетинга при поддержке международных доноров. Подготовлена при содействии министерства здравоохранения Российской федерации. 2001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ПИД, синдром приобретенного иммунодефицита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пидемическое заболевание человека, поражающее преимущественно его иммунную систему, защищающую организм от различных болезнетворных аге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Действие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Проявляется этот синдром в развитии злокачественных образований и инфекционных болезней, причем организм становится беззащитным по отношению к микробам, которые в обычных условиях болезней не вызываю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160020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первые СПИД был официально зарегистрирован в США в 1981 году,а уже через 15 лет количество инфицированных составило 29,4 млн. человек, при этом 6,4 млн. уже умерл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Статистика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Возбудитель болезни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рус иммунодефицита человека (ВИЧ), который обладает уникальной способностью к изменчивости, которая в 5 раз превышает таковую вируса гриппа и в 100 раз больше, чем у вируса гепатита 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35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7498" t="7270" r="45001" b="5559"/>
          <a:stretch/>
        </p:blipFill>
        <p:spPr>
          <a:xfrm>
            <a:off x="0" y="2438280"/>
            <a:ext cx="4197240" cy="4419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рус иммунодефицита человека (ВИЧ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914400"/>
            <a:ext cx="472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Ядро капсулы вируса содержит генетический материал РНК и три фермента, которые способствуют дублированию РНК при проникновении в соседнюю клет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514600" y="1676520"/>
            <a:ext cx="1905120" cy="213336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29718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Капсулы , выполняющие роль «связных» между клет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885840" y="3505320"/>
            <a:ext cx="1066680" cy="53316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434340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Протеиновая капсула вируса. В наружную мембрану встроены рецепторные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429000" y="4800240"/>
            <a:ext cx="2133720" cy="15228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601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4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9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4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9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4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9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4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Поражающий фактор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рус СПИДа поражает самое важное звено иммунного ответа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-лимфоцит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в котором может жить, не обнаруживая себя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о 5-7 ле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инкубационный период), но иногда проявляется в виде увеличения лимфатических уз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457200"/>
            <a:ext cx="2057400" cy="1373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падание какой-либо инфе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57200"/>
            <a:ext cx="2743200" cy="947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ктивизация вируса СП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514600"/>
            <a:ext cx="2895480" cy="1373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ремительное размножение вируса СП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438280"/>
            <a:ext cx="274320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ничтож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-лимфоци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4724280"/>
            <a:ext cx="6629400" cy="180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ражение нервной системы, которое выражается в различных заболеваниях(менингит, энцефалит и слабоум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106668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047760" y="1447920"/>
            <a:ext cx="281916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2004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952520" y="3657600"/>
            <a:ext cx="175284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1880" y="-1220760"/>
            <a:ext cx="106704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9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Пути инфицирования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оловым пут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ри совместном  использовании медицинского инструментария (шприцов, игл) лицами , потребляющими наркотики внутривен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От ВИЧ-инфицированной женщины к ее ребенку во время беременности, при рождении или во время грудного вскармли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ри пересадке органов и тка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Использование донорской спермы и кров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762120" y="412920"/>
            <a:ext cx="160020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4:02:21Z</dcterms:created>
  <dc:creator>Маргарита</dc:creator>
  <dc:description/>
  <dc:language>en-US</dc:language>
  <cp:lastModifiedBy>Клинов</cp:lastModifiedBy>
  <dcterms:modified xsi:type="dcterms:W3CDTF">2005-10-28T06:49:54Z</dcterms:modified>
  <cp:revision>9</cp:revision>
  <dc:subject/>
  <dc:title>     СПИД –  чума XX века</dc:title>
</cp:coreProperties>
</file>