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cashreg.wav" ContentType="audio/x-wav"/>
  <Override PartName="/ppt/media/image8.wmf" ContentType="image/x-wmf"/>
  <Override PartName="/ppt/media/image12.jpeg" ContentType="image/jpeg"/>
  <Override PartName="/ppt/media/ricochet.wav" ContentType="audio/x-wav"/>
  <Override PartName="/ppt/media/chimes.wav" ContentType="audio/x-wav"/>
  <Override PartName="/ppt/media/driveby.wav" ContentType="audio/x-wav"/>
  <Override PartName="/ppt/media/type.wav" ContentType="audio/x-wav"/>
  <Override PartName="/ppt/media/image7.jpeg" ContentType="image/jpeg"/>
  <Override PartName="/ppt/media/camera.wav" ContentType="audio/x-wav"/>
  <Override PartName="/ppt/media/image6.png" ContentType="image/png"/>
  <Override PartName="/ppt/media/image14.wmf" ContentType="image/x-wmf"/>
  <Override PartName="/ppt/media/image4.png" ContentType="image/png"/>
  <Override PartName="/ppt/media/laser.wav" ContentType="audio/x-wav"/>
  <Override PartName="/ppt/media/image15.jpeg" ContentType="image/jpeg"/>
  <Override PartName="/ppt/media/explode.wav" ContentType="audio/x-wav"/>
  <Override PartName="/ppt/media/drumroll.wav" ContentType="audio/x-wav"/>
  <Override PartName="/ppt/media/image9.jpeg" ContentType="image/jpeg"/>
  <Override PartName="/ppt/media/image10.wmf" ContentType="image/x-wmf"/>
  <Override PartName="/ppt/media/image2.png" ContentType="image/png"/>
  <Override PartName="/ppt/media/glass.wav" ContentType="audio/x-wav"/>
  <Override PartName="/ppt/media/image1.jpeg" ContentType="image/jpeg"/>
  <Override PartName="/ppt/media/image5.png" ContentType="image/png"/>
  <Override PartName="/ppt/media/image13.wmf" ContentType="image/x-wmf"/>
  <Override PartName="/ppt/media/image11.wmf" ContentType="image/x-wmf"/>
  <Override PartName="/ppt/media/gunshot.wav" ContentType="audio/x-wav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AEC-3A56-40DE-9D33-D4CCA486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29D-D0BF-4125-88C7-6E543AB7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34C-524E-40D8-BDBD-E7625CBE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606-6BF1-457E-97D8-E5C2FF88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6895-EF8B-4E76-BD18-6D6B2C12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6C84-1A6E-44E4-8126-CC171AE3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9C2E-16BB-4D3F-99AC-A6EDAB78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009E-AB4E-42CD-B4E2-5DA96237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0D20-B68C-4A1F-8BD9-65D1D18F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9C11-2C2C-4403-8696-921E50D2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9416-FE63-47A4-9F37-E40447CA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E52-115F-46F1-A245-26EBC2B9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5137-4194-413F-A328-307E9DE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46DD-B7E7-4939-993E-3C960571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19B4-DF9A-4803-8848-BC887913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CB90-66F9-41C3-897F-BC300C8B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1E96-26B8-4F14-ACB3-7E961E9B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B36-933F-4DEF-BCCA-DE618E63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C48-906C-4988-AE0C-F660D2F5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944-1858-4CFA-8D09-C5B8F4FE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59B-B7E2-490E-8D22-63A5DBA3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267-5EB6-4F97-949E-F65D74A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963-EF78-48CE-9765-89F3F57F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B33-2AFB-48E1-9F39-CC0A8E5D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95C1-9C34-4FEB-B0AC-F20ED5F03F6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3D59-ADF2-4217-8DE1-15F3092540C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glass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glass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drumroll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ricochet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audio" Target="../media/camera.wav"/><Relationship Id="rId7" Type="http://schemas.openxmlformats.org/officeDocument/2006/relationships/audio" Target="../media/cashreg.wav"/><Relationship Id="rId8" Type="http://schemas.openxmlformats.org/officeDocument/2006/relationships/audio" Target="../media/camera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projctor.wav"/><Relationship Id="rId9" Type="http://schemas.openxmlformats.org/officeDocument/2006/relationships/audio" Target="../media/chimes.wav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8.wmf"/><Relationship Id="rId8" Type="http://schemas.openxmlformats.org/officeDocument/2006/relationships/audio" Target="../media/glass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159984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82400"/>
                </a:solidFill>
                <a:latin typeface="Trebuchet MS"/>
              </a:rPr>
              <a:t>     </a:t>
            </a: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СПИД –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чума </a:t>
            </a:r>
            <a:r>
              <a:rPr b="1" lang="en-US" sz="6000" spc="-1" strike="noStrike">
                <a:solidFill>
                  <a:srgbClr val="ff0000"/>
                </a:solidFill>
                <a:latin typeface="Century Gothic"/>
              </a:rPr>
              <a:t>XX</a:t>
            </a: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 века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 advTm="2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7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ВИЧ инфекция не передаются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поцелу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использовании одной посудой с инфицирован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чиха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рез стульчак туал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рез укус насеком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бассей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Группы риска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мосексуалис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рком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, часто меняющие половых партне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, занимающиеся проституц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315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Гарантия безопасности от СПИДа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доровый образ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епость брачных уз и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91320" y="4743360"/>
            <a:ext cx="3047760" cy="2114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62120" y="2206800"/>
            <a:ext cx="24382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600200"/>
            <a:ext cx="6248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ица, склонные к гомосексуальным связям , наркомании, должны понять, что такого рода привычки становятся пагубными уже не только для их здоровья, но я для жизни окружающ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Вопросы для закрепления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895480" y="2362320"/>
            <a:ext cx="3429000" cy="316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4797360"/>
            <a:ext cx="236196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1. Какова биологическая природа СПИДа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2. В чем опасность СПИДа? Почему его называют «чумой </a:t>
            </a:r>
            <a:r>
              <a:rPr b="0" lang="en-US" sz="2600" spc="-1" strike="noStrike">
                <a:solidFill>
                  <a:srgbClr val="482400"/>
                </a:solidFill>
                <a:latin typeface="Times New Roman"/>
              </a:rPr>
              <a:t>XX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века»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3. Что поражает вирус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4. Каковы пути передачи ВИЧ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5. Кто относится к группе риска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6. Велика ли опасность заразиться СПИДом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7. Что является гарантией безопасности от СПИДа?</a:t>
            </a:r>
            <a:endParaRPr b="0" lang="en-US" sz="2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Использованная литература: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f718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18f"/>
                </a:solidFill>
                <a:latin typeface="Times New Roman"/>
              </a:rPr>
              <a:t>«Найти и уничтожить» Вокруг Света №2 (2749) февраль 2003г. С. 1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f718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18f"/>
                </a:solidFill>
                <a:latin typeface="Times New Roman"/>
              </a:rPr>
              <a:t>Экзамен на 5. Экзаменационные ответы на вопросы. Биология. 9 класс.,О.Н. Ридигер, М., «АСТ-Пресс Школ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f718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18f"/>
                </a:solidFill>
                <a:latin typeface="Times New Roman"/>
              </a:rPr>
              <a:t>Брошюра, изданная в рамках проекта социального маркетинга при поддержке международных доноров. Подготовлена при содействии министерства здравоохранения Российской федерации. 2001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ПИД, синдром приобретенного иммунодефицита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пидемическое заболевание человека, поражающее преимущественно его иммунную систему, защищающую организм от различных болезнетворных аг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Действие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Проявляется этот синдром в развитии злокачественных образований и инфекционных болезней, причем организм становится беззащитным по отношению к микробам, которые в обычных условиях болезней не вызыв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16002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первые СПИД был официально зарегистрирован в США в 1981 году,а уже через 15 лет количество инфицированных составило 29,4 млн. человек, при этом 6,4 млн. уже умерл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Статистика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Возбудитель болезни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рус иммунодефицита человека (ВИЧ), который обладает уникальной способностью к изменчивости, которая в 5 раз превышает таковую вируса гриппа и в 100 раз больше, чем у вируса гепатита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5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7498" t="7270" r="45001" b="5559"/>
          <a:stretch/>
        </p:blipFill>
        <p:spPr>
          <a:xfrm>
            <a:off x="0" y="2438280"/>
            <a:ext cx="4197240" cy="4419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рус иммунодефицита человека (ВИЧ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914400"/>
            <a:ext cx="472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Ядро капсулы вируса содержит генетический материал РНК и три фермента, которые способствуют дублированию РНК при проникновении в соседнюю клет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514600" y="1676520"/>
            <a:ext cx="1905120" cy="213336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9718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Капсулы , выполняющие роль «связных» между клет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85840" y="3505320"/>
            <a:ext cx="1066680" cy="53316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434340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Протеиновая капсула вируса. В наружную мембрану встроены рецепторные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429000" y="4800240"/>
            <a:ext cx="2133720" cy="15228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60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4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9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4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9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4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4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Поражающий фактор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рус СПИДа поражает самое важное звено иммунного ответа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-лимфоци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в котором может жить, не обнаруживая себя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 5-7 ле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инкубационный период), но иногда проявляется в виде увеличения лимфатических уз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457200"/>
            <a:ext cx="2057400" cy="137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падание какой-либо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57200"/>
            <a:ext cx="2743200" cy="94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тивизация вируса СП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514600"/>
            <a:ext cx="2895480" cy="137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емительное размножение вируса СП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438280"/>
            <a:ext cx="27432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ичт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-лимфоц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724280"/>
            <a:ext cx="6629400" cy="180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ражение нервной системы, которое выражается в различных заболеваниях(менингит, энцефалит и слабоум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06668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047760" y="1447920"/>
            <a:ext cx="281916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2004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2520" y="3657600"/>
            <a:ext cx="17528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1880" y="-1220760"/>
            <a:ext cx="106704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Пути инфицирования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оловым пут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ри совместном  использовании медицинского инструментария (шприцов, игл) лицами , потребляющими наркотики внутривен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т ВИЧ-инфицированной женщины к ее ребенку во время беременности, при рождении или во время грудного вскармли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ри пересадке органов и тка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Использование донорской спермы и кро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62120" y="412920"/>
            <a:ext cx="160020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4:02:21Z</dcterms:created>
  <dc:creator>Маргарита</dc:creator>
  <dc:description/>
  <dc:language>en-US</dc:language>
  <cp:lastModifiedBy>Клинов</cp:lastModifiedBy>
  <dcterms:modified xsi:type="dcterms:W3CDTF">2005-10-28T06:49:54Z</dcterms:modified>
  <cp:revision>9</cp:revision>
  <dc:subject/>
  <dc:title>     СПИД –  чума XX века</dc:title>
</cp:coreProperties>
</file>