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D8CC-5FC8-4DCF-895C-7AF4CFE41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94DD-3864-4C70-9ED5-CFF86D7C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9581-E4BB-40D8-AC7B-DF5C9B0CB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3F7F-B06E-4D36-B60C-6890E88E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314C-A6A8-4520-9690-1FA31C62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74F0-42BF-43A8-A1F9-9FB598CA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AB52-A3C4-43BE-A1F3-544BC53B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7DEC-7F92-466D-BF7A-46275CE2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7436-F20B-4CC2-8DD4-04D4979E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F8E7-8185-4C28-8D9F-829578DE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CEB6-9E95-4A34-8DF5-B969189A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19E0-D031-4B57-A705-0F52F202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D6AF-8996-48B6-A865-A739ACDDCF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kipy.ru/philosophy/xp.html#smallReleases#smallReleases" TargetMode="External"/><Relationship Id="rId2" Type="http://schemas.openxmlformats.org/officeDocument/2006/relationships/hyperlink" Target="http://skipy.ru/philosophy/xp.html#codingStandards#codingStandards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минар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Модель быстрой разработки П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имущества модели быстрой разработ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5480" y="1599840"/>
            <a:ext cx="86439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ребуется меньшее количество специалистов, поскольку разработка системы выполняется усилиями команды, осведомленной в предметной обла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уществует возможность быстрого просмотра продук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лагодаря сокращенному циклу разработки и меньшему количеству разработчиков удается сократить затрат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лагодаря короткому временному циклу однократной разработки уменьшается риск несоблюдения графи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влечение заказчика на постоянной основе обеспечивает его удовлетворенность разрабатываемым продукт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состав каждого временного блока входит анализ, проектирование и внедрение, что обеспечивает надежность П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новное внимание переносится с документации на ко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модели повторно используются компоненты уже существующих програм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достатки модели быстрой разработ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Если заказчик не сможет принимать постоянного участия в разработке на протяжении всего жизненного цикла, это может негативно сказаться на конечном продукт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и использовании этой модели необходимо достаточное количество высококвалифицированных разработчиков, хорошо знакомых с используемыми инструментальными средствам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ля реализации модели требуются разработчики и заказчики, которые готовы к быстрому выполнению действи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и использовании модели не накладываются ограничения на затраты и срок выполнен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уществует риск, что работа над проектом никогда не будет завершен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ласть применения модели быстрой разработ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85480" y="1357200"/>
            <a:ext cx="8715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системах, которые поддаются моделированию и требования к которым достаточно хорошо известн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Если заказчик действительно может принимать участие в разработке на всем жизненном цикл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и выполнении сравнительно небольших проектов, разработка которых может быть закончена за 60 дне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системах, которые предназначены для концептуальной проверки, являются некритическими или имеют небольшой размер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огда затраты и выполнение графика не являются главными проблемам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системах, не требующих высокой производительност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огда команде, работающей над проектом, знакома предметная область и она имеет высокую степень мотивации при выполнении данного проект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н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0000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та стадия, на которой вы обсуждаете с заказчиком, чего он хочет. Как правило, заказчик знает это весьма смутно. Ваша задача – вытащить из него необходимую вам информац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суждение идет по принципу "от крупного к мелкому". Сначала обсуждается задача в общих чертах, потом она разбивается на подзада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гда все требования таким образом сформированы  и приоритеты расставлены производится временная оце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ценка работы при условии, что разработчик будет сконцентрирован исключительно на задаче, что его ничто не будет отвлекать, что он будет работать с максимальной продуктивностью – эта оценка называется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идеальное врем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ремя, потраченное на разработку в действительности, называется реальным. Отношение этих времен, усредненное за определенный промежуток време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какая-то функциональность вызвала затруднения в реализации и все, что запланировано, не укладывается в рамки очередного релиза – объем реализуемой функциональности необходимо снизит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езультате процесса планирования/перепланирования мы получаем четкий план работы на ближайшую версию-дв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ст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исание тестов ПЕРЕД написанием к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бая часть функциональности системы покрывается тест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написании тестов ДО функциональности мы расцениваем эту самую функциональность как черный ящи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рное программ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ва разработчика за одним компьютер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ость выбрать оптимальную последовательность написания кодов П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исание кода вдвоем означает, что код досконально знает не один человек, а д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ышается скорость работы каждого из разработч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факторинги и простой дизай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факторинг – это переработка системы для приведения в соответствие с текущими требовани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факторинг изначально не предназначен для исправления ошибок и добавления новой функциона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ило "простого дизайна" неразрывно связано с правилом "непрерывных рефакторингов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ллективное владение код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кода нет автора, его может менять любой разработчи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изменения, внесенные кем-то, сделали код неработоспособным – именно автор изменений ответственен за приведение кода в рабочее состоя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работчик не имеет права заниматься чем-либо другим до того, как исправит внесенные им ошиб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азчик в коман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сколько быстро и полно разработчик пообщается с заказчиком, зависит скорость реализации им зада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максимальной эффективности заказчик (или его представитель, владеющий информацией и обладающий правом принимать решения) должен находиться в коман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астые выпуски верс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071720"/>
            <a:ext cx="822960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ем меньше функциональности в очередном релизе – тем легче его протестироват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ем чаще выпускается версия – тем быстрее заказчик получает требуемую функциональност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терация должна занимать от недели до трех. Оптимально – дв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получилось так, что разработчики не успевают закончить в итерации все, что запланировано – необходимо сократить объем функциональности, но </a:t>
            </a: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НЕ ПЕРЕНОСИТЬ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ыпуск очередной верс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динственный случай, когда релиз может быть перенесен – когда этого требуют тестировщик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дназначение X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абота с заказчиком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Выяснение того, что в действительности нужно заказчику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Гибкая разработка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Пресловутый простой дизайн, частые</a:t>
            </a:r>
            <a:r>
              <a:rPr b="0" lang="ru-RU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пуски версий, регулярное планировани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епрерывная работоспособность кода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Постоянные интеграции кода и большое количество тестов – это все дает уверенность, что код работоспособен и работает он правильно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Упрощение поддержки кода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Рефакторинги и стандарты</a:t>
            </a:r>
            <a:r>
              <a:rPr b="0" lang="ru-RU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дирования облегчают дальнейшие изменения в коде и облегчают понимание кода всеми разработчикам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вышение скорости и качества разработки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Парное программирование, коллективное владение кодом, заказчик в команде, 40-часовая рабочая неделя– эти практики делают разработку более быстрой и качественно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0T07:33:36Z</dcterms:created>
  <dc:creator>Admin</dc:creator>
  <dc:description/>
  <dc:language>en-US</dc:language>
  <cp:lastModifiedBy>Admin</cp:lastModifiedBy>
  <dcterms:modified xsi:type="dcterms:W3CDTF">2013-04-09T06:59:23Z</dcterms:modified>
  <cp:revision>19</cp:revision>
  <dc:subject/>
  <dc:title>Семинар 8</dc:title>
</cp:coreProperties>
</file>