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6B977-1121-48CC-BBAC-EA099891E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8CC5B-D610-4E2F-B890-14F09548E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7CE4D-BD22-4DD0-9A2E-40DF323CD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B7C6A-AF42-4932-B851-611611C29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803CF-C6F5-4CCE-9407-241D81EFF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45E71-924E-41C5-BB1B-546720581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2F5A3-1856-4F39-8BE9-E824914BD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F2E65-96AF-4640-A1C1-CCE0E408A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79332-8159-4414-8A6A-C3B492A7F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177D7-028F-4F18-9019-4F5E830AF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12DE7-63A2-46C9-9DF0-96DFA2A8A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E78C2-C9E3-487F-A69C-D0FDB979A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61A6A-6F21-4A45-B8A8-11576F7E24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62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66ff"/>
                </a:solidFill>
                <a:uFillTx/>
                <a:latin typeface="Times New Roman"/>
              </a:rPr>
              <a:t>Заболеваемость внутрибольничными инфекциями </a:t>
            </a:r>
            <a:br>
              <a:rPr sz="4400"/>
            </a:br>
            <a:r>
              <a:rPr b="1" lang="ru-RU" sz="4400" spc="-1" strike="noStrike" u="sng">
                <a:solidFill>
                  <a:srgbClr val="ff66ff"/>
                </a:solidFill>
                <a:uFillTx/>
                <a:latin typeface="Times New Roman"/>
              </a:rPr>
              <a:t>в ЛПУ Смоленской области</a:t>
            </a:r>
            <a:br>
              <a:rPr sz="4400"/>
            </a:br>
            <a:br>
              <a:rPr sz="3600"/>
            </a:br>
            <a:r>
              <a:rPr b="1" i="1" lang="ru-RU" sz="3600" spc="-1" strike="noStrike" u="sng">
                <a:solidFill>
                  <a:srgbClr val="000000"/>
                </a:solidFill>
                <a:uFillTx/>
                <a:latin typeface="Times New Roman"/>
              </a:rPr>
              <a:t>Руководитель</a:t>
            </a:r>
            <a:br>
              <a:rPr sz="3600"/>
            </a:br>
            <a:r>
              <a:rPr b="1" i="1" lang="ru-RU" sz="3600" spc="-1" strike="noStrike" u="sng">
                <a:solidFill>
                  <a:srgbClr val="000000"/>
                </a:solidFill>
                <a:uFillTx/>
                <a:latin typeface="Times New Roman"/>
              </a:rPr>
              <a:t>Управления Роспотребнадзора по Смоленской области</a:t>
            </a:r>
            <a:br>
              <a:rPr sz="3600"/>
            </a:br>
            <a:r>
              <a:rPr b="1" i="1" lang="ru-RU" sz="3600" spc="-1" strike="noStrike" u="sng">
                <a:solidFill>
                  <a:srgbClr val="000000"/>
                </a:solidFill>
                <a:uFillTx/>
                <a:latin typeface="Times New Roman"/>
              </a:rPr>
              <a:t>В.Е. Крутили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протяжении 8 месяцев 2009 года в стационарах Смоленской области зарегистрировано 69 случаев внутрибольничных инфекционных заболеваний (ВБИ). В структуре ВБИ преобладали ГСИ новорожденных - 24 случая (34,8%), гнойно-септические инфекции родильниц – 14 случаев (20,3%)  и постинъекционные инфекции -14 случаев (20,3%) инфекци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а 8 месяцев 2009 года зарегистрировано 14 случаев ГСИ родильниц, (в 2008 – 2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облюдение санитарно-эпидемиологического режима в лечебно-профилактических учреждениях является основным направлением в профилактике внутрибольничных инфекци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бщее число выполненных смывов при осуществлении государственного санитарно-эпидемиологического надзора в учреждениях здравоохранения в сравнении с данными за 2007 год увеличилось в 1,9 раз. Удельный вес смывов с неудовлетворительным результатом составил 1,2 %, что в 2 раза больше, чем в 2007 году. При этом значительно увеличился удельный вес неудовлетворительных результатов в хирургических (в 8,5 раза) и родильных (в 3,6 раза) отделениях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 2008 году при осуществлении государственного санитарно-эпидемиологического надзора за стерильностью ИМН число исследованных проб увеличилось по сравнению с уровнем 2007 года в 1,2 раза и составило 4074. Удельный вес проб нестерильных ИМН увеличился в 25 раз и достиг 1,5% - максимального за последние 5 лет значения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оличество проб нестерильных ИМ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1509840" y="1038240"/>
          <a:ext cx="6745320" cy="4910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09840" y="1038240"/>
                    <a:ext cx="6745320" cy="491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результате проведения мероприятий по контролю специалистами Управления Роспотребнадзора по Смоленской области выявлены нарушения требований санитарного законодательства: СанПиН 2.1.3.1375-03 «Гигиенические требования к размещению, устройству, оборудованию и эксплуатации больниц, родильных домов и других лечебных стационаров», СП 3.1./3.2. 1379-03 «Общие требования по профилактике инфекционных и паразитарных болезней», СП 3.5.1378-03 «Санитарно-эпидемиологические требования к организации и осуществлению дезинфекционной деятельности», СП 3.1.958-00 «Профилактика вирусных гепатитов. Общие требования к эпидемиологическому надзору за вирусными гепатитами»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атериальная база ЛПУ Смоленской обла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1082520" y="1890720"/>
          <a:ext cx="7608960" cy="460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2520" y="1890720"/>
                    <a:ext cx="7608960" cy="460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  территории Рославльского района в ММУ «Рославльская ЦРБ» в 2008 году зарегистрирован 1 случай ГСИ родильницы (мастит), за 8 месяцев 2009 года – 1 случай ГСИ новорожденного (пиодермия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837720"/>
            <a:ext cx="8229600" cy="52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 плановом мероприятии по контролю в ММУ «Рославльская ЦРБ» (акушерское отделение) в 2008 году выявлены следующие нарушения санитарного законодательств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обеспечено ежегодное проведение косметического ремонта в учреждении, имеет место нарушение целостности покрытия стен, полов в операционной, родовых залах, процедурном и прививочном кабинетах, палатах и коридор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ребуется замена мебел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мывальники не оснащены локтевыми смесителями и дозаторами с моющими средствами и антисептиками для обработки рук мед. персонал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мело место нарушение требований при обращении с медицинскими отходами класса 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решённой проблемой в организации работы по профилактике ВБИ является низкая достоверность выявления и учёта этих заболеваний. В целях решения этой задачи в 2009 году запланирована надзорная, организационно-методическая, а также информационно-аналитическая деятельность Управления Роспотребнадзора по Смоленской обла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нижение риска внутрибольничного инфицирования требует также осуществления органами исполнительной власти и местного самоуправления, учреждениями здравоохранения таких мероприятий, как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ыполнение требований санитарного законодательства при проведении лечебно-диагностических манипуляци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беспечение профессиональной гигиенической подготовки персонала учреждений здравоохранения и гигиенического обучения гражда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ерспективное планирование строительства ЛПУ, отвечающих современным требования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 Российской Федерации основной удельный вес в структуре ВБИ в родовспомогательных учреждениях приходится на гнойно-септические инфекции (ГСИ) – 94 % (2007 г. – 91,0 %). В 2008 г. число зарегистрированных гнойно-септических инфекций (ГСИ) среди новорождённых в лечебно-профилактических учреждениях РФ снизилось по сравнению с 2007 году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 0,7 %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ПАСИБО ЗА ВНИМАНИЕ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казатель заболеваемости ГСИ новорождённых в 2008 г. составил – 2,79 на 1 000 родившихся живыми (в Смоленской области тот же показатель составил 3,34 на 1000 новорожденных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еличина показателя заболеваемости гнойно-септическими инфекциями  родильниц в ЛПУ Смоленской области – 0,1 на 1000 родов, для сравнения: заболеваемость ГСИ родильниц в лечебно-профилактических учреждениях РФ составил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83 на 1 000 род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304560" y="762120"/>
            <a:ext cx="838188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 протяжении 2008 года в стационарах Смоленской области зарегистрировано 76 случаев внутрибольничных инфекционных заболеваний (ВБИ), что в 1,3 раза меньше, чем в 2007 году. Величина показателя заболеваемости ВБИ стационарных больных на 1000 пролеченных в стационарах составила 0,24; уровень заболеваемости гнойно-септическими инфекциями (далее – ГСИ) родильниц – 0,1 на 1000 родов; величина заболеваемости послеоперационными инфекциями – 0,1 на 1000 операц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51920" y="228240"/>
            <a:ext cx="853452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3" marL="1600200" indent="0" algn="ctr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труктура ВБИ в Смоленской области в 2008 год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762120" y="685800"/>
          <a:ext cx="7554960" cy="586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685800"/>
                    <a:ext cx="7554960" cy="58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труктура ГСИ новорожденных в 2008 год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682560" y="1219320"/>
          <a:ext cx="8083440" cy="502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2560" y="1219320"/>
                    <a:ext cx="8083440" cy="502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609120"/>
            <a:ext cx="822960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 2008 году среди новорожденных зарегистрировано 105 случаев внутриутробных инфекций (далее – ВУИ). Соотношение ГСИ новорождённых: ВУИ в среднем по области составило 1:3,2; Наиболее неблагоприятное соотношение указанных нозологических форм имело место на территор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. Смоленска – 1:9,2., что является неблагополучным показателем, учитывая отсутствие дифференциально-диагностических критериев внутриутробных и внутрибольничных инфекций новорожденны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2009 году среди новорожденных зарегистрировано 96 случаев внутриутробных инфекц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2162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отношение ГСИ новорождённых:ВУ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1676520" y="2971800"/>
          <a:ext cx="5591160" cy="253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2971800"/>
                    <a:ext cx="5591160" cy="253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Судакова</cp:lastModifiedBy>
  <dcterms:modified xsi:type="dcterms:W3CDTF">2009-09-22T11:03:33Z</dcterms:modified>
  <cp:revision>5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