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wmf" ContentType="image/x-wmf"/>
  <Override PartName="/ppt/media/image9.png" ContentType="image/png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D8F9-EE11-4F65-AC7E-F89CFC27E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1352-135D-4328-9E9A-D1A3C027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3B1F-8B20-4375-957C-1BD807A70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0D1D-ECB9-4AE2-81CD-37E10C333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B37C-0283-47CC-95BA-5EA0182D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B530-CA22-4814-9FE8-7EB3855E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A08A-38CD-4FF5-89E5-DBF5AE26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F3FB-B908-4E8D-B320-3DA8C0A5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1FC5-71A1-44AB-A114-9A8C47DD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DABA-A03C-4AC2-ACD5-9343A14C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1F7D-6B15-48C5-9311-36A25596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3B12-541C-4868-99A7-E1C3E039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2A69-4679-4FCC-B083-B9623C6F14CB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Еталонна модель відкритих систем (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OSI</a:t>
            </a:r>
            <a:r>
              <a:rPr b="0" i="1" lang="uk-UA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Reference model)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22856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Тематика лекції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агаторівневий підхід, декомпозиці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токол, інтерфейс, стек протокол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гальні поняття про модел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I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івні моделі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оняття протокольної одиниці даних, інкапсуляц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228600" y="182880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09B8-9289-4FDF-8AA3-9CA57E9CD32B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Модель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SI. 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Деталізація нижніх рівн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609624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7395-E514-49B9-9844-51200D8539F5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Розподіл мережних пристроїв серед рівнів моделі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SI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4"/>
          <p:cNvGraphicFramePr/>
          <p:nvPr/>
        </p:nvGraphicFramePr>
        <p:xfrm>
          <a:off x="990720" y="2362320"/>
          <a:ext cx="6248160" cy="32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362320"/>
                    <a:ext cx="6248160" cy="32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67A9-FF72-4238-9020-C06E627C204F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3399"/>
                </a:solidFill>
                <a:latin typeface="Arial"/>
              </a:rPr>
              <a:t>Протоколи в моделі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OS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754380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4551-F06A-4FE0-A49C-AD81F6959250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3399"/>
                </a:solidFill>
                <a:latin typeface="Arial"/>
              </a:rPr>
              <a:t>Ієрархічна мережна модель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isco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0" y="22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4"/>
          <p:cNvGraphicFramePr/>
          <p:nvPr/>
        </p:nvGraphicFramePr>
        <p:xfrm>
          <a:off x="533520" y="1905120"/>
          <a:ext cx="8153280" cy="39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05120"/>
                    <a:ext cx="8153280" cy="39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1E91-8C3D-4398-A85C-2CF0A0385DA9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Arial"/>
              </a:rPr>
              <a:t>Архітектура складеної мереж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4976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A5AC-87AA-43B7-AE6F-42E0D4FF6606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3399"/>
                </a:solidFill>
                <a:latin typeface="Arial"/>
              </a:rPr>
              <a:t>Декомпозиці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4"/>
          <p:cNvGraphicFramePr/>
          <p:nvPr/>
        </p:nvGraphicFramePr>
        <p:xfrm>
          <a:off x="457200" y="1752480"/>
          <a:ext cx="8305920" cy="371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830592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05D0-38D4-4851-A96B-6BBD1B9789FA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Взаємодія двох вузлів мережі за схемою багаторівневої декомпозиції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4"/>
          <p:cNvGraphicFramePr/>
          <p:nvPr/>
        </p:nvGraphicFramePr>
        <p:xfrm>
          <a:off x="380880" y="1828800"/>
          <a:ext cx="8458200" cy="36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845820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CAAF-3ED3-4A8C-8522-FF857E48FC21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Еталонна модель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I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5"/>
          <p:cNvGraphicFramePr/>
          <p:nvPr/>
        </p:nvGraphicFramePr>
        <p:xfrm>
          <a:off x="990720" y="1828800"/>
          <a:ext cx="7010280" cy="44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28800"/>
                    <a:ext cx="7010280" cy="44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7C97-29E7-438B-B7D0-7861D2C67122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Розподіл функцій за рівнями моделі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56181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07A1-30B0-4175-BA2E-9D58E148B3DA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3399"/>
                </a:solidFill>
                <a:latin typeface="Arial"/>
              </a:rPr>
              <a:t>Формування протокольних одиниць даних (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DU</a:t>
            </a:r>
            <a:r>
              <a:rPr b="0" lang="uk-UA" sz="4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2190600" y="1905120"/>
            <a:ext cx="4515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9C28-46E2-47B0-9037-95C6D6B1CB71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3399"/>
                </a:solidFill>
                <a:latin typeface="Arial"/>
              </a:rPr>
              <a:t>Передача даних за моделлю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OS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815328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5492-F603-455A-BEC2-D2C3DC1D4428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Arial"/>
              </a:rPr>
              <a:t>Процес інкапсуляції даних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4"/>
          <p:cNvGraphicFramePr/>
          <p:nvPr/>
        </p:nvGraphicFramePr>
        <p:xfrm>
          <a:off x="152280" y="2438280"/>
          <a:ext cx="8839440" cy="26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438280"/>
                    <a:ext cx="883944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XX</cp:lastModifiedBy>
  <dcterms:modified xsi:type="dcterms:W3CDTF">2014-03-04T16:13:54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