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E71-18D2-4B86-ACC9-21C27C3A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F77-DF94-411C-B4A6-A76FDA4D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A5D-3EB5-491C-99A6-4ED9BB02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691-C09B-48EF-B5D2-55365F03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6383-AE3E-45B4-8121-363C1525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D64F-BF7C-4990-B353-DA5ACCF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0876-ABD3-495D-8487-D63B7268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5C9C-9430-447E-BD75-BD809774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99D6-F3F6-449F-9CEC-33134D36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42F3-68A4-4495-8AA2-79F2FD0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6E90-2F2A-40D7-BF17-48D080D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7AD-97AA-42CB-9367-D154353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41CD-91B5-4622-80FB-FAAF8813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238-43A6-4DEF-A992-F3D29FC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B3D-394D-495B-8FA0-AC3FFC0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962-437B-4814-92F0-D91679F2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00E6-0F23-442E-ADB6-CC5BC685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8819-7E08-468D-868D-73C4AC09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D0BD-C513-43D5-BA08-A39EB80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77AF-6F2E-4BD0-B830-4F933E35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353A-1812-4BF6-BC2B-5C2D9B36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1FA4-89C3-459C-929B-C67AE0B8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792-64AE-45F3-B609-0F1A6A6B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4627-80C6-435E-A075-EC0B2C7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6108-DC3C-4EBA-BA0F-49EF59F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3C17-A064-4995-A7BD-E559B13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3AF6-B925-4AAA-8FB9-42861E0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3F56-7365-47B9-8600-E7D747F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BBC8-FCB9-47A9-B223-D8183C35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B490-27D7-41A9-B044-0AF9A881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DB51-C5EC-40CF-A712-215792CA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28B4-DB22-4E54-8F32-1EB756EB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8040-AEFD-462F-8E5C-5F26E6B9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18C-10C4-4F2D-BD9B-797F3B1A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A429-6464-4AAB-8DF2-912743E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70464-B06F-4CEF-B341-7B32EE1A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6045-8BF6-43D2-920A-A121B0F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B4422-0ABC-4A0D-841E-603FC9B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3307-8E42-4088-ADC0-C112573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962F-C0CA-465A-84C0-89B4D8B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67BF-3653-4284-B279-6AC99A58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1729-2077-486A-B178-0500D3B2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8BAF-FBDD-404A-BC27-197FABA5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47D3-723E-42A5-834D-F1C089B9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6A4-B9D1-4F7B-89EC-F28E2010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C09B-E1F4-42E1-9865-E24A5AB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9071-E02F-4365-85F1-0DC0130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2DA2-C6FB-40DB-B16B-D639DC1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2D6F-C448-4329-808B-A33B33F0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4A5BB-F9C5-4355-A180-FCAB1A6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4E30-A4D4-4BF0-BFD6-3C33F8E3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2704-56E9-4013-8641-BF18027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2FDD-02BC-48EA-899C-1D61D1F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0CB8-6B3B-4594-92BD-0F75F8A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66A2-3C34-43D4-AE7E-88AAF105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216-18A4-4D89-A244-BEC2567A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7FB8-2BA6-4F7A-A52A-F8902CAA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D6AE-045E-472B-A975-1E91F462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F8E9-73E1-426B-B09A-8C7AD864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965E-C764-4306-8B9F-0863EA2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FD03-9F92-476B-A761-CF66451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49280-4918-48E1-A4BE-329A92C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3482-97C1-4960-B9B2-A3CB920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D894-9C96-4403-A951-8B94AD71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DD15-54D9-4587-A971-029E852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5E8E-D665-4AAC-8A85-F30AECB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5CE-3396-4E20-B312-3DD42C6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33F4-CBEF-4D25-8136-C47C1F54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C183-874A-43F4-94C3-D8B6B03A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88AF-FB6E-434B-8659-44234C8F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02F86-A892-430B-B207-75A8EAA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DA96-07AB-4B98-9F82-7D4152C3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8415-D17E-4E8F-B8C6-6164AAE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DC16-6161-4589-AC54-5CEC6EC4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AD5F-1AC6-4620-A962-FAE3B2D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A644-F59F-43C8-9B1F-43E0FAB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A1946-728F-4179-A87D-1DFDA1B7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F8C-74DC-4FC5-ACDD-BAE3DC0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D647B-A5A8-497A-ACB8-9034C6A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1205-CE09-4AEC-8E3E-947E35D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C998-A0D1-45C1-955C-5548BFE0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004C-F590-46E4-841E-478B6F27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88AD-4199-443C-B2D6-ECA3076F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072-2F30-4519-A962-1722274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513-C121-4BC9-8AB1-F00CEE851BCA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090-2A59-484C-AF1D-FD92394A1387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c9e1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c9e1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B5E-6C03-47F2-8E34-D6DF0C414FCF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0E20-47B4-41CB-8CB0-95029E6A7196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B96-1CF6-4A46-8188-51AE17E08292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271-96E1-4F24-9DA2-B56A932957C0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77289"/>
              </a:gs>
              <a:gs pos="100000">
                <a:srgbClr val="b2c1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c9e1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c9e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e97a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21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155-0092-4ECB-BB88-13398D07896C}" type="slidenum">
              <a:rPr b="0" lang="ru-RU" sz="1000" spc="-1" strike="noStrike">
                <a:solidFill>
                  <a:srgbClr val="1f212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ndara"/>
              </a:rPr>
              <a:t>ОСНОВЫ ТЕХНИЧЕСКОГО НОРМИР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40880" y="458280"/>
            <a:ext cx="7704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Затраты рабочего времени рабочих делятся на две основные группы: 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нормируемы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ненормируемы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(рис. 2.3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нормируемым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относятся затраты рабочего времени, необходимые для выполнения задания и учитываемые при определении норм затрат груда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ормируемые затраты рабочего времени слагаются из времени, расхо­дуемого на работу по заданию (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pi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), и времени на регламентированные пе­рерывы (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„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  <p:pic>
        <p:nvPicPr>
          <p:cNvPr id="354" name="Рисунок 4" descr="24.jpeg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2492280"/>
            <a:ext cx="640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31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Время работы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andara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.,) подразделяется на время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оперативной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(основной и вспомогательной) работы (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andara"/>
              </a:rPr>
              <a:t>op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) и время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подготовительно-заключительной работы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andara"/>
              </a:rPr>
              <a:t>n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, 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Под временем работы по заданию понимается время, в течение которого рабочий затрачивает свой труд на непосредственное выполнение по­лученного задания в соответствии с правильной технологией и при качестве продукци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Время оперативной работы -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время, затрачиваемое рабочим на непо­средственное выполнение строительной продукци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 вспомогательной работе относятся вспомогательные операции, опе­рации по текущему уходу за инструментами, машинами и рабочим местом 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ndara"/>
              </a:rPr>
              <a:t>(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процессе выполнения задания (правка, точка и мелкий ремонт инструментов, смазка машины, перестановка стремянки, текущее изменение рабочего места и т.п.)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спомогательная работа направлена на создание условий, необходимых для выполнения основных операций, но такая работа не дает непосред­ственного приращения объема производимой продукци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Время подготовительно-заключительной работы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расходуется на подготовку рабочего места, орудий и предметов труда к выполнению задания, на  приведение в порядок рабочего места после окончания работы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Часть затрат времени на подготовительно-заключительную работ) расходуется в начале и конце каждой смены, другая часть затрат находится в зависимости от характера выполняемого задания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соответствии с этим время подготовительно-заключительной работ м подразделяется на две группы -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затраты времени на смену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затраты времени на задание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Затраты времени использования машины делятся на две основные группы: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нормируемы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ненормируемы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(рис. 2.4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  <p:pic>
        <p:nvPicPr>
          <p:cNvPr id="357" name="Рисунок 4" descr="25.jpeg"/>
          <p:cNvPicPr/>
          <p:nvPr/>
        </p:nvPicPr>
        <p:blipFill>
          <a:blip r:embed="rId1">
            <a:grayscl/>
          </a:blip>
          <a:stretch/>
        </p:blipFill>
        <p:spPr>
          <a:xfrm>
            <a:off x="1908000" y="2205000"/>
            <a:ext cx="4783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2.5. Потери рабочего времен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Различают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целосменные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внутрисменные потери рабочего времени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ывают следующие виды целосменных потерь рабочего времени: про­стои целосменные; целосменные прогулы; неявки, связанные с нарушением общественного порядка; отпуска без сохранения содержания; очередные отпуска; неявки в связи с выполнением государственных и общественных обязанностей; временная нетрудоспособность; отгулы за работу в празд­ничные и выходные дни; служебные командировки; выполнение служеб­ных поручений вне места основной работы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еличина целосменных потерь устанавливается на основе табеля учета рабочего времени, листов (актов) о простоях, приказов и распоряжений о предоставлении отпусков, больничных листков (бюллетеней), журналов ведения работ, приказов, распоряжений и справок об освобождении от ра­боты в связи с выполнением государственных и общественных обязанно­стей, уходом за больными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з общего количества целосменных потерь выделяются допустимые неявки (т.е. исключаются прогулы и другие потери из-за недостатков в ор­ганизации работ или нарушения трудовой дисциплины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нутрисменные потери рабочего времени были рассмотрены выше в п. 2.4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31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собой группой потерь рабочего времени являются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скрытые потери,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ичинами возникновения которых могут быть: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) неправильная организация труда и производства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) низкое качество материалов, деталей, конструкций и выполненных работ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) дефекты технической документации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) нарушения производственной дисциплины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аждая из перечисленных групп потерь подразделяется на ряд разно­видностей в зависимости от причин, вызывающих потери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состав первой группы включаются следующие скрытые потери: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а) неправильное расположение и складирование материалов, деталей и конструкций, что вызывает длительные транспортные и погрузо-разгрузочные операции, например, при размещении материалов и конст­рукций вне зоны действия крана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) нарушение установленной проектом производства работ техноло­гической последовательности выполнения строительных работ, что может вызвать разборку законченных конструкций, пробивку отверстий и др.; на­пример, преждевременная настилка чистых полов до окончания штукатур­ных работ влечет за собой необходимость их сплошной острожки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) применение неэффективных методов производства работ (напри­мер, использование ручного труда на операциях, которые могут быть меха­низированы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 вторую группу включаются скрытые потери, вызываемые: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а) применением материалов и деталей, не соответствующих требова­ниям проекта, что может вызвать дополнительные работы на доводку мате­риалов и конструкций до проектных размеров и качества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) применением материалов, деталей и конструкций низкого качества, например сборных железобетонных плит с раковинами, что также требует дополнительных затрат труда на исправление дефектов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) низким качеством предшествующих работ; например, искривление рядов кладки кирпичных стен или перегородок вызывает утолщение штукатурного наме­та, на что потребуется дополнительная работа; перестановка конструкций, смонти­рованных по ошибочным проектным отметкам, и др. также вызывают дополни­тельные затраты времени, которые относятся к скрытым потерям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четвертую группу включаются потери, происходящие по вине рабо-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ndara"/>
              </a:rPr>
              <a:t>!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чих. К ним относятся: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а) повреждение продукции другими рабочими или повреждение кон­струкций при их транспортировании, вызывающие необходимость повтор­ного остекления, вторичной окраски и др.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) переделка брака, допущенного по вине рабочего: перестилка пар­кетного пола, дополнительная шпаклевка стен и другие скрытые потери, вызванные дополнительными работами по исправлению дефектов не по вине рабочего. 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868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2.6. Строительные рабочие, их профессии и квалификации. Тарифно-квалификационный справочник. Тарификация рабочих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931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рофессии строительных рабочих определяются видом и характером выполняемых работ; так, рабочие-бетонщики выполняют бетонные работы, рабочие-монтажники - монтажные и т.д. Для выполнения нескольких видов строительных работ рабочие овладевают смежными профессиями. Квали­фикация рабочего определяется знанием и умением выполнять процессы и операции различной сложности и трудности, т.е. характеризует степень его мастерства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 строительстве действует «Тарифно-квалификационный справочник работ и профессий рабочих, занятых в строительстве и на ремонтно-строительных работах» (ТКС), увязанный с «Единым тарифно-квалификационным справочником работ и профессий рабочих ...» (ЕТКС). 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ТКС содержит три части: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lvl="1" marL="434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- Основные профессии рабочих, занятых на строительных, монтаж­ных, ремонтно-строительных работах и в подсобных производствах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lvl="1" marL="434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- Основные профессии рабочих, занятых на горнокапитальных работах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lvl="1" marL="434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- Профессии рабочих, занятых на строительных, монтажных, горнокапитальных, ремонтно-строительных работах и в подсобных производст­вах, тарификация которых производится в соответствии с квалификацион­ными характеристиками, предусмотренными для аналогичных работ в про­мышленности, на транспорте и в связи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79311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 строительстве в основном применяется коллективный труд при вы­полнении производственных процессов. В этой связи можно выделить сле­дующие формы организации труда строительных рабочих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Звено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состоит из группы рабочих (одной или нескольких профессий), наименьшая численность которой обусловливается рациональной органи­зацией труда при выполнении определенного строительного процесса. Зве­нья подбираются с таким расчетом, что рабочие высокой квалификации выполняют более сложные операции, а менее сложные поручаются рабо­чим более низкой квалификации. Например, монтажник конструкций 5-го разряда, возглавляя монтажное звено, монтирует конструкции здания из крупногабаритных элементов, а простые операции при монтаже, например зачистка стыков собираемых конструкций, заливка швов и т.п., поручаются монтажнику конструкций 3-го разряда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Наибольший производственный и экономический эффект достигается в том случае, если звенья рабочих, организованные по принципу расчлене­ния операций строительного процесса, объединяются в бригады для выпол­нения отдельных видов работ, например для монтажа сборных фундамен­тов или кладки стен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пециализированная бригада создается из рабочих одной профессии, выполняющих работы одного вида, например бетонные, каменные или плот­ничные. В специализированную бригаду обычно включается до 25 рабочих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Комплексная бригада объединяет рабочих различных профессий и специальностей, занятых выполнением одновременно протекающих основ­ных и вспомогательных процессов, находящихся в непосредственной орга­низационной зависимости и связанных единством конечной продукции. В комплексную бригаду обычно включается не более 50 рабочих разных про­фессий и специальностей. Бригадир комплексной бригады назначается из числа наиболее квалифицированных рабочих ведущей специальности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Бригада конечной продукции организуется для возведения отдельных конструктивных элементов (фундаменты, стены, перекрытия и т.д.) или здания (сооружения) в целом. Таким бригадам, как правило, выдаются ак­кордные наряды на весь объем выполняемых работ. Конечной продукцией является законченное здание, сооружение или его часть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сновной объем строительных работ в нашей стране выполняется подрядным способом, при котором строительство осуществляется в резуль­тате кооперирования работы ряда общестроительных и специализирован­ных (по типам сооружений пли по видам работ) строительно-монтажных организаций. Существующий еще в настоящее время хозяйственный способ состоит в том, что строительно-монтажные работы выполняются силами строительной организации, создаваемой на период строительства на пред­приятии (заводе, комбинате) и подчиненной дирекции предприятия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868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2.7. Норма затрат труда, времени, выработки, производительности. Нормаль строительного процес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931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Главной целью технического (производственного) нормирования яв­ляется обеспечение роста производительности труда на основе исследова­ния передовых методов труда, улучшения использования рабочего времени и средств механизации, а также внедрения в строительство технически обоснованных норм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 число задач технического (производственного) нормирования входят установление правильных, технически обоснованных норм затрат труда на единицу продукции и правильной оплаты труда рабочих в полном соответ­ствии с результатами труда, а также норм использования машин и норм расхода материалов на единицу измерения строительной продукции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Техническое нормирование труда в строительстве обеспечивает тща­тельный анализ производственных возможностей организации строитель­ных процессов, проектирование правильной организации рабочего места, наиболее рациональный режим работы строительных машин и другого обо­рудования и правильной организации труда рабочих, отражающей передо­вые методы работы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337680"/>
            <a:ext cx="7786800" cy="14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2.1. Строительный процесс и его составные элемент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троительное производство охватывает целый спектр работ: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земляные (экскавация грунта, разработка грунта методами гидроме­ханизации и др.)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железобетонные (монтаж сборных железобетонных конструкций и др.)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каменные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монтаж стен из крупных блоков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монтаж внутренних санитарно-технических устройств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монтаж внешних водопроводных, канализационных, газопроводных и тепловых сетей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монтаж технологических трубопроводов и арматуры;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 монтаж технологического оборудования и т.д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3116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дним из основных производственных показателей, характеризующих производительность труда, является величина затрат груда на единицу про­дукции (на монтаж одной железобетонной конструкции, на монтаж одного крупного блока наружных стен, на 1 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пола и т.п.)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Затраты труда на единицу продукции не являются на производстве постоянной, а изменяются в очень значительных пределах -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зависимости от труда и производства, методов работы и пр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Для характеристики количества затрачиваемого труда применяется ряд показателей: норма времени, норма затрат труда, норма машинного време­ни. норма выработки, норма производительности машин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С точки зрения теории технического нормирования необходимо различать нормы времени, измеряемые в единицах времени (час, минута, сме­на), и нормы затрат труда, измеряемые в единицах трудоемкости (человеко-час, человеко-минута, человеко-смена)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Нормы времени рабочих и нормы затрат труда на соответствующие процессы связаны между собой следующими зависимостями: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Где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ndara"/>
              </a:rPr>
              <a:t>вр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- норма времени звена;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Н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ndara"/>
              </a:rPr>
              <a:t>з.т.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норма затрат труда;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п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ndara"/>
              </a:rPr>
              <a:t>зв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- количество рабочих в звене (бригаде), выполняющих строительно-монтажный процесс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  <p:pic>
        <p:nvPicPr>
          <p:cNvPr id="369" name="Рисунок 4" descr="28.jpeg"/>
          <p:cNvPicPr/>
          <p:nvPr/>
        </p:nvPicPr>
        <p:blipFill>
          <a:blip r:embed="rId1">
            <a:grayscl/>
          </a:blip>
          <a:stretch/>
        </p:blipFill>
        <p:spPr>
          <a:xfrm>
            <a:off x="2771640" y="4508640"/>
            <a:ext cx="366876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Для одного рабочего Н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Candara"/>
              </a:rPr>
              <a:t>вр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соответствует </a:t>
            </a:r>
            <a:r>
              <a:rPr b="0" lang="en-US" sz="15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Candara"/>
              </a:rPr>
              <a:t>з.т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Таким образом, норма времени является нормой текущего времени и должна отражать установленную продолжительность выполнения строи­тельно-монтажного процесса во времени (час/единица измерения продук­ции), а норма затрат труда - установленную трудоемкость или количество расходуемого труда (чел.-час/единица измерения продукции)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Нормой выработки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называется количество продукции, которое дол­жен выработать рабочий в единицу времени (час, день)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Следует различать нормы выработки одного рабочего и нормы выра­ботки бригады или звена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Норма выработки бригады (звена) выражает количество продукции, которое должно быть выработано в единицу времени всей бригадой или звеном рабочих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Нормой машинного времени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называется количество времени использо­вания машины, установленного при определенных организационно- технических условиях на выполнение единицы машинной продукции или одной производственной операции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Нормы машинного времени выражаются в машино-часах (маш-ч) или в машино-сменах (маш-см)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Норма машинного времени, выраженная в маш-ч, в отличие от нормы времени, выраженной в чел.-час, всегда равна календарному времени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Нормой производительности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машины называется количество продук­ции, которое должно быть выполнено машиной за единицу времени в усло­виях правильной организации производства и труда рабочих, занятых на управлении ею и на её обслуживании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Каждая норма времени (или группа норм) должна сопровождаться </a:t>
            </a: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нормалью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процесса, т.е. описанием наиболее благоприятных организацион­но-технических и других условий, которые должны обеспечить правильное применение норм и способствовать их быстрейшему освоению и перевы­полнению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Для удовлетворения этих требований описание условий должно состоять из: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а)пояснений к соответствующему строительному процессу (продук­ция, технические условия на производство и приемку работ, характеристика материалов и орудий труда, состав работы и т. д.);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б)указаний по производству работ, отражающих передовые методы выполнения работ, организации рабочего места, создания нормальных пси­хофизиологических и санитарно-гигиенических условий труда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Производственные нормы в зависимости от характера и сложности строительного процесса или конструкции, к которой они относятся, подраз­деляются на две основные разновидности: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а)элементные нормы;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б)укрупненные нормы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Элементными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называются нормы для отдельных рабочих операций и даже для рабочих приемов. Элементные нормы непосредственно на произ­водстве применяются редко и служат обычно исходным нормативным ма­териалом для проектирования укрупненных норм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ndara"/>
              </a:rPr>
              <a:t>Укрупненные нормы</a:t>
            </a: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 устанавливаются для рабочих процессов и комплекс­ных строительных процессов на соответствующие измерители продукции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Производственные нормы в зависимости от масштаба их применения имеют следующие наименования: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а)единые нормы и расценки на строительные и монтажные работы;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б)ведомственные нормы и расценки;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в)территориальные нормы и расценки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ndara"/>
              </a:rPr>
              <a:t>Нормы выработки обратно пропорциональны нормам затрат труда: чем больше норма затрат труда на принятый измеритель продукции, тем меньше норма выработки, и наоборот.</a:t>
            </a: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31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Нормы выработки связаны с нормами времени и нормами затрат труда следующими зависимостями: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где: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Н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ыр- норма выработки одного рабочего;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t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ndara"/>
              </a:rPr>
              <a:t>см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- продолжительность ра­бочей смены в час.;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Candara"/>
              </a:rPr>
              <a:t>вл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- норма выработки звена;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H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ndara"/>
              </a:rPr>
              <a:t>вр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H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ndara"/>
              </a:rPr>
              <a:t>вр.л.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H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ndara"/>
              </a:rPr>
              <a:t>з.т.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- согласно обозначениям, приведенным выше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Нормы выработки обычно выражаются в единицах измерения, соответ­ствующих принятому для работы измерителю, независимо от его величины.</a:t>
            </a: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2123"/>
              </a:solidFill>
              <a:latin typeface="Candara"/>
            </a:endParaRPr>
          </a:p>
        </p:txBody>
      </p:sp>
      <p:pic>
        <p:nvPicPr>
          <p:cNvPr id="373" name="Рисунок 4" descr="28.jpeg"/>
          <p:cNvPicPr/>
          <p:nvPr/>
        </p:nvPicPr>
        <p:blipFill>
          <a:blip r:embed="rId1">
            <a:grayscl/>
          </a:blip>
          <a:stretch/>
        </p:blipFill>
        <p:spPr>
          <a:xfrm>
            <a:off x="2556000" y="1628640"/>
            <a:ext cx="4032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Вторая часть окончена!</a:t>
            </a:r>
            <a:endParaRPr b="0" lang="en-US" sz="40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7931160" cy="6121440"/>
          </a:xfrm>
          <a:prstGeom prst="rect">
            <a:avLst/>
          </a:prstGeom>
          <a:noFill/>
          <a:ln w="9360">
            <a:solidFill>
              <a:srgbClr val="7e97ad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се процессы по ремонту или сооружению конструктивных элементов или их частей, выполняемые в пределах строительных площадок, называ­ю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ndara"/>
              </a:rPr>
              <a:t>строительными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процессе труда рабочие движения осуществляются в определенном порядке, обеспечивающем необходимое технологическое содержание тру­дового процесса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омплекс технологически связанных рабочих движений при выполнении отдельных элементов трудового процесса образуют рабочий (трудовой) прием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ля выполнения одного и того же строительного процесса могут ис­пользоваться различные трудовые приемы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4103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вокупность трудовых приемов, обеспечивающих получение пер­вичной продукции, образует рабочую операцию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Рабочая операция является главной составной частью строительного процесса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Рабоч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- это организационно обособленный трудовой про­цесс, выполнение которого позволяет получить определенный результат, поддающийся точному измерению и учету. Рабочая операция - организаци­онно неделимый процесс, выполняемый неизменным составом исполнителей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вокупность технологически связанных рабочих операций, выпол­няемых рабочими постоянного состава, составляют рабочий процесс (рис. 2.1.)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  <p:pic>
        <p:nvPicPr>
          <p:cNvPr id="340" name="Рисунок 4" descr="image4"/>
          <p:cNvPicPr/>
          <p:nvPr/>
        </p:nvPicPr>
        <p:blipFill>
          <a:blip r:embed="rId1">
            <a:grayscl/>
          </a:blip>
          <a:stretch/>
        </p:blipFill>
        <p:spPr>
          <a:xfrm>
            <a:off x="5148360" y="620640"/>
            <a:ext cx="374472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032440" y="6021360"/>
          <a:ext cx="3976560" cy="426960"/>
        </p:xfrm>
        <a:graphic>
          <a:graphicData uri="http://schemas.openxmlformats.org/drawingml/2006/table">
            <a:tbl>
              <a:tblPr/>
              <a:tblGrid>
                <a:gridCol w="397656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ис. 2.1. Классификация элем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боче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</a:tbl>
          </a:graphicData>
        </a:graphic>
      </p:graphicFrame>
      <p:sp>
        <p:nvSpPr>
          <p:cNvPr id="342" name="Rectangle 1"/>
          <p:cNvSpPr/>
          <p:nvPr/>
        </p:nvSpPr>
        <p:spPr>
          <a:xfrm>
            <a:off x="5353200" y="397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337680"/>
            <a:ext cx="7786800" cy="14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2.2. Классификация производственных процессов в строительств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311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составе производственных процессов следует различать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строитель­ные процессы,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т.е. процессы непосредственного возведения (разборки) эле­ментов конструкций или выполнения отдельных видов работ, и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обслужи­вающие процессы -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работы по организации рабочего места и созданию нормальных условий труда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Характер строительного процесса определяется видом строительной продукции, материалов, деталей, конструкций и способом его выполнения. Вид выполняемого строительного процесса определяет профессию рабочего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зависимости от вида строительной продукции и расходуемых на ее изготовление материалов и деталей различают следующие производствен­ные процессы (рис. 2.2):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1)монтажные;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2)кладочные;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3)отделочные;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4)транспортные;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5)обслуживающие и др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Монтажный процесс - сборочный процесс, его продукция получается пу­тем сборки отдельных готовых деталей и конструкций без изменения их формы и свойств. В настоящее время выделяют две разновидности монтажных процес­сов: 1) из отдельных деталей и узлов; 2) из крупных объемных элементов. При выполнении монтажных процессов расходуются некоторые строительные мате­риалы для соединения собираемых частей в единую конструкцию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3960720" cy="589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Рис. 2.2.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 Схема классификации строительно-монтажных процессов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В процессах с</a:t>
            </a:r>
            <a:r>
              <a:rPr b="0" i="1" lang="ru-RU" sz="1400" spc="-1" strike="noStrike">
                <a:solidFill>
                  <a:srgbClr val="000000"/>
                </a:solidFill>
                <a:latin typeface="Candara"/>
              </a:rPr>
              <a:t> частичной механизацией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одна часть рабочих операций выполняется машиной, другая - вручную или с применением ручного тру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400" spc="-1" strike="noStrike">
                <a:solidFill>
                  <a:srgbClr val="000000"/>
                </a:solidFill>
                <a:latin typeface="Candara"/>
              </a:rPr>
              <a:t> процессам, выполняемым вручную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, относятся все рабочие операции, выполняемые вручну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По способу выполнения всего комплекса рабочих операций рабочие процессы подразделяются на</a:t>
            </a:r>
            <a:r>
              <a:rPr b="0" i="1" lang="ru-RU" sz="1400" spc="-1" strike="noStrike">
                <a:solidFill>
                  <a:srgbClr val="000000"/>
                </a:solidFill>
                <a:latin typeface="Candara"/>
              </a:rPr>
              <a:t> цикличные, непрерывные и нецикличны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400" spc="-1" strike="noStrike">
                <a:solidFill>
                  <a:srgbClr val="000000"/>
                </a:solidFill>
                <a:latin typeface="Candara"/>
              </a:rPr>
              <a:t> цикличным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относятся строительные процессы, выполнение которых характеризуется повторяемостью в определенной закономерности соответ­ствующего комплекса рабочих операций и трудовых действий рабочих или рабочих движений машины. К цикличным относятся, например, монтажные процессы (установка, выверка и крепление панелей, блоков, колонн, риге­лей и т.д.), рытье котлованов и траншей одноковшовым экскаватором, ра­бота крана на погрузочно-разгрузочных и монтажных операциях и т.д.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68640" y="2785680"/>
            <a:ext cx="3817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Рисунок 4" descr="22.jpeg"/>
          <p:cNvPicPr/>
          <p:nvPr/>
        </p:nvPicPr>
        <p:blipFill>
          <a:blip r:embed="rId1">
            <a:grayscl/>
          </a:blip>
          <a:stretch/>
        </p:blipFill>
        <p:spPr>
          <a:xfrm>
            <a:off x="4427640" y="333360"/>
            <a:ext cx="4384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31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непрерывным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тносятся строительные процессы, характеризуемые не- прерывным выполнением одной или нескольких рабочих операций. Примером непрерывных процессов является рытье траншей многоковшовым экскаватором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основным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тносятся процессы, целью которых является непосредст­венное формирование конечной строительной продукции. К основным можно отнести, например, установку, выверку и крепление панелей и ко­лонн, укладку кирпича, плит, раствора, бетона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вспомогательным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тносятся процессы по созданию условий, необхо­димых для выполнения основных строительных процессов (например, уста­новка подмостей, ограждений, прием материалов на рабочем месте и др.)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подготовительным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тносятся процессы по организации условий, необходимых для выполнения основных и вспомогательных работ: подго­товка рабочего места, инструмента, приспособлений и т.д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зависимости от форм организации труда строительные процессы под­разделяются на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индивидуальные, звеньевые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 и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 бригадные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индивидуальным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относятся такие строительные процессы, которые выполняются одним рабо­чим (например, электросварка монтажных связей в крупнопанельных домах)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звеньевым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тносятся процессы, выполняемые специализированным звеном, к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бригадным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процессы, выполняемые специализированной бригадой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К процессам с нормальными условиями труда относятся работы, вы­полнение которых не оказывает вредного влияния на здоровье рабочих. Однако некоторые строительные и монтажные работы оказывают отрица­тельное влияние на здоровье рабочих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По тяжести производственные процессы в строительстве подразделя­ются на четыре группы: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легкие, средней тяжести, тяжелые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 и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ndara"/>
              </a:rPr>
              <a:t> особо тя­желые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Тяжесть труда определяется прежде всего количеством расходуе­мой рабочим физической энерги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2.3. Строительная продукц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Из строительных процессов (простых, комплексных и их сочетаний) складываются строительные работы, результатом выполнения которых яв­ляется определенная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andara"/>
              </a:rPr>
              <a:t>строительная продукция</a:t>
            </a:r>
            <a:r>
              <a:rPr b="0" i="1" lang="ru-RU" sz="17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Она имеет следующую классификацию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ndara"/>
              </a:rPr>
              <a:t>Первичной продукцией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завершается выполнение определенной рабочей операции. Первичная продукция исчисляется в натуральных измерителях или в количестве выполненных рабочих операций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ndara"/>
              </a:rPr>
              <a:t>Законченная продукция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является результатом выполнения определенного рабочего процесса. Законченная продукция всегда исчисляется в натуральных измерителях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ndara"/>
              </a:rPr>
              <a:t>Продукция цикла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является результатом выполнения одного цикла рабочего процесса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ndara"/>
              </a:rPr>
              <a:t>Конечная продукция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 - результат выполнения определенного комплексного процесса. Понятие «конечная продукция» обычно связывается с окончательной готовностью конструктивного элемента или части здания, сооружения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Характер строительной продукции и ее качество определяются проек­том, ГОСТами, техническими условиями, нормалями, инструкциями, ука­заниями и другими документам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Продукция считается нормального качества, если фактические откло­нения норм количественно-качественной характеристики не превышают установленных допусков. Чем меньше величина отклонений, тем выше ка­чество продукции.</a:t>
            </a:r>
            <a:endParaRPr b="0" lang="en-US" sz="17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2.4. Элементы рабочего времен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и выполнении строительных процессов с применением средств ме­ханизации рассматривается отдельно рабочее время рабочих (включая ма­шиниста) и время использования машины. Все исследования проводятся, как правило, в пределах установленной продолжительности рабочей смены. Затраты времени рабочих и времени использования соответствующей ма­шины могут быть исследованы одновременно и совместно или порознь в зависимости от цели исследования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ни и те же элементы рабочего времени по-разному отражаются на деятельности рабочих и использовании машин. Например, в начале смены рабочие расходуют рабочее время на подготовку к выполнению задания, машинист занят техническим обслуживанием машины, а сами машины в это время еще не работают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этому принято рассматривать две классификации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рабочего времени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 времени использования машин.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В то же время имеется ряд признаков, по­зволяющих обеспечить единый подход к той и другой классификации, обу­словливаемый взаимосвязью рабочих и использования машин в процессе производства.</a:t>
            </a:r>
            <a:endParaRPr b="0" lang="en-US" sz="1800" spc="-1" strike="noStrike">
              <a:solidFill>
                <a:srgbClr val="1f212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0:39:53Z</dcterms:created>
  <dc:creator>Gigabyte</dc:creator>
  <dc:description/>
  <dc:language>en-US</dc:language>
  <cp:lastModifiedBy>Admin</cp:lastModifiedBy>
  <dcterms:modified xsi:type="dcterms:W3CDTF">2014-04-20T11:18:07Z</dcterms:modified>
  <cp:revision>28</cp:revision>
  <dc:subject/>
  <dc:title>ОСНОВЫ ТЕХНИЧЕСКОГО НОРМИРОВАНИЯ</dc:title>
</cp:coreProperties>
</file>