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FFD-FFAE-4E3E-AC92-0C6E76E6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14C-D6F3-4576-8A18-2185689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D11-37FD-4FF2-82FD-90BC100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6A7-E75F-4D24-8BB9-D8C2A7D5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BDB-468E-445C-8018-34B73B7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469-238A-4CC0-A6FA-70E8C4B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B33-4CBD-4F44-AA9B-EEAF336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ED3-699A-42ED-BF80-87C7C70D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EB2-8634-4383-A176-1C84C977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E9F-0A52-488B-9834-895C6B5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AD6-4178-4D77-933B-47BDB6D4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9C2-A860-46C4-AE27-831F6F8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23B-4B35-4126-9285-569C60468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Лекция № 2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ы физиологии рефлекторной регуляции дыхани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лияние различных факторов на дых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бщая схема влияний на дыхательный цент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ыхание при пониженном барометрическом давл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аткосрочные механизмы адап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гипервентиляция и тахипн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олгосрочные механизмы адап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эритроци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увеличение содержан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b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эритроци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сдвиг кривой диссоциаци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право (вследствие повышения содержания в эритроцитах 2,3-дифосфоглицер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гипервентиляция и тахипн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увеличение плотности кровеносных сосудов в тканях (васкуляр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овышение устойчивости клеток к гипо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ыхание при повышенном барометрическом давл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ервоначально гиповентиляция и брадипн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Затем увеличение амплитуды дыхательных движений (вследствие увеличения плотности воздуха и возрастания сопротивления дыхательных путе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ОЗА РАЗВИТИЯ КЕСОННОЙ БОЛЕЗНИ ПРИ БЫСТРОЙ ДЕКОМПРЕС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дыхательной деятельности в онтогенезе (начал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нутриутробном развитии дыхательные движения у плода происходят при замкнутой голосовой щели, что препятствует попаданию околоплодной жидкости в легкие. Дыхательные движения в период внутриутробного развития обусловлены спонтанной активностью нейронов дыхательного цен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рождения возбудимость инспираторных нейронов дыхательного центра продолговатого мозга возрастает. Первый вдох возникает еще до перевязки пуповины. С момента рождения прекращается газообмен за счет плацентарного кровообращения, вследствие чего изменяется газовый состав крови ребенка – возникает недостаток кислорода и избыток углекислого газа. Первый вдох обусловлен возбуждением дыхательного центра низким содержанием О2 в крови. Чувствительность дыхательного центра новорожденных к избытку СО2 более низкая, чем к недостатку кислорода. Другими стимуляторами дыхательных движений являются раздражения терморецепторов и механорецепторов кожи разностью температур и самим актом рождения. Через 1-3 вдоха легочная ткань становится равномерно воздушной. На первый вдох ребенком затрачивается энергии в 10-15 раз больше по сравнению с последующими вдохами. Эта энергия расходуется на преодоление упругости легочной ткани. Наличие сурфактанта, выстилающего внутреннюю поверхность альвеол, способствует быстрому расправлению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дыхательной деятельности в онтогенезе (продолжени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У новорожденных в связи с незрелостью нервных центров и рецепторного аппарата каротидного синуса и дуги аорты возбудимость дыхательного центра значительно снижена. Низкая возбудимость дыхательного центра сохраняется и у грудных детей. Она проявляется в нерегулярном ритме дыхательных движений и появлении различных видов периодического дыхания. Низкой чувствительностью дыхательного центра можно объяснить и устойчивость грудных детей к гипоксии (недостатку кислород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Возбудимость дыхательного центра к СО2 вырабатывается и укрепляется лишь к школьному периоду, когда она достигает уровня взрослого человека. В период полового созре­вания можно обнаружить повышенную возбудимость дыхательного центра к действию гуморальных факторов. У подростков в этот период значительно повышается чувствительность к недостатку кислоро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дыхательной деятельности в онтогенезе (окончани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уждающие нервы включаются в регуляцию дыхания сразу же после рождения с момента первого вдоха. Вследствие расправления легких рецепторы растяжения начинают реагировать на изменение объема легких. Это доказывается тем, что рефлекс Геринга-Брейера у детей легче воспроизводится, чем у взрослых. Таким образом, рефлекторный аппарат автоматической регуляции смены вдоха выдохом включается сразу после рождения. Однако у новорожденных импульсная активность в волокнах легочных афферентов характеризуется небольшой частотой. Реакция хеморецепторов каротидного синуса и аорты у новорожденных на понижение напряжения кислорода в крови нестойкая и непродолжительная. С 10-12 месяцев жизни у детей наблюдается уже выраженная реакция учащения сердечного ритма на гипокс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возрастом увеличивается и реакция на изменение напряжения углекислого газ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извольная регуляция дыхания развивается вместе с развитием речи. Совершенствование этой регуляции отмечается в первые годы жизни. Кроме того, в процессе онтогенеза развивается опорно-двигательный аппарат и информация, поступающая в головной мозг, становится все более точной. Все это обусловливает и более точное регулирование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ефлексы, участвующие в регуляции дых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рецепторов слизистой оболочки носовой полости (например, чихательный рефлекс или рефлекс «ныряльщик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рецепторов глотки (например, аспирационный рефлек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рецепторов гортани и трахеи (например, кашлевой рефлек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проприорецепторов межреберных мышц (например, при повышении сопротивления воздушной струе при бронхоконстрикци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новидности рецепторов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онхо-легочного аппарата, принимающих участие в регуляции дых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рритантные рецепторы или быстро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адаптирующиеся рецеп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рахео-бронхиальные рецепторы растяжения или медленно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адаптирующиеся реце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J-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цепторы (юкстакапиллярные альвеолярные рецептор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Рефлексы Геринга-Брейера</a:t>
            </a:r>
            <a:br>
              <a:rPr sz="40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ли открыты в 1868 г. Герингом и Брейером, которые изучали изменения дыхания при изменении объема легких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пираторно-тормозящий реф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спираторно-облегчающий реф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радоксальный эффект Хэ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сы, возникающие в ответ на уменьшение объема (спадение) легких, их ателектаз или колла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хема рефлексов, возникающих при изменении объема лег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новидности неспецифических рефлексов, участвующих в регуляции дых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епловая одыш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«Кожные» рефлексы (в ответ на раздражение термо- и механо-рецепторов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олевые рефлекс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арорецепторные рефлес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флексы с различных отделов ЦНС (гипоталамическая, лимбическая области, ретикулярная формация, стрио-паллидарный комплекс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егуляция дыхания (основные структуры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559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зновидности дых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Дополнительные разновидности патологических дыхательных движ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аспинг – низкоамплитудные вдохи, прерываемые длительными выдох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пнейзисы – глубокие продолжительные вдохи (зачастую с задержкой дыхания на высоте вдоха), чередующиеся с низкоамплитудными выдох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20:12:26Z</dcterms:created>
  <dc:creator>И.В. Филиппов</dc:creator>
  <dc:description/>
  <dc:language>en-US</dc:language>
  <cp:lastModifiedBy>Пользователь</cp:lastModifiedBy>
  <dcterms:modified xsi:type="dcterms:W3CDTF">2014-01-10T11:41:47Z</dcterms:modified>
  <cp:revision>24</cp:revision>
  <dc:subject/>
  <dc:title>Лекция 20</dc:title>
</cp:coreProperties>
</file>