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074-E6E5-416F-94AE-57A625E7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FAA-1C05-4C36-B149-3C5DA8F1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105-1212-4DD4-8258-E559CE19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42E-522A-4A82-9D4F-3DE054AF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B72E-8E2D-4EE0-9A0D-4037167F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83F7-2747-44AE-93B1-C936F360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A907-C0D0-442E-928F-B63D7E50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CB11-B039-404B-BE6E-C9CFD04A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C066-AE9C-47D9-9152-15ED6A00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6C43-C700-45C0-8DBD-6D281A78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F450-DB3B-4479-A3B6-E616A4CF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CC9-563E-4B1F-8B5F-35BEAD9C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8DAF-ABC2-4F8F-A1D6-A76B813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80CF-26DD-4CD4-AFF3-394C968D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61E0-4493-4803-97E4-BF11E4D7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E05B-72A7-4530-9D3E-8CCBD50C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A9CA-4D80-479A-8ED9-F9E40058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66F1-169B-43C0-A4AA-8FF32F27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D7E6-5CA7-40E5-9D06-D40ED8A8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8B28-764C-4E85-8B99-F8903ACE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A5C3-4078-487D-9BE0-B8D14D07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20951-817A-4E8A-8952-5C091433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FD2-45B4-4246-99AF-4F82F2BB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8A3E-CE40-4F9E-A4BA-34418B3F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045F2-29AC-4FC4-AD35-165D18D5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1383-5ED6-4600-BAB2-D9BB2259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ED34-0406-4A73-97B7-F242572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1119-8274-4692-B888-321F121C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8C82-19E9-4743-B7CC-E189C871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66AB-93C0-4F42-9B2C-9147D2ED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51E5A-CFD2-4F58-8A62-0D91953C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E4358-8103-4A84-A783-47501CE3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EF7D8-611C-4269-AD7D-A2186111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174-26F7-4E88-B5B0-D3187811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CB9C-C57E-41B7-BDC1-57DB8BBE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5D0EC-994A-49E4-9EE7-317F22FD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E82D-4C90-4FE8-BA64-D8ED5A62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F30C0-5D4F-41B9-9DAF-141E6DF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B575E-F775-487A-A27D-3D944CAB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ED2A2-50E4-4642-862A-9B212169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8878-559A-417A-84C8-452E2944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FA72-D66F-4277-83AD-2FF3C50B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B0D0A-7E74-42D5-9A16-90D1D3BE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9536-EFA9-4BDE-AB48-54518492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27D-CC5F-4F01-B8CB-B936D9F3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F543F-460A-47FB-8319-D95CDA0E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5B132-45C3-449E-9436-99428A7F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04E1-80C5-4541-BBA2-B2E7FD32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89CFC-9360-4734-A39F-9B825F44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0E3ED-201E-4DA8-8349-B4E11D61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93DCA-A5B5-407F-B54D-FF1FE93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7710B-7C60-496F-9D85-C1682412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DD5AC-C518-4626-9C19-A8C59565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67FF5-BBC4-410F-A176-062DC53F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D9DC-F1AF-4494-9811-644A9837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2EB-3C34-4F63-9368-F8BE1037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D596E-6E89-47C0-A22C-D8C8473B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CBCF6-6A52-4F87-96BD-0715FA73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B8406-9EFF-4CDC-802A-AC90AC4D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21E00-E650-435D-AB79-04644108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B3CC0-0456-41E1-A56A-51DD8FC4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FCE9E-16DB-431F-83E7-99C8900F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E0B7-43AB-4953-9ED6-6421D126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D743B-A3A6-4248-AA78-B9FF5897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CAF43-C76D-4E66-84F3-B9C1CE0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6A936-F957-4971-8823-DAC8C523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677-74AC-457B-90B6-80435B27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2A386-0B0C-4AAE-A6D0-5B50DD7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E2414-63FA-4D9C-A35B-D6FAB3B8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F377F-013D-4474-9455-6E79B55B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BB424-C0C5-4427-9083-0D81FA99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FE1BC-0BF0-4E3E-AB26-82ED0C6C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47E6-AD86-4080-AC0B-FE5C67F1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86EB5-3E4C-4570-9750-DF6BB887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8285A-6657-445E-88FA-36C5F4A7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91D0F-5A07-4057-9C28-646921E7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1D89A-457E-4A6A-AB27-B29C197B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B95-8F2E-4A8C-BDC4-3300B196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3443D-4A59-42F7-9821-E9A8BE52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6ACE5-D5E7-432B-8C57-3439F1EF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6C5C0-98FB-44FD-828B-3FD30264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3B481-7AC7-4C2D-B9EE-1EBD11E6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8942B-0E31-45B1-8E6E-94AEB8FC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E9AF3-1B46-4BAB-B623-EB3CBD4C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9DC7A-7DD4-48AC-972C-56E99866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3DC30-198D-4C4A-9441-2E87DE41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26F2B-E2F9-410F-8C0F-AEE1BD7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FD5B1-173F-42F9-9441-58381DC2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742-5FF7-4690-99E0-1526890F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25449-0198-42A2-9270-5051CCF4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15736-7D65-42A6-BCDA-B64E1716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06257-2475-4FE3-9B35-C8FE9EEA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0D6A3-1766-489B-B356-824418E3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BFF0B-4CB1-42F7-92F6-1BE8BEBE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BD130-10AF-4C6E-8F4B-60121F86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17F35-F10A-4A6F-A50F-4810D551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8979-BA16-4B97-B60D-3DCF42FC50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26C0-8260-4ED9-9696-1FEF0A99329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DE33-A0E2-4FDF-A6CC-A34317DFE4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4132-6CE9-4790-81CE-1E1164A85F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5D34-2341-4768-9FC1-8E3E0B54DA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88A1-A42B-4E3C-9599-6467C521E70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A396-5649-4D1D-BDCB-6D36ED9597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1CAF-BD7D-4898-A4CC-36DB5F76C4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706320" y="566640"/>
            <a:ext cx="8113680" cy="3524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565776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Lucida Sans Unicode"/>
              </a:rPr>
              <a:t>Выполнила студентка группы ГМУ 51-1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Lucida Sans Unicode"/>
              </a:rPr>
              <a:t>Фёдорова Анастас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428800" y="150012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35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«…Философская истина наиболее ценная, чем религиозная, так как опирается на разум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2" descr="C:\Users\Анастасия\Desktop\f80eec77404da123b287d5690e09538f4108c923.jpg"/>
          <p:cNvPicPr/>
          <p:nvPr/>
        </p:nvPicPr>
        <p:blipFill>
          <a:blip r:embed="rId1"/>
          <a:stretch/>
        </p:blipFill>
        <p:spPr>
          <a:xfrm>
            <a:off x="214200" y="896760"/>
            <a:ext cx="5143680" cy="40323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4"/>
          <p:cNvSpPr/>
          <p:nvPr/>
        </p:nvSpPr>
        <p:spPr>
          <a:xfrm>
            <a:off x="428760" y="5072040"/>
            <a:ext cx="4786200" cy="94716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Аверроэс (Ибн-Рушд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126-1198 гг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4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Разум был мистически ориентирован, а мистика рационально организована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811080" y="-6480"/>
            <a:ext cx="7925040" cy="11588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3"/>
          <p:cNvSpPr/>
          <p:nvPr/>
        </p:nvSpPr>
        <p:spPr>
          <a:xfrm>
            <a:off x="500040" y="357192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илософские кредо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омы Аквинского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знаю, чтобы верит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ильяма Оккама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ерю и понимаю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бн Рушда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Знание выше вер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«Это время блестящего расцвета логики, онтологии, философии языка, философии человека и других философских дисциплин. Философия... никогда не создавала столь насыщенной и законченной системы понятий, какую создала схоластика»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766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714840" y="185724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За особые заслуги в обосновании христианской философии его философию, было рекомендовано изучать во всех католических учебных заведениях как единственно правильную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6" name="Picture 2" descr="C:\Users\Анастасия\Desktop\thomas_aquinas.jpg"/>
          <p:cNvPicPr/>
          <p:nvPr/>
        </p:nvPicPr>
        <p:blipFill>
          <a:blip r:embed="rId1"/>
          <a:stretch/>
        </p:blipFill>
        <p:spPr>
          <a:xfrm>
            <a:off x="285840" y="142920"/>
            <a:ext cx="3263760" cy="50799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4"/>
          <p:cNvSpPr/>
          <p:nvPr/>
        </p:nvSpPr>
        <p:spPr>
          <a:xfrm>
            <a:off x="285840" y="5286240"/>
            <a:ext cx="3357360" cy="94716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Фома Аквински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225-1274 гг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500040" y="10713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«Но мы чувствуем не разумом, а зрением, или слухом, или обонянием, или вкусом, или осязанием... Все же, что мы знаем, знаем разумом; поэтому никакое чувство не есть знание. Итак, что я разумею, тому и верю; но не все, чему верю, то я и разумею. Все, что я разумею, то я знаю; но не все то знаю, чему верю. Я знаю, как полезно верить многому и такому, чего не знаю».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98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71424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Естественный све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» слабее «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Света божьего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Lucida Sans Unicode"/>
              </a:rPr>
              <a:t>⇓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Философия, в которой воплощается только «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естественный све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», может быть лишь «служанкой теологии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500040" y="78588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onstantia"/>
              </a:rPr>
              <a:t>«...Необходимо чтобы философские дисциплины, которые получают свои знания от разума, были дополнены наукой священной и основанной на откровении... Теология может взять нечто от философских дисциплин, но не потому, что испытывает в этом необходимость, а лишь ради большей доходчивости преподаваемых ею положений. При том же она не следует другим наукам, как высшим по отношению к ней, но прибегает к ним, как к подчиненным к ней служанкам, подобно тому, как теория архитектуры прибегает к служебным дисциплинам или теория государства прибегает к науке военного дела».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93560" y="66600"/>
            <a:ext cx="845532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068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движени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ир есть движение, причем каждая движущаяся вещь имеет свой источник движения. Перводвигатель есть Бог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.)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причины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ир есть совокупность взаимодействующих причин и следствий. Но в таком случае должна быть исходная, начальная причина всего сущего, первопричина. Такой первопричиной может быть только Бог.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69800" y="30240"/>
            <a:ext cx="8296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068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я случайного и необходимого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В мире много случайного, но есть также необходимость и закономерность. Определенным законам подчиняется движение планет, земных вещей, жизнь людей. Творцом такого закона мог быть только Бог.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 совершенстве мира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Мир представляет собой своеобразную многосту-пенчатую пирамиду, каждая из последующих ступеней которой, более совершенна, чем предыдущая.)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469800" y="30240"/>
            <a:ext cx="8296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068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–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алкивается от понятия целесообразности.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Окружающий нас огромный мир един, целесообразен, исполнен глубинного смысла, одухотворен.)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69800" y="30240"/>
            <a:ext cx="8296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5T19:12:48Z</dcterms:created>
  <dc:creator>Анастасия</dc:creator>
  <dc:description/>
  <dc:language>en-US</dc:language>
  <cp:lastModifiedBy>Анастасия</cp:lastModifiedBy>
  <dcterms:modified xsi:type="dcterms:W3CDTF">2017-06-05T20:55:19Z</dcterms:modified>
  <cp:revision>1</cp:revision>
  <dc:subject/>
  <dc:title>Спор о соотношении разума и веры</dc:title>
</cp:coreProperties>
</file>