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7CE501F-876B-42CF-A0FD-AF0C94DBDDA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45D089F-0F5A-407D-A909-F9977376A6E1}">
      <dgm:prSet phldrT="[Text]" custT="1"/>
      <dgm:spPr/>
      <dgm:t>
        <a:bodyPr/>
        <a:lstStyle/>
        <a:p>
          <a:r>
            <a:rPr lang="ru-RU" altLang="zh-CN" sz="4000" dirty="0" smtClean="0"/>
            <a:t>Первичный туберкулез</a:t>
          </a:r>
          <a:endParaRPr lang="zh-CN" altLang="en-US" sz="4000" dirty="0"/>
        </a:p>
      </dgm:t>
    </dgm:pt>
    <dgm:pt modelId="{97B342ED-0036-4994-9BDA-B44EDACB6435}" type="parTrans" cxnId="{635722B5-B8E6-46AF-B7F5-E93963A26F4E}">
      <dgm:prSet/>
      <dgm:spPr/>
      <dgm:t>
        <a:bodyPr/>
        <a:lstStyle/>
        <a:p>
          <a:endParaRPr lang="zh-CN" altLang="en-US"/>
        </a:p>
      </dgm:t>
    </dgm:pt>
    <dgm:pt modelId="{5B9ABD0F-CD0B-4FF5-82FB-F28B96547CCC}" type="sibTrans" cxnId="{635722B5-B8E6-46AF-B7F5-E93963A26F4E}">
      <dgm:prSet/>
      <dgm:spPr/>
      <dgm:t>
        <a:bodyPr/>
        <a:lstStyle/>
        <a:p>
          <a:endParaRPr lang="zh-CN" altLang="en-US"/>
        </a:p>
      </dgm:t>
    </dgm:pt>
    <dgm:pt modelId="{B938EC68-1336-47F9-A09D-5CADFA1D6D7D}">
      <dgm:prSet phldrT="[Text]"/>
      <dgm:spPr/>
      <dgm:t>
        <a:bodyPr/>
        <a:lstStyle/>
        <a:p>
          <a:r>
            <a:rPr lang="ru-RU" altLang="zh-CN" dirty="0" smtClean="0"/>
            <a:t>Первичный туберкулезный комплекс</a:t>
          </a:r>
          <a:endParaRPr lang="zh-CN" altLang="en-US" dirty="0"/>
        </a:p>
      </dgm:t>
    </dgm:pt>
    <dgm:pt modelId="{CB0388BB-798D-4259-99D9-DCF5D1164132}" type="parTrans" cxnId="{05526563-2277-4D1D-B9F2-2CAD9A2B2BA7}">
      <dgm:prSet/>
      <dgm:spPr/>
      <dgm:t>
        <a:bodyPr/>
        <a:lstStyle/>
        <a:p>
          <a:endParaRPr lang="zh-CN" altLang="en-US"/>
        </a:p>
      </dgm:t>
    </dgm:pt>
    <dgm:pt modelId="{A8086E72-A65D-4EFA-A4D1-BF5082881A49}" type="sibTrans" cxnId="{05526563-2277-4D1D-B9F2-2CAD9A2B2BA7}">
      <dgm:prSet/>
      <dgm:spPr/>
      <dgm:t>
        <a:bodyPr/>
        <a:lstStyle/>
        <a:p>
          <a:endParaRPr lang="zh-CN" altLang="en-US"/>
        </a:p>
      </dgm:t>
    </dgm:pt>
    <dgm:pt modelId="{E024581C-FDAB-458B-A6A8-4FD71EB206FB}">
      <dgm:prSet phldrT="[Text]"/>
      <dgm:spPr/>
      <dgm:t>
        <a:bodyPr/>
        <a:lstStyle/>
        <a:p>
          <a:r>
            <a:rPr lang="ru-RU" altLang="zh-CN" dirty="0" smtClean="0"/>
            <a:t>Туберкулезная интоксикация</a:t>
          </a:r>
          <a:endParaRPr lang="zh-CN" altLang="en-US" dirty="0"/>
        </a:p>
      </dgm:t>
    </dgm:pt>
    <dgm:pt modelId="{D52082F6-B34D-4875-8479-CF905C8B01C8}" type="parTrans" cxnId="{065DCC68-4769-453C-BA88-657EAD92ADA9}">
      <dgm:prSet/>
      <dgm:spPr/>
      <dgm:t>
        <a:bodyPr/>
        <a:lstStyle/>
        <a:p>
          <a:endParaRPr lang="zh-CN" altLang="en-US"/>
        </a:p>
      </dgm:t>
    </dgm:pt>
    <dgm:pt modelId="{F3D5CB52-AD2D-411E-80A0-38DC14D9315F}" type="sibTrans" cxnId="{065DCC68-4769-453C-BA88-657EAD92ADA9}">
      <dgm:prSet/>
      <dgm:spPr/>
      <dgm:t>
        <a:bodyPr/>
        <a:lstStyle/>
        <a:p>
          <a:endParaRPr lang="zh-CN" altLang="en-US"/>
        </a:p>
      </dgm:t>
    </dgm:pt>
    <dgm:pt modelId="{B21B83DA-9E1C-4D46-85B8-EE849800E98A}">
      <dgm:prSet phldrT="[Text]"/>
      <dgm:spPr/>
      <dgm:t>
        <a:bodyPr/>
        <a:lstStyle/>
        <a:p>
          <a:r>
            <a:rPr lang="ru-RU" altLang="zh-CN" dirty="0" smtClean="0"/>
            <a:t>Туберкулез внутригрудных лимфатических узлов</a:t>
          </a:r>
          <a:endParaRPr lang="zh-CN" altLang="en-US" dirty="0"/>
        </a:p>
      </dgm:t>
    </dgm:pt>
    <dgm:pt modelId="{C7576E9B-ADEE-44FA-B354-5CC96A7E61CD}" type="parTrans" cxnId="{71A82166-03E0-4044-A058-07308D64681C}">
      <dgm:prSet/>
      <dgm:spPr/>
      <dgm:t>
        <a:bodyPr/>
        <a:lstStyle/>
        <a:p>
          <a:endParaRPr lang="zh-CN" altLang="en-US"/>
        </a:p>
      </dgm:t>
    </dgm:pt>
    <dgm:pt modelId="{33404519-1EFB-481E-81BF-9C25C86BA3E8}" type="sibTrans" cxnId="{71A82166-03E0-4044-A058-07308D64681C}">
      <dgm:prSet/>
      <dgm:spPr/>
      <dgm:t>
        <a:bodyPr/>
        <a:lstStyle/>
        <a:p>
          <a:endParaRPr lang="zh-CN" altLang="en-US"/>
        </a:p>
      </dgm:t>
    </dgm:pt>
    <dgm:pt modelId="{2DA4C4F7-BEAB-49B0-B165-9DD2AD4AE072}" type="pres">
      <dgm:prSet presAssocID="{47CE501F-876B-42CF-A0FD-AF0C94DBDDA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32C8C7EE-85EA-4B3B-AF24-A8EE5E2D1765}" type="pres">
      <dgm:prSet presAssocID="{C45D089F-0F5A-407D-A909-F9977376A6E1}" presName="hierRoot1" presStyleCnt="0">
        <dgm:presLayoutVars>
          <dgm:hierBranch val="init"/>
        </dgm:presLayoutVars>
      </dgm:prSet>
      <dgm:spPr/>
    </dgm:pt>
    <dgm:pt modelId="{183E3080-902F-414F-9EF9-868644BA57EF}" type="pres">
      <dgm:prSet presAssocID="{C45D089F-0F5A-407D-A909-F9977376A6E1}" presName="rootComposite1" presStyleCnt="0"/>
      <dgm:spPr/>
    </dgm:pt>
    <dgm:pt modelId="{A1B097E6-E451-44F7-AB2D-A8A8D8C0EB90}" type="pres">
      <dgm:prSet presAssocID="{C45D089F-0F5A-407D-A909-F9977376A6E1}" presName="rootText1" presStyleLbl="node0" presStyleIdx="0" presStyleCnt="1" custScaleX="189075" custScaleY="193336" custLinFactNeighborX="-2256" custLinFactNeighborY="-89075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0DD08959-3CC6-4862-85A3-EC03F99435B4}" type="pres">
      <dgm:prSet presAssocID="{C45D089F-0F5A-407D-A909-F9977376A6E1}" presName="rootConnector1" presStyleLbl="node1" presStyleIdx="0" presStyleCnt="0"/>
      <dgm:spPr/>
      <dgm:t>
        <a:bodyPr/>
        <a:lstStyle/>
        <a:p>
          <a:endParaRPr lang="zh-CN" altLang="en-US"/>
        </a:p>
      </dgm:t>
    </dgm:pt>
    <dgm:pt modelId="{FC0BD271-6078-45DA-99C3-0DCFBBFA6DE1}" type="pres">
      <dgm:prSet presAssocID="{C45D089F-0F5A-407D-A909-F9977376A6E1}" presName="hierChild2" presStyleCnt="0"/>
      <dgm:spPr/>
    </dgm:pt>
    <dgm:pt modelId="{33FD8521-F66F-49E8-AA3D-10859FCEB9BA}" type="pres">
      <dgm:prSet presAssocID="{CB0388BB-798D-4259-99D9-DCF5D1164132}" presName="Name37" presStyleLbl="parChTrans1D2" presStyleIdx="0" presStyleCnt="3"/>
      <dgm:spPr/>
      <dgm:t>
        <a:bodyPr/>
        <a:lstStyle/>
        <a:p>
          <a:endParaRPr lang="zh-CN" altLang="en-US"/>
        </a:p>
      </dgm:t>
    </dgm:pt>
    <dgm:pt modelId="{D74CDAA2-0C2C-410E-A145-35081FC44C8A}" type="pres">
      <dgm:prSet presAssocID="{B938EC68-1336-47F9-A09D-5CADFA1D6D7D}" presName="hierRoot2" presStyleCnt="0">
        <dgm:presLayoutVars>
          <dgm:hierBranch val="init"/>
        </dgm:presLayoutVars>
      </dgm:prSet>
      <dgm:spPr/>
    </dgm:pt>
    <dgm:pt modelId="{CF6245F9-7C51-461A-8E57-20D2F0360FA6}" type="pres">
      <dgm:prSet presAssocID="{B938EC68-1336-47F9-A09D-5CADFA1D6D7D}" presName="rootComposite" presStyleCnt="0"/>
      <dgm:spPr/>
    </dgm:pt>
    <dgm:pt modelId="{159E4DF3-CC3D-45A4-839E-A109E14176B7}" type="pres">
      <dgm:prSet presAssocID="{B938EC68-1336-47F9-A09D-5CADFA1D6D7D}" presName="rootText" presStyleLbl="node2" presStyleIdx="0" presStyleCnt="3" custLinFactNeighborX="-8930" custLinFactNeighborY="35199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FD0055ED-7F25-4D06-85E1-CEAEBF41B12E}" type="pres">
      <dgm:prSet presAssocID="{B938EC68-1336-47F9-A09D-5CADFA1D6D7D}" presName="rootConnector" presStyleLbl="node2" presStyleIdx="0" presStyleCnt="3"/>
      <dgm:spPr/>
      <dgm:t>
        <a:bodyPr/>
        <a:lstStyle/>
        <a:p>
          <a:endParaRPr lang="zh-CN" altLang="en-US"/>
        </a:p>
      </dgm:t>
    </dgm:pt>
    <dgm:pt modelId="{D5591860-1D4D-49AE-948B-67FF91C96863}" type="pres">
      <dgm:prSet presAssocID="{B938EC68-1336-47F9-A09D-5CADFA1D6D7D}" presName="hierChild4" presStyleCnt="0"/>
      <dgm:spPr/>
    </dgm:pt>
    <dgm:pt modelId="{5569AC80-927F-4243-ABC3-45CD51F01042}" type="pres">
      <dgm:prSet presAssocID="{B938EC68-1336-47F9-A09D-5CADFA1D6D7D}" presName="hierChild5" presStyleCnt="0"/>
      <dgm:spPr/>
    </dgm:pt>
    <dgm:pt modelId="{BB6E6BFD-3730-40C7-9E25-D36F318D68B0}" type="pres">
      <dgm:prSet presAssocID="{D52082F6-B34D-4875-8479-CF905C8B01C8}" presName="Name37" presStyleLbl="parChTrans1D2" presStyleIdx="1" presStyleCnt="3"/>
      <dgm:spPr/>
      <dgm:t>
        <a:bodyPr/>
        <a:lstStyle/>
        <a:p>
          <a:endParaRPr lang="zh-CN" altLang="en-US"/>
        </a:p>
      </dgm:t>
    </dgm:pt>
    <dgm:pt modelId="{3B05EF93-9AB3-4FEE-B472-6F72F13740ED}" type="pres">
      <dgm:prSet presAssocID="{E024581C-FDAB-458B-A6A8-4FD71EB206FB}" presName="hierRoot2" presStyleCnt="0">
        <dgm:presLayoutVars>
          <dgm:hierBranch val="init"/>
        </dgm:presLayoutVars>
      </dgm:prSet>
      <dgm:spPr/>
    </dgm:pt>
    <dgm:pt modelId="{B8FDC823-127A-45FF-8993-D4FA1B77F1C3}" type="pres">
      <dgm:prSet presAssocID="{E024581C-FDAB-458B-A6A8-4FD71EB206FB}" presName="rootComposite" presStyleCnt="0"/>
      <dgm:spPr/>
    </dgm:pt>
    <dgm:pt modelId="{BDF84F1B-8074-4F7D-8E3F-41D75AE9840F}" type="pres">
      <dgm:prSet presAssocID="{E024581C-FDAB-458B-A6A8-4FD71EB206FB}" presName="rootText" presStyleLbl="node2" presStyleIdx="1" presStyleCnt="3" custLinFactNeighborX="713" custLinFactNeighborY="23322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74605687-6601-4F9D-AEC8-6270894B1DB2}" type="pres">
      <dgm:prSet presAssocID="{E024581C-FDAB-458B-A6A8-4FD71EB206FB}" presName="rootConnector" presStyleLbl="node2" presStyleIdx="1" presStyleCnt="3"/>
      <dgm:spPr/>
      <dgm:t>
        <a:bodyPr/>
        <a:lstStyle/>
        <a:p>
          <a:endParaRPr lang="zh-CN" altLang="en-US"/>
        </a:p>
      </dgm:t>
    </dgm:pt>
    <dgm:pt modelId="{53E04F7E-5BFF-42B8-9EE7-CD24D490FD16}" type="pres">
      <dgm:prSet presAssocID="{E024581C-FDAB-458B-A6A8-4FD71EB206FB}" presName="hierChild4" presStyleCnt="0"/>
      <dgm:spPr/>
    </dgm:pt>
    <dgm:pt modelId="{6020AA4A-9AC3-459E-B3A1-6BB44DCA81C2}" type="pres">
      <dgm:prSet presAssocID="{E024581C-FDAB-458B-A6A8-4FD71EB206FB}" presName="hierChild5" presStyleCnt="0"/>
      <dgm:spPr/>
    </dgm:pt>
    <dgm:pt modelId="{17FF04E9-D627-4F0A-9CBE-D3DEB7A4BE02}" type="pres">
      <dgm:prSet presAssocID="{C7576E9B-ADEE-44FA-B354-5CC96A7E61CD}" presName="Name37" presStyleLbl="parChTrans1D2" presStyleIdx="2" presStyleCnt="3"/>
      <dgm:spPr/>
      <dgm:t>
        <a:bodyPr/>
        <a:lstStyle/>
        <a:p>
          <a:endParaRPr lang="zh-CN" altLang="en-US"/>
        </a:p>
      </dgm:t>
    </dgm:pt>
    <dgm:pt modelId="{200C1CD9-047A-4CA4-9669-F514F5FFCC1C}" type="pres">
      <dgm:prSet presAssocID="{B21B83DA-9E1C-4D46-85B8-EE849800E98A}" presName="hierRoot2" presStyleCnt="0">
        <dgm:presLayoutVars>
          <dgm:hierBranch val="init"/>
        </dgm:presLayoutVars>
      </dgm:prSet>
      <dgm:spPr/>
    </dgm:pt>
    <dgm:pt modelId="{3035C4C8-F305-43CC-BB0F-8C8341541CD2}" type="pres">
      <dgm:prSet presAssocID="{B21B83DA-9E1C-4D46-85B8-EE849800E98A}" presName="rootComposite" presStyleCnt="0"/>
      <dgm:spPr/>
    </dgm:pt>
    <dgm:pt modelId="{B1B601B0-C5FB-4458-8449-AC43783046FB}" type="pres">
      <dgm:prSet presAssocID="{B21B83DA-9E1C-4D46-85B8-EE849800E98A}" presName="rootText" presStyleLbl="node2" presStyleIdx="2" presStyleCnt="3" custLinFactNeighborX="17245" custLinFactNeighborY="17384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EE35BFEE-3BAE-42C5-9740-054E2DE27A9B}" type="pres">
      <dgm:prSet presAssocID="{B21B83DA-9E1C-4D46-85B8-EE849800E98A}" presName="rootConnector" presStyleLbl="node2" presStyleIdx="2" presStyleCnt="3"/>
      <dgm:spPr/>
      <dgm:t>
        <a:bodyPr/>
        <a:lstStyle/>
        <a:p>
          <a:endParaRPr lang="zh-CN" altLang="en-US"/>
        </a:p>
      </dgm:t>
    </dgm:pt>
    <dgm:pt modelId="{981EABE6-33F2-4F9F-836A-E4A68CC529BE}" type="pres">
      <dgm:prSet presAssocID="{B21B83DA-9E1C-4D46-85B8-EE849800E98A}" presName="hierChild4" presStyleCnt="0"/>
      <dgm:spPr/>
    </dgm:pt>
    <dgm:pt modelId="{D99BE8E1-A550-49AD-9723-938D245B5C15}" type="pres">
      <dgm:prSet presAssocID="{B21B83DA-9E1C-4D46-85B8-EE849800E98A}" presName="hierChild5" presStyleCnt="0"/>
      <dgm:spPr/>
    </dgm:pt>
    <dgm:pt modelId="{585A7BA9-0DE4-4AE9-BEA0-C3DB55BED23B}" type="pres">
      <dgm:prSet presAssocID="{C45D089F-0F5A-407D-A909-F9977376A6E1}" presName="hierChild3" presStyleCnt="0"/>
      <dgm:spPr/>
    </dgm:pt>
  </dgm:ptLst>
  <dgm:cxnLst>
    <dgm:cxn modelId="{05526563-2277-4D1D-B9F2-2CAD9A2B2BA7}" srcId="{C45D089F-0F5A-407D-A909-F9977376A6E1}" destId="{B938EC68-1336-47F9-A09D-5CADFA1D6D7D}" srcOrd="0" destOrd="0" parTransId="{CB0388BB-798D-4259-99D9-DCF5D1164132}" sibTransId="{A8086E72-A65D-4EFA-A4D1-BF5082881A49}"/>
    <dgm:cxn modelId="{01551BED-4B33-4313-9224-25B82DD440FC}" type="presOf" srcId="{CB0388BB-798D-4259-99D9-DCF5D1164132}" destId="{33FD8521-F66F-49E8-AA3D-10859FCEB9BA}" srcOrd="0" destOrd="0" presId="urn:microsoft.com/office/officeart/2005/8/layout/orgChart1"/>
    <dgm:cxn modelId="{AFB0D7A8-57C9-4543-9516-1968E8F2EA7A}" type="presOf" srcId="{E024581C-FDAB-458B-A6A8-4FD71EB206FB}" destId="{74605687-6601-4F9D-AEC8-6270894B1DB2}" srcOrd="1" destOrd="0" presId="urn:microsoft.com/office/officeart/2005/8/layout/orgChart1"/>
    <dgm:cxn modelId="{62EDB359-EDD6-4D27-9DC4-D1B898843E62}" type="presOf" srcId="{C7576E9B-ADEE-44FA-B354-5CC96A7E61CD}" destId="{17FF04E9-D627-4F0A-9CBE-D3DEB7A4BE02}" srcOrd="0" destOrd="0" presId="urn:microsoft.com/office/officeart/2005/8/layout/orgChart1"/>
    <dgm:cxn modelId="{631E02A6-4D0F-40C1-9B68-FD69BC5C8CFA}" type="presOf" srcId="{C45D089F-0F5A-407D-A909-F9977376A6E1}" destId="{A1B097E6-E451-44F7-AB2D-A8A8D8C0EB90}" srcOrd="0" destOrd="0" presId="urn:microsoft.com/office/officeart/2005/8/layout/orgChart1"/>
    <dgm:cxn modelId="{71A82166-03E0-4044-A058-07308D64681C}" srcId="{C45D089F-0F5A-407D-A909-F9977376A6E1}" destId="{B21B83DA-9E1C-4D46-85B8-EE849800E98A}" srcOrd="2" destOrd="0" parTransId="{C7576E9B-ADEE-44FA-B354-5CC96A7E61CD}" sibTransId="{33404519-1EFB-481E-81BF-9C25C86BA3E8}"/>
    <dgm:cxn modelId="{FD007D5B-3B66-4B57-B5AD-0AA439204561}" type="presOf" srcId="{B21B83DA-9E1C-4D46-85B8-EE849800E98A}" destId="{EE35BFEE-3BAE-42C5-9740-054E2DE27A9B}" srcOrd="1" destOrd="0" presId="urn:microsoft.com/office/officeart/2005/8/layout/orgChart1"/>
    <dgm:cxn modelId="{2A76ECE9-A719-4305-8E7A-BDA3CE4CBCA1}" type="presOf" srcId="{47CE501F-876B-42CF-A0FD-AF0C94DBDDAB}" destId="{2DA4C4F7-BEAB-49B0-B165-9DD2AD4AE072}" srcOrd="0" destOrd="0" presId="urn:microsoft.com/office/officeart/2005/8/layout/orgChart1"/>
    <dgm:cxn modelId="{065DCC68-4769-453C-BA88-657EAD92ADA9}" srcId="{C45D089F-0F5A-407D-A909-F9977376A6E1}" destId="{E024581C-FDAB-458B-A6A8-4FD71EB206FB}" srcOrd="1" destOrd="0" parTransId="{D52082F6-B34D-4875-8479-CF905C8B01C8}" sibTransId="{F3D5CB52-AD2D-411E-80A0-38DC14D9315F}"/>
    <dgm:cxn modelId="{4634F6DC-ED53-4891-8EF9-0A333010F342}" type="presOf" srcId="{C45D089F-0F5A-407D-A909-F9977376A6E1}" destId="{0DD08959-3CC6-4862-85A3-EC03F99435B4}" srcOrd="1" destOrd="0" presId="urn:microsoft.com/office/officeart/2005/8/layout/orgChart1"/>
    <dgm:cxn modelId="{635722B5-B8E6-46AF-B7F5-E93963A26F4E}" srcId="{47CE501F-876B-42CF-A0FD-AF0C94DBDDAB}" destId="{C45D089F-0F5A-407D-A909-F9977376A6E1}" srcOrd="0" destOrd="0" parTransId="{97B342ED-0036-4994-9BDA-B44EDACB6435}" sibTransId="{5B9ABD0F-CD0B-4FF5-82FB-F28B96547CCC}"/>
    <dgm:cxn modelId="{D97383B6-0A31-4C0D-9DC4-FDB7A9157C55}" type="presOf" srcId="{E024581C-FDAB-458B-A6A8-4FD71EB206FB}" destId="{BDF84F1B-8074-4F7D-8E3F-41D75AE9840F}" srcOrd="0" destOrd="0" presId="urn:microsoft.com/office/officeart/2005/8/layout/orgChart1"/>
    <dgm:cxn modelId="{4E3D4F07-B9E5-42F1-90B9-A494BD124F4E}" type="presOf" srcId="{D52082F6-B34D-4875-8479-CF905C8B01C8}" destId="{BB6E6BFD-3730-40C7-9E25-D36F318D68B0}" srcOrd="0" destOrd="0" presId="urn:microsoft.com/office/officeart/2005/8/layout/orgChart1"/>
    <dgm:cxn modelId="{8E4F7C89-CF9B-4728-A33F-395BCC2C1C95}" type="presOf" srcId="{B938EC68-1336-47F9-A09D-5CADFA1D6D7D}" destId="{159E4DF3-CC3D-45A4-839E-A109E14176B7}" srcOrd="0" destOrd="0" presId="urn:microsoft.com/office/officeart/2005/8/layout/orgChart1"/>
    <dgm:cxn modelId="{C3DC3102-E3B6-4BCF-ACFF-B49BCF3A2266}" type="presOf" srcId="{B21B83DA-9E1C-4D46-85B8-EE849800E98A}" destId="{B1B601B0-C5FB-4458-8449-AC43783046FB}" srcOrd="0" destOrd="0" presId="urn:microsoft.com/office/officeart/2005/8/layout/orgChart1"/>
    <dgm:cxn modelId="{8EAB3DBB-30CE-424A-874E-D9437FDDC667}" type="presOf" srcId="{B938EC68-1336-47F9-A09D-5CADFA1D6D7D}" destId="{FD0055ED-7F25-4D06-85E1-CEAEBF41B12E}" srcOrd="1" destOrd="0" presId="urn:microsoft.com/office/officeart/2005/8/layout/orgChart1"/>
    <dgm:cxn modelId="{416AD641-5450-4298-9CC3-D3BFAAE5BE14}" type="presParOf" srcId="{2DA4C4F7-BEAB-49B0-B165-9DD2AD4AE072}" destId="{32C8C7EE-85EA-4B3B-AF24-A8EE5E2D1765}" srcOrd="0" destOrd="0" presId="urn:microsoft.com/office/officeart/2005/8/layout/orgChart1"/>
    <dgm:cxn modelId="{FD370E7E-1E94-48D3-B1AA-476F50612204}" type="presParOf" srcId="{32C8C7EE-85EA-4B3B-AF24-A8EE5E2D1765}" destId="{183E3080-902F-414F-9EF9-868644BA57EF}" srcOrd="0" destOrd="0" presId="urn:microsoft.com/office/officeart/2005/8/layout/orgChart1"/>
    <dgm:cxn modelId="{E14900E7-D166-446E-A7DC-DFFD38D8AA35}" type="presParOf" srcId="{183E3080-902F-414F-9EF9-868644BA57EF}" destId="{A1B097E6-E451-44F7-AB2D-A8A8D8C0EB90}" srcOrd="0" destOrd="0" presId="urn:microsoft.com/office/officeart/2005/8/layout/orgChart1"/>
    <dgm:cxn modelId="{B4D76441-9477-4843-ADE4-CA3024AA45B1}" type="presParOf" srcId="{183E3080-902F-414F-9EF9-868644BA57EF}" destId="{0DD08959-3CC6-4862-85A3-EC03F99435B4}" srcOrd="1" destOrd="0" presId="urn:microsoft.com/office/officeart/2005/8/layout/orgChart1"/>
    <dgm:cxn modelId="{B3C54EBE-89D9-46B9-8685-4E222EE69111}" type="presParOf" srcId="{32C8C7EE-85EA-4B3B-AF24-A8EE5E2D1765}" destId="{FC0BD271-6078-45DA-99C3-0DCFBBFA6DE1}" srcOrd="1" destOrd="0" presId="urn:microsoft.com/office/officeart/2005/8/layout/orgChart1"/>
    <dgm:cxn modelId="{AEF037F4-FA47-45FE-B760-94209F095329}" type="presParOf" srcId="{FC0BD271-6078-45DA-99C3-0DCFBBFA6DE1}" destId="{33FD8521-F66F-49E8-AA3D-10859FCEB9BA}" srcOrd="0" destOrd="0" presId="urn:microsoft.com/office/officeart/2005/8/layout/orgChart1"/>
    <dgm:cxn modelId="{A26826C8-6C9E-4C9E-9A3A-97FBA3D2ED60}" type="presParOf" srcId="{FC0BD271-6078-45DA-99C3-0DCFBBFA6DE1}" destId="{D74CDAA2-0C2C-410E-A145-35081FC44C8A}" srcOrd="1" destOrd="0" presId="urn:microsoft.com/office/officeart/2005/8/layout/orgChart1"/>
    <dgm:cxn modelId="{9D2B8710-310A-42D4-A849-24F80BD39705}" type="presParOf" srcId="{D74CDAA2-0C2C-410E-A145-35081FC44C8A}" destId="{CF6245F9-7C51-461A-8E57-20D2F0360FA6}" srcOrd="0" destOrd="0" presId="urn:microsoft.com/office/officeart/2005/8/layout/orgChart1"/>
    <dgm:cxn modelId="{47AD97AC-BDA9-4D08-87FC-9DD53BEB99C7}" type="presParOf" srcId="{CF6245F9-7C51-461A-8E57-20D2F0360FA6}" destId="{159E4DF3-CC3D-45A4-839E-A109E14176B7}" srcOrd="0" destOrd="0" presId="urn:microsoft.com/office/officeart/2005/8/layout/orgChart1"/>
    <dgm:cxn modelId="{F4D4F94E-4F2F-48D4-AFE3-635BAE5F43DC}" type="presParOf" srcId="{CF6245F9-7C51-461A-8E57-20D2F0360FA6}" destId="{FD0055ED-7F25-4D06-85E1-CEAEBF41B12E}" srcOrd="1" destOrd="0" presId="urn:microsoft.com/office/officeart/2005/8/layout/orgChart1"/>
    <dgm:cxn modelId="{79416873-8B19-4F0C-B334-F5EB269A0A25}" type="presParOf" srcId="{D74CDAA2-0C2C-410E-A145-35081FC44C8A}" destId="{D5591860-1D4D-49AE-948B-67FF91C96863}" srcOrd="1" destOrd="0" presId="urn:microsoft.com/office/officeart/2005/8/layout/orgChart1"/>
    <dgm:cxn modelId="{C2EA728F-B343-4F98-9F84-6AA386AF78A5}" type="presParOf" srcId="{D74CDAA2-0C2C-410E-A145-35081FC44C8A}" destId="{5569AC80-927F-4243-ABC3-45CD51F01042}" srcOrd="2" destOrd="0" presId="urn:microsoft.com/office/officeart/2005/8/layout/orgChart1"/>
    <dgm:cxn modelId="{E6D3EFF0-2642-4205-BB7E-37800CB14F8F}" type="presParOf" srcId="{FC0BD271-6078-45DA-99C3-0DCFBBFA6DE1}" destId="{BB6E6BFD-3730-40C7-9E25-D36F318D68B0}" srcOrd="2" destOrd="0" presId="urn:microsoft.com/office/officeart/2005/8/layout/orgChart1"/>
    <dgm:cxn modelId="{53798A39-4CD6-452D-A714-ABE02360793F}" type="presParOf" srcId="{FC0BD271-6078-45DA-99C3-0DCFBBFA6DE1}" destId="{3B05EF93-9AB3-4FEE-B472-6F72F13740ED}" srcOrd="3" destOrd="0" presId="urn:microsoft.com/office/officeart/2005/8/layout/orgChart1"/>
    <dgm:cxn modelId="{85167D24-2BC6-4CFA-BAAE-79A1912610FF}" type="presParOf" srcId="{3B05EF93-9AB3-4FEE-B472-6F72F13740ED}" destId="{B8FDC823-127A-45FF-8993-D4FA1B77F1C3}" srcOrd="0" destOrd="0" presId="urn:microsoft.com/office/officeart/2005/8/layout/orgChart1"/>
    <dgm:cxn modelId="{9FE92B76-F5ED-4A8F-A8B4-C4B84A404F01}" type="presParOf" srcId="{B8FDC823-127A-45FF-8993-D4FA1B77F1C3}" destId="{BDF84F1B-8074-4F7D-8E3F-41D75AE9840F}" srcOrd="0" destOrd="0" presId="urn:microsoft.com/office/officeart/2005/8/layout/orgChart1"/>
    <dgm:cxn modelId="{57963556-D356-45CC-996D-56DA8F20F154}" type="presParOf" srcId="{B8FDC823-127A-45FF-8993-D4FA1B77F1C3}" destId="{74605687-6601-4F9D-AEC8-6270894B1DB2}" srcOrd="1" destOrd="0" presId="urn:microsoft.com/office/officeart/2005/8/layout/orgChart1"/>
    <dgm:cxn modelId="{3D27D299-4623-4B66-9AB2-BC2B1B79751C}" type="presParOf" srcId="{3B05EF93-9AB3-4FEE-B472-6F72F13740ED}" destId="{53E04F7E-5BFF-42B8-9EE7-CD24D490FD16}" srcOrd="1" destOrd="0" presId="urn:microsoft.com/office/officeart/2005/8/layout/orgChart1"/>
    <dgm:cxn modelId="{CDC235A9-B2B4-4196-BF08-C904DF23A000}" type="presParOf" srcId="{3B05EF93-9AB3-4FEE-B472-6F72F13740ED}" destId="{6020AA4A-9AC3-459E-B3A1-6BB44DCA81C2}" srcOrd="2" destOrd="0" presId="urn:microsoft.com/office/officeart/2005/8/layout/orgChart1"/>
    <dgm:cxn modelId="{AC1CD10C-80E5-42C0-8DF2-E27DB3C0BE1C}" type="presParOf" srcId="{FC0BD271-6078-45DA-99C3-0DCFBBFA6DE1}" destId="{17FF04E9-D627-4F0A-9CBE-D3DEB7A4BE02}" srcOrd="4" destOrd="0" presId="urn:microsoft.com/office/officeart/2005/8/layout/orgChart1"/>
    <dgm:cxn modelId="{80F95350-495C-4DBB-9C2E-813A88112D80}" type="presParOf" srcId="{FC0BD271-6078-45DA-99C3-0DCFBBFA6DE1}" destId="{200C1CD9-047A-4CA4-9669-F514F5FFCC1C}" srcOrd="5" destOrd="0" presId="urn:microsoft.com/office/officeart/2005/8/layout/orgChart1"/>
    <dgm:cxn modelId="{59B93CAC-A2D8-4F67-80BE-F41C6D9E042F}" type="presParOf" srcId="{200C1CD9-047A-4CA4-9669-F514F5FFCC1C}" destId="{3035C4C8-F305-43CC-BB0F-8C8341541CD2}" srcOrd="0" destOrd="0" presId="urn:microsoft.com/office/officeart/2005/8/layout/orgChart1"/>
    <dgm:cxn modelId="{E07F297F-E598-4EDC-AACF-23868ED22F6E}" type="presParOf" srcId="{3035C4C8-F305-43CC-BB0F-8C8341541CD2}" destId="{B1B601B0-C5FB-4458-8449-AC43783046FB}" srcOrd="0" destOrd="0" presId="urn:microsoft.com/office/officeart/2005/8/layout/orgChart1"/>
    <dgm:cxn modelId="{A7A4F27E-072D-48B5-B55E-24A9A7FA57C8}" type="presParOf" srcId="{3035C4C8-F305-43CC-BB0F-8C8341541CD2}" destId="{EE35BFEE-3BAE-42C5-9740-054E2DE27A9B}" srcOrd="1" destOrd="0" presId="urn:microsoft.com/office/officeart/2005/8/layout/orgChart1"/>
    <dgm:cxn modelId="{B881C04F-58F3-4375-B9E4-09D9997E1747}" type="presParOf" srcId="{200C1CD9-047A-4CA4-9669-F514F5FFCC1C}" destId="{981EABE6-33F2-4F9F-836A-E4A68CC529BE}" srcOrd="1" destOrd="0" presId="urn:microsoft.com/office/officeart/2005/8/layout/orgChart1"/>
    <dgm:cxn modelId="{E001117A-F7BC-4038-9334-56184A34518F}" type="presParOf" srcId="{200C1CD9-047A-4CA4-9669-F514F5FFCC1C}" destId="{D99BE8E1-A550-49AD-9723-938D245B5C15}" srcOrd="2" destOrd="0" presId="urn:microsoft.com/office/officeart/2005/8/layout/orgChart1"/>
    <dgm:cxn modelId="{6DEAC936-3179-4C69-9631-78612CDFF693}" type="presParOf" srcId="{32C8C7EE-85EA-4B3B-AF24-A8EE5E2D1765}" destId="{585A7BA9-0DE4-4AE9-BEA0-C3DB55BED23B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950049A-6AED-4EE9-8944-F776FAAD23AD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0DDD35C-8829-4E83-B39B-5522A6E96F74}">
      <dgm:prSet phldrT="[Text]" custT="1"/>
      <dgm:spPr/>
      <dgm:t>
        <a:bodyPr/>
        <a:lstStyle/>
        <a:p>
          <a:r>
            <a:rPr lang="ru-RU" altLang="zh-CN" sz="4400" dirty="0" smtClean="0"/>
            <a:t>Формы </a:t>
          </a:r>
        </a:p>
        <a:p>
          <a:r>
            <a:rPr lang="ru-RU" altLang="zh-CN" sz="4400" dirty="0" smtClean="0"/>
            <a:t>Туберкулеза </a:t>
          </a:r>
        </a:p>
        <a:p>
          <a:r>
            <a:rPr lang="ru-RU" altLang="zh-CN" sz="4400" dirty="0" smtClean="0"/>
            <a:t>ВГЛУ</a:t>
          </a:r>
          <a:endParaRPr lang="zh-CN" altLang="en-US" sz="4400" dirty="0"/>
        </a:p>
      </dgm:t>
    </dgm:pt>
    <dgm:pt modelId="{884F1FAF-DD9B-42A6-8F7F-8CA189198E4E}" type="parTrans" cxnId="{D6586CA9-5942-48EF-B628-B59AA9829D89}">
      <dgm:prSet/>
      <dgm:spPr/>
      <dgm:t>
        <a:bodyPr/>
        <a:lstStyle/>
        <a:p>
          <a:endParaRPr lang="zh-CN" altLang="en-US"/>
        </a:p>
      </dgm:t>
    </dgm:pt>
    <dgm:pt modelId="{EC25DC31-5387-4A21-A88C-C97353F67CEE}" type="sibTrans" cxnId="{D6586CA9-5942-48EF-B628-B59AA9829D89}">
      <dgm:prSet/>
      <dgm:spPr/>
      <dgm:t>
        <a:bodyPr/>
        <a:lstStyle/>
        <a:p>
          <a:endParaRPr lang="zh-CN" altLang="en-US"/>
        </a:p>
      </dgm:t>
    </dgm:pt>
    <dgm:pt modelId="{9768344D-5371-4A86-90E2-DF7919B1E643}">
      <dgm:prSet phldrT="[Text]"/>
      <dgm:spPr/>
      <dgm:t>
        <a:bodyPr/>
        <a:lstStyle/>
        <a:p>
          <a:r>
            <a:rPr lang="ru-RU" altLang="zh-CN" dirty="0" smtClean="0"/>
            <a:t>Инфильтративная</a:t>
          </a:r>
          <a:endParaRPr lang="zh-CN" altLang="en-US" dirty="0"/>
        </a:p>
      </dgm:t>
    </dgm:pt>
    <dgm:pt modelId="{B52E3294-B0D0-4F0A-B766-8A431AFCD36A}" type="parTrans" cxnId="{2E4DC17B-6110-4B79-BF81-2B53650D6159}">
      <dgm:prSet/>
      <dgm:spPr/>
      <dgm:t>
        <a:bodyPr/>
        <a:lstStyle/>
        <a:p>
          <a:endParaRPr lang="zh-CN" altLang="en-US"/>
        </a:p>
      </dgm:t>
    </dgm:pt>
    <dgm:pt modelId="{B4D0B56E-CBDF-447E-BA55-4D0AD911D451}" type="sibTrans" cxnId="{2E4DC17B-6110-4B79-BF81-2B53650D6159}">
      <dgm:prSet/>
      <dgm:spPr/>
      <dgm:t>
        <a:bodyPr/>
        <a:lstStyle/>
        <a:p>
          <a:endParaRPr lang="zh-CN" altLang="en-US"/>
        </a:p>
      </dgm:t>
    </dgm:pt>
    <dgm:pt modelId="{A2F1E8C2-CDB7-419A-8C3B-1738173EDBB1}">
      <dgm:prSet phldrT="[Text]"/>
      <dgm:spPr/>
      <dgm:t>
        <a:bodyPr/>
        <a:lstStyle/>
        <a:p>
          <a:r>
            <a:rPr lang="ru-RU" altLang="zh-CN" dirty="0" smtClean="0"/>
            <a:t>Опухолевидная</a:t>
          </a:r>
          <a:endParaRPr lang="zh-CN" altLang="en-US" dirty="0"/>
        </a:p>
      </dgm:t>
    </dgm:pt>
    <dgm:pt modelId="{9E60FD86-EFCA-4BE9-ABA9-6CAACE237C99}" type="parTrans" cxnId="{F3307BAE-EDBE-4B0F-B019-73FCF5128CB9}">
      <dgm:prSet/>
      <dgm:spPr/>
      <dgm:t>
        <a:bodyPr/>
        <a:lstStyle/>
        <a:p>
          <a:endParaRPr lang="zh-CN" altLang="en-US"/>
        </a:p>
      </dgm:t>
    </dgm:pt>
    <dgm:pt modelId="{A4A69F46-1A80-4406-B4BB-87218420D0F7}" type="sibTrans" cxnId="{F3307BAE-EDBE-4B0F-B019-73FCF5128CB9}">
      <dgm:prSet/>
      <dgm:spPr/>
      <dgm:t>
        <a:bodyPr/>
        <a:lstStyle/>
        <a:p>
          <a:endParaRPr lang="zh-CN" altLang="en-US"/>
        </a:p>
      </dgm:t>
    </dgm:pt>
    <dgm:pt modelId="{70E72F47-04E3-4F97-BDD9-3E8D2622F41A}">
      <dgm:prSet phldrT="[Text]"/>
      <dgm:spPr/>
      <dgm:t>
        <a:bodyPr/>
        <a:lstStyle/>
        <a:p>
          <a:r>
            <a:rPr lang="ru-RU" altLang="zh-CN" dirty="0" smtClean="0"/>
            <a:t>Малые формы</a:t>
          </a:r>
          <a:endParaRPr lang="zh-CN" altLang="en-US" dirty="0"/>
        </a:p>
      </dgm:t>
    </dgm:pt>
    <dgm:pt modelId="{48191BFC-4871-41A4-9531-B853834FB4C7}" type="parTrans" cxnId="{D732F54B-DF26-42F4-A810-1A2137A12294}">
      <dgm:prSet/>
      <dgm:spPr/>
      <dgm:t>
        <a:bodyPr/>
        <a:lstStyle/>
        <a:p>
          <a:endParaRPr lang="zh-CN" altLang="en-US"/>
        </a:p>
      </dgm:t>
    </dgm:pt>
    <dgm:pt modelId="{035879C6-43E1-4207-AE56-D55F23DE9B39}" type="sibTrans" cxnId="{D732F54B-DF26-42F4-A810-1A2137A12294}">
      <dgm:prSet/>
      <dgm:spPr/>
      <dgm:t>
        <a:bodyPr/>
        <a:lstStyle/>
        <a:p>
          <a:endParaRPr lang="zh-CN" altLang="en-US"/>
        </a:p>
      </dgm:t>
    </dgm:pt>
    <dgm:pt modelId="{662F19D0-12C0-477F-98D6-EBC410C1871C}" type="pres">
      <dgm:prSet presAssocID="{4950049A-6AED-4EE9-8944-F776FAAD23AD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3172E5E6-F2F4-4D95-8F50-202D2A7B0566}" type="pres">
      <dgm:prSet presAssocID="{40DDD35C-8829-4E83-B39B-5522A6E96F74}" presName="hierRoot1" presStyleCnt="0">
        <dgm:presLayoutVars>
          <dgm:hierBranch val="init"/>
        </dgm:presLayoutVars>
      </dgm:prSet>
      <dgm:spPr/>
    </dgm:pt>
    <dgm:pt modelId="{04756021-8B8D-40DB-87CC-3C08A3FCD800}" type="pres">
      <dgm:prSet presAssocID="{40DDD35C-8829-4E83-B39B-5522A6E96F74}" presName="rootComposite1" presStyleCnt="0"/>
      <dgm:spPr/>
    </dgm:pt>
    <dgm:pt modelId="{2F85F1B5-8F2B-4203-8879-606CAF0A7326}" type="pres">
      <dgm:prSet presAssocID="{40DDD35C-8829-4E83-B39B-5522A6E96F74}" presName="rootText1" presStyleLbl="node0" presStyleIdx="0" presStyleCnt="1" custScaleX="167362" custScaleY="193872" custLinFactY="-40749" custLinFactNeighborX="-3445" custLinFactNeighborY="-100000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573C8C35-E18C-4962-B52E-D11F5BB0073F}" type="pres">
      <dgm:prSet presAssocID="{40DDD35C-8829-4E83-B39B-5522A6E96F74}" presName="rootConnector1" presStyleLbl="node1" presStyleIdx="0" presStyleCnt="0"/>
      <dgm:spPr/>
      <dgm:t>
        <a:bodyPr/>
        <a:lstStyle/>
        <a:p>
          <a:endParaRPr lang="zh-CN" altLang="en-US"/>
        </a:p>
      </dgm:t>
    </dgm:pt>
    <dgm:pt modelId="{1E5588B4-3F7B-4430-9D33-C5AEA2376EDC}" type="pres">
      <dgm:prSet presAssocID="{40DDD35C-8829-4E83-B39B-5522A6E96F74}" presName="hierChild2" presStyleCnt="0"/>
      <dgm:spPr/>
    </dgm:pt>
    <dgm:pt modelId="{81CD3E2A-DCB7-41D4-8503-4CD4E1CF99B2}" type="pres">
      <dgm:prSet presAssocID="{B52E3294-B0D0-4F0A-B766-8A431AFCD36A}" presName="Name37" presStyleLbl="parChTrans1D2" presStyleIdx="0" presStyleCnt="3"/>
      <dgm:spPr/>
      <dgm:t>
        <a:bodyPr/>
        <a:lstStyle/>
        <a:p>
          <a:endParaRPr lang="zh-CN" altLang="en-US"/>
        </a:p>
      </dgm:t>
    </dgm:pt>
    <dgm:pt modelId="{A8AE3083-108B-429D-A9EC-B8CA08AD17B3}" type="pres">
      <dgm:prSet presAssocID="{9768344D-5371-4A86-90E2-DF7919B1E643}" presName="hierRoot2" presStyleCnt="0">
        <dgm:presLayoutVars>
          <dgm:hierBranch val="init"/>
        </dgm:presLayoutVars>
      </dgm:prSet>
      <dgm:spPr/>
    </dgm:pt>
    <dgm:pt modelId="{C6BF69E2-3585-41B0-B861-6B60D74265F2}" type="pres">
      <dgm:prSet presAssocID="{9768344D-5371-4A86-90E2-DF7919B1E643}" presName="rootComposite" presStyleCnt="0"/>
      <dgm:spPr/>
    </dgm:pt>
    <dgm:pt modelId="{30C56AA1-1957-40E3-8428-F8DC4364B581}" type="pres">
      <dgm:prSet presAssocID="{9768344D-5371-4A86-90E2-DF7919B1E643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9492F137-F379-4D9D-B0B5-D583311270ED}" type="pres">
      <dgm:prSet presAssocID="{9768344D-5371-4A86-90E2-DF7919B1E643}" presName="rootConnector" presStyleLbl="node2" presStyleIdx="0" presStyleCnt="3"/>
      <dgm:spPr/>
      <dgm:t>
        <a:bodyPr/>
        <a:lstStyle/>
        <a:p>
          <a:endParaRPr lang="zh-CN" altLang="en-US"/>
        </a:p>
      </dgm:t>
    </dgm:pt>
    <dgm:pt modelId="{7D96C7B7-96DF-458E-9CA2-26A8DBF1E458}" type="pres">
      <dgm:prSet presAssocID="{9768344D-5371-4A86-90E2-DF7919B1E643}" presName="hierChild4" presStyleCnt="0"/>
      <dgm:spPr/>
    </dgm:pt>
    <dgm:pt modelId="{0CDF6B9C-1D85-4A6F-BED2-1E07A56CFA8F}" type="pres">
      <dgm:prSet presAssocID="{9768344D-5371-4A86-90E2-DF7919B1E643}" presName="hierChild5" presStyleCnt="0"/>
      <dgm:spPr/>
    </dgm:pt>
    <dgm:pt modelId="{2EFE5DA1-5508-4BF1-A1E6-FEE4FD9DDBA3}" type="pres">
      <dgm:prSet presAssocID="{9E60FD86-EFCA-4BE9-ABA9-6CAACE237C99}" presName="Name37" presStyleLbl="parChTrans1D2" presStyleIdx="1" presStyleCnt="3"/>
      <dgm:spPr/>
      <dgm:t>
        <a:bodyPr/>
        <a:lstStyle/>
        <a:p>
          <a:endParaRPr lang="zh-CN" altLang="en-US"/>
        </a:p>
      </dgm:t>
    </dgm:pt>
    <dgm:pt modelId="{7339EFB4-B222-4822-961B-A544FF46BE7F}" type="pres">
      <dgm:prSet presAssocID="{A2F1E8C2-CDB7-419A-8C3B-1738173EDBB1}" presName="hierRoot2" presStyleCnt="0">
        <dgm:presLayoutVars>
          <dgm:hierBranch val="init"/>
        </dgm:presLayoutVars>
      </dgm:prSet>
      <dgm:spPr/>
    </dgm:pt>
    <dgm:pt modelId="{2E2C06C3-FC05-4CAB-9519-F0BD389139F2}" type="pres">
      <dgm:prSet presAssocID="{A2F1E8C2-CDB7-419A-8C3B-1738173EDBB1}" presName="rootComposite" presStyleCnt="0"/>
      <dgm:spPr/>
    </dgm:pt>
    <dgm:pt modelId="{665CF310-B2FA-4224-998A-9F05023EA931}" type="pres">
      <dgm:prSet presAssocID="{A2F1E8C2-CDB7-419A-8C3B-1738173EDBB1}" presName="rootText" presStyleLbl="node2" presStyleIdx="1" presStyleCnt="3" custLinFactNeighborX="-1924" custLinFactNeighborY="318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7D91083E-ECF3-4D6B-9183-E0F2CB6C4199}" type="pres">
      <dgm:prSet presAssocID="{A2F1E8C2-CDB7-419A-8C3B-1738173EDBB1}" presName="rootConnector" presStyleLbl="node2" presStyleIdx="1" presStyleCnt="3"/>
      <dgm:spPr/>
      <dgm:t>
        <a:bodyPr/>
        <a:lstStyle/>
        <a:p>
          <a:endParaRPr lang="zh-CN" altLang="en-US"/>
        </a:p>
      </dgm:t>
    </dgm:pt>
    <dgm:pt modelId="{EB7CA14F-03C7-4421-B98F-670C9C08D2B1}" type="pres">
      <dgm:prSet presAssocID="{A2F1E8C2-CDB7-419A-8C3B-1738173EDBB1}" presName="hierChild4" presStyleCnt="0"/>
      <dgm:spPr/>
    </dgm:pt>
    <dgm:pt modelId="{B9E70C67-B53B-4FB4-939A-2B4722EECEBA}" type="pres">
      <dgm:prSet presAssocID="{A2F1E8C2-CDB7-419A-8C3B-1738173EDBB1}" presName="hierChild5" presStyleCnt="0"/>
      <dgm:spPr/>
    </dgm:pt>
    <dgm:pt modelId="{59572EF5-D792-48F8-B2B2-247D65B662BF}" type="pres">
      <dgm:prSet presAssocID="{48191BFC-4871-41A4-9531-B853834FB4C7}" presName="Name37" presStyleLbl="parChTrans1D2" presStyleIdx="2" presStyleCnt="3"/>
      <dgm:spPr/>
      <dgm:t>
        <a:bodyPr/>
        <a:lstStyle/>
        <a:p>
          <a:endParaRPr lang="zh-CN" altLang="en-US"/>
        </a:p>
      </dgm:t>
    </dgm:pt>
    <dgm:pt modelId="{DE544AF9-3840-4F13-A945-F90976FBF064}" type="pres">
      <dgm:prSet presAssocID="{70E72F47-04E3-4F97-BDD9-3E8D2622F41A}" presName="hierRoot2" presStyleCnt="0">
        <dgm:presLayoutVars>
          <dgm:hierBranch val="init"/>
        </dgm:presLayoutVars>
      </dgm:prSet>
      <dgm:spPr/>
    </dgm:pt>
    <dgm:pt modelId="{3A1CAA3D-390A-4409-A372-CD2897621959}" type="pres">
      <dgm:prSet presAssocID="{70E72F47-04E3-4F97-BDD9-3E8D2622F41A}" presName="rootComposite" presStyleCnt="0"/>
      <dgm:spPr/>
    </dgm:pt>
    <dgm:pt modelId="{3377B85C-A5B5-4DC9-865E-2782011AC2EE}" type="pres">
      <dgm:prSet presAssocID="{70E72F47-04E3-4F97-BDD9-3E8D2622F41A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ECECB074-B35C-487E-ACD7-6672C662FEC0}" type="pres">
      <dgm:prSet presAssocID="{70E72F47-04E3-4F97-BDD9-3E8D2622F41A}" presName="rootConnector" presStyleLbl="node2" presStyleIdx="2" presStyleCnt="3"/>
      <dgm:spPr/>
      <dgm:t>
        <a:bodyPr/>
        <a:lstStyle/>
        <a:p>
          <a:endParaRPr lang="zh-CN" altLang="en-US"/>
        </a:p>
      </dgm:t>
    </dgm:pt>
    <dgm:pt modelId="{A097A283-E4F5-41E7-A611-F384CDD860B1}" type="pres">
      <dgm:prSet presAssocID="{70E72F47-04E3-4F97-BDD9-3E8D2622F41A}" presName="hierChild4" presStyleCnt="0"/>
      <dgm:spPr/>
    </dgm:pt>
    <dgm:pt modelId="{380FBC59-6824-4025-95BD-665ED1CB1B80}" type="pres">
      <dgm:prSet presAssocID="{70E72F47-04E3-4F97-BDD9-3E8D2622F41A}" presName="hierChild5" presStyleCnt="0"/>
      <dgm:spPr/>
    </dgm:pt>
    <dgm:pt modelId="{5D9B3C50-E3C7-4163-8858-26EB120B73D4}" type="pres">
      <dgm:prSet presAssocID="{40DDD35C-8829-4E83-B39B-5522A6E96F74}" presName="hierChild3" presStyleCnt="0"/>
      <dgm:spPr/>
    </dgm:pt>
  </dgm:ptLst>
  <dgm:cxnLst>
    <dgm:cxn modelId="{A2E071C9-8040-4438-B813-D7736B9E31B7}" type="presOf" srcId="{40DDD35C-8829-4E83-B39B-5522A6E96F74}" destId="{573C8C35-E18C-4962-B52E-D11F5BB0073F}" srcOrd="1" destOrd="0" presId="urn:microsoft.com/office/officeart/2005/8/layout/orgChart1"/>
    <dgm:cxn modelId="{86F0D37A-035F-4EDD-BE59-608686123FA8}" type="presOf" srcId="{70E72F47-04E3-4F97-BDD9-3E8D2622F41A}" destId="{3377B85C-A5B5-4DC9-865E-2782011AC2EE}" srcOrd="0" destOrd="0" presId="urn:microsoft.com/office/officeart/2005/8/layout/orgChart1"/>
    <dgm:cxn modelId="{F3307BAE-EDBE-4B0F-B019-73FCF5128CB9}" srcId="{40DDD35C-8829-4E83-B39B-5522A6E96F74}" destId="{A2F1E8C2-CDB7-419A-8C3B-1738173EDBB1}" srcOrd="1" destOrd="0" parTransId="{9E60FD86-EFCA-4BE9-ABA9-6CAACE237C99}" sibTransId="{A4A69F46-1A80-4406-B4BB-87218420D0F7}"/>
    <dgm:cxn modelId="{ED3EECC9-4C02-4E33-8417-ABAE2132FEB3}" type="presOf" srcId="{A2F1E8C2-CDB7-419A-8C3B-1738173EDBB1}" destId="{7D91083E-ECF3-4D6B-9183-E0F2CB6C4199}" srcOrd="1" destOrd="0" presId="urn:microsoft.com/office/officeart/2005/8/layout/orgChart1"/>
    <dgm:cxn modelId="{C8EEE802-D71D-4025-8FA2-64867F5A4C77}" type="presOf" srcId="{48191BFC-4871-41A4-9531-B853834FB4C7}" destId="{59572EF5-D792-48F8-B2B2-247D65B662BF}" srcOrd="0" destOrd="0" presId="urn:microsoft.com/office/officeart/2005/8/layout/orgChart1"/>
    <dgm:cxn modelId="{9F9AC192-DE2B-4292-8829-CB659F70394E}" type="presOf" srcId="{A2F1E8C2-CDB7-419A-8C3B-1738173EDBB1}" destId="{665CF310-B2FA-4224-998A-9F05023EA931}" srcOrd="0" destOrd="0" presId="urn:microsoft.com/office/officeart/2005/8/layout/orgChart1"/>
    <dgm:cxn modelId="{7B20C587-DDC2-4192-A030-C0ACD4465285}" type="presOf" srcId="{9768344D-5371-4A86-90E2-DF7919B1E643}" destId="{9492F137-F379-4D9D-B0B5-D583311270ED}" srcOrd="1" destOrd="0" presId="urn:microsoft.com/office/officeart/2005/8/layout/orgChart1"/>
    <dgm:cxn modelId="{D732F54B-DF26-42F4-A810-1A2137A12294}" srcId="{40DDD35C-8829-4E83-B39B-5522A6E96F74}" destId="{70E72F47-04E3-4F97-BDD9-3E8D2622F41A}" srcOrd="2" destOrd="0" parTransId="{48191BFC-4871-41A4-9531-B853834FB4C7}" sibTransId="{035879C6-43E1-4207-AE56-D55F23DE9B39}"/>
    <dgm:cxn modelId="{8632FBF5-68BD-4A2B-9CB3-079FB6D97045}" type="presOf" srcId="{4950049A-6AED-4EE9-8944-F776FAAD23AD}" destId="{662F19D0-12C0-477F-98D6-EBC410C1871C}" srcOrd="0" destOrd="0" presId="urn:microsoft.com/office/officeart/2005/8/layout/orgChart1"/>
    <dgm:cxn modelId="{31322B4F-2FC8-4349-BA24-CA3EF55ACD1E}" type="presOf" srcId="{9768344D-5371-4A86-90E2-DF7919B1E643}" destId="{30C56AA1-1957-40E3-8428-F8DC4364B581}" srcOrd="0" destOrd="0" presId="urn:microsoft.com/office/officeart/2005/8/layout/orgChart1"/>
    <dgm:cxn modelId="{D6586CA9-5942-48EF-B628-B59AA9829D89}" srcId="{4950049A-6AED-4EE9-8944-F776FAAD23AD}" destId="{40DDD35C-8829-4E83-B39B-5522A6E96F74}" srcOrd="0" destOrd="0" parTransId="{884F1FAF-DD9B-42A6-8F7F-8CA189198E4E}" sibTransId="{EC25DC31-5387-4A21-A88C-C97353F67CEE}"/>
    <dgm:cxn modelId="{25A4061E-CE33-439B-AD23-06FFEFB5E595}" type="presOf" srcId="{B52E3294-B0D0-4F0A-B766-8A431AFCD36A}" destId="{81CD3E2A-DCB7-41D4-8503-4CD4E1CF99B2}" srcOrd="0" destOrd="0" presId="urn:microsoft.com/office/officeart/2005/8/layout/orgChart1"/>
    <dgm:cxn modelId="{BD914B79-EC17-4BC0-B6F8-75CF09172829}" type="presOf" srcId="{40DDD35C-8829-4E83-B39B-5522A6E96F74}" destId="{2F85F1B5-8F2B-4203-8879-606CAF0A7326}" srcOrd="0" destOrd="0" presId="urn:microsoft.com/office/officeart/2005/8/layout/orgChart1"/>
    <dgm:cxn modelId="{AE8BAE0D-A2E2-489E-8F8E-2DA7A26B44E1}" type="presOf" srcId="{9E60FD86-EFCA-4BE9-ABA9-6CAACE237C99}" destId="{2EFE5DA1-5508-4BF1-A1E6-FEE4FD9DDBA3}" srcOrd="0" destOrd="0" presId="urn:microsoft.com/office/officeart/2005/8/layout/orgChart1"/>
    <dgm:cxn modelId="{2E4DC17B-6110-4B79-BF81-2B53650D6159}" srcId="{40DDD35C-8829-4E83-B39B-5522A6E96F74}" destId="{9768344D-5371-4A86-90E2-DF7919B1E643}" srcOrd="0" destOrd="0" parTransId="{B52E3294-B0D0-4F0A-B766-8A431AFCD36A}" sibTransId="{B4D0B56E-CBDF-447E-BA55-4D0AD911D451}"/>
    <dgm:cxn modelId="{0F1CD75E-0D98-4B9E-8DF8-3E70243789DF}" type="presOf" srcId="{70E72F47-04E3-4F97-BDD9-3E8D2622F41A}" destId="{ECECB074-B35C-487E-ACD7-6672C662FEC0}" srcOrd="1" destOrd="0" presId="urn:microsoft.com/office/officeart/2005/8/layout/orgChart1"/>
    <dgm:cxn modelId="{50A7C142-4E7D-47D6-9BE4-D7A4CD02B535}" type="presParOf" srcId="{662F19D0-12C0-477F-98D6-EBC410C1871C}" destId="{3172E5E6-F2F4-4D95-8F50-202D2A7B0566}" srcOrd="0" destOrd="0" presId="urn:microsoft.com/office/officeart/2005/8/layout/orgChart1"/>
    <dgm:cxn modelId="{618523A7-FCDF-4479-BB06-1B8C45B14422}" type="presParOf" srcId="{3172E5E6-F2F4-4D95-8F50-202D2A7B0566}" destId="{04756021-8B8D-40DB-87CC-3C08A3FCD800}" srcOrd="0" destOrd="0" presId="urn:microsoft.com/office/officeart/2005/8/layout/orgChart1"/>
    <dgm:cxn modelId="{73A0126A-2B60-4B0D-993A-679F51783FAC}" type="presParOf" srcId="{04756021-8B8D-40DB-87CC-3C08A3FCD800}" destId="{2F85F1B5-8F2B-4203-8879-606CAF0A7326}" srcOrd="0" destOrd="0" presId="urn:microsoft.com/office/officeart/2005/8/layout/orgChart1"/>
    <dgm:cxn modelId="{13BDAB9F-EA53-44DD-BED2-329DAB0F688E}" type="presParOf" srcId="{04756021-8B8D-40DB-87CC-3C08A3FCD800}" destId="{573C8C35-E18C-4962-B52E-D11F5BB0073F}" srcOrd="1" destOrd="0" presId="urn:microsoft.com/office/officeart/2005/8/layout/orgChart1"/>
    <dgm:cxn modelId="{1EC0E871-D106-442B-87FE-519A66D4C777}" type="presParOf" srcId="{3172E5E6-F2F4-4D95-8F50-202D2A7B0566}" destId="{1E5588B4-3F7B-4430-9D33-C5AEA2376EDC}" srcOrd="1" destOrd="0" presId="urn:microsoft.com/office/officeart/2005/8/layout/orgChart1"/>
    <dgm:cxn modelId="{194357CC-9EE6-496D-B737-42C7C913B3C4}" type="presParOf" srcId="{1E5588B4-3F7B-4430-9D33-C5AEA2376EDC}" destId="{81CD3E2A-DCB7-41D4-8503-4CD4E1CF99B2}" srcOrd="0" destOrd="0" presId="urn:microsoft.com/office/officeart/2005/8/layout/orgChart1"/>
    <dgm:cxn modelId="{3A2C6505-EBB2-4CF7-A71D-1B0410FC9225}" type="presParOf" srcId="{1E5588B4-3F7B-4430-9D33-C5AEA2376EDC}" destId="{A8AE3083-108B-429D-A9EC-B8CA08AD17B3}" srcOrd="1" destOrd="0" presId="urn:microsoft.com/office/officeart/2005/8/layout/orgChart1"/>
    <dgm:cxn modelId="{C0EFA39F-DAB9-420E-94BE-291E23D1683C}" type="presParOf" srcId="{A8AE3083-108B-429D-A9EC-B8CA08AD17B3}" destId="{C6BF69E2-3585-41B0-B861-6B60D74265F2}" srcOrd="0" destOrd="0" presId="urn:microsoft.com/office/officeart/2005/8/layout/orgChart1"/>
    <dgm:cxn modelId="{6408D124-AD71-4D22-A9DE-CDDBFD3674E2}" type="presParOf" srcId="{C6BF69E2-3585-41B0-B861-6B60D74265F2}" destId="{30C56AA1-1957-40E3-8428-F8DC4364B581}" srcOrd="0" destOrd="0" presId="urn:microsoft.com/office/officeart/2005/8/layout/orgChart1"/>
    <dgm:cxn modelId="{8358EA4C-8E5B-4CD2-A3D9-FC0E73B7DCD6}" type="presParOf" srcId="{C6BF69E2-3585-41B0-B861-6B60D74265F2}" destId="{9492F137-F379-4D9D-B0B5-D583311270ED}" srcOrd="1" destOrd="0" presId="urn:microsoft.com/office/officeart/2005/8/layout/orgChart1"/>
    <dgm:cxn modelId="{CD2FE648-A6ED-4B6A-8FC6-2DD7C8734087}" type="presParOf" srcId="{A8AE3083-108B-429D-A9EC-B8CA08AD17B3}" destId="{7D96C7B7-96DF-458E-9CA2-26A8DBF1E458}" srcOrd="1" destOrd="0" presId="urn:microsoft.com/office/officeart/2005/8/layout/orgChart1"/>
    <dgm:cxn modelId="{1808C7C5-EFA2-4A71-B961-FD36D691371B}" type="presParOf" srcId="{A8AE3083-108B-429D-A9EC-B8CA08AD17B3}" destId="{0CDF6B9C-1D85-4A6F-BED2-1E07A56CFA8F}" srcOrd="2" destOrd="0" presId="urn:microsoft.com/office/officeart/2005/8/layout/orgChart1"/>
    <dgm:cxn modelId="{ECAC4284-131F-4D6A-BFFE-1886F7B697EE}" type="presParOf" srcId="{1E5588B4-3F7B-4430-9D33-C5AEA2376EDC}" destId="{2EFE5DA1-5508-4BF1-A1E6-FEE4FD9DDBA3}" srcOrd="2" destOrd="0" presId="urn:microsoft.com/office/officeart/2005/8/layout/orgChart1"/>
    <dgm:cxn modelId="{3D45C12F-5E69-4B00-B4DA-0300BA6BBBCC}" type="presParOf" srcId="{1E5588B4-3F7B-4430-9D33-C5AEA2376EDC}" destId="{7339EFB4-B222-4822-961B-A544FF46BE7F}" srcOrd="3" destOrd="0" presId="urn:microsoft.com/office/officeart/2005/8/layout/orgChart1"/>
    <dgm:cxn modelId="{318BA7BE-EACC-46FB-893A-D6D5C883613E}" type="presParOf" srcId="{7339EFB4-B222-4822-961B-A544FF46BE7F}" destId="{2E2C06C3-FC05-4CAB-9519-F0BD389139F2}" srcOrd="0" destOrd="0" presId="urn:microsoft.com/office/officeart/2005/8/layout/orgChart1"/>
    <dgm:cxn modelId="{8908BC03-3278-45E5-915D-9F6AF46149CA}" type="presParOf" srcId="{2E2C06C3-FC05-4CAB-9519-F0BD389139F2}" destId="{665CF310-B2FA-4224-998A-9F05023EA931}" srcOrd="0" destOrd="0" presId="urn:microsoft.com/office/officeart/2005/8/layout/orgChart1"/>
    <dgm:cxn modelId="{4CAB5D3F-7BE5-46A6-B181-A3FEE19B3848}" type="presParOf" srcId="{2E2C06C3-FC05-4CAB-9519-F0BD389139F2}" destId="{7D91083E-ECF3-4D6B-9183-E0F2CB6C4199}" srcOrd="1" destOrd="0" presId="urn:microsoft.com/office/officeart/2005/8/layout/orgChart1"/>
    <dgm:cxn modelId="{DAFC5743-1A06-49AF-A4ED-2591214A5037}" type="presParOf" srcId="{7339EFB4-B222-4822-961B-A544FF46BE7F}" destId="{EB7CA14F-03C7-4421-B98F-670C9C08D2B1}" srcOrd="1" destOrd="0" presId="urn:microsoft.com/office/officeart/2005/8/layout/orgChart1"/>
    <dgm:cxn modelId="{CF48E153-DAC7-4AB3-B863-8996D5A5B922}" type="presParOf" srcId="{7339EFB4-B222-4822-961B-A544FF46BE7F}" destId="{B9E70C67-B53B-4FB4-939A-2B4722EECEBA}" srcOrd="2" destOrd="0" presId="urn:microsoft.com/office/officeart/2005/8/layout/orgChart1"/>
    <dgm:cxn modelId="{B4DF47A6-C547-4ECA-BB3C-1EB08DB1355A}" type="presParOf" srcId="{1E5588B4-3F7B-4430-9D33-C5AEA2376EDC}" destId="{59572EF5-D792-48F8-B2B2-247D65B662BF}" srcOrd="4" destOrd="0" presId="urn:microsoft.com/office/officeart/2005/8/layout/orgChart1"/>
    <dgm:cxn modelId="{98FF3488-973A-4C95-A0C4-81248C3CABD0}" type="presParOf" srcId="{1E5588B4-3F7B-4430-9D33-C5AEA2376EDC}" destId="{DE544AF9-3840-4F13-A945-F90976FBF064}" srcOrd="5" destOrd="0" presId="urn:microsoft.com/office/officeart/2005/8/layout/orgChart1"/>
    <dgm:cxn modelId="{7C5C871B-2326-4893-85F7-64CCCA7C133A}" type="presParOf" srcId="{DE544AF9-3840-4F13-A945-F90976FBF064}" destId="{3A1CAA3D-390A-4409-A372-CD2897621959}" srcOrd="0" destOrd="0" presId="urn:microsoft.com/office/officeart/2005/8/layout/orgChart1"/>
    <dgm:cxn modelId="{2C30967F-0C48-4203-8012-6FD16AA28F77}" type="presParOf" srcId="{3A1CAA3D-390A-4409-A372-CD2897621959}" destId="{3377B85C-A5B5-4DC9-865E-2782011AC2EE}" srcOrd="0" destOrd="0" presId="urn:microsoft.com/office/officeart/2005/8/layout/orgChart1"/>
    <dgm:cxn modelId="{07C0279F-018F-464E-9D69-4D97A50AB033}" type="presParOf" srcId="{3A1CAA3D-390A-4409-A372-CD2897621959}" destId="{ECECB074-B35C-487E-ACD7-6672C662FEC0}" srcOrd="1" destOrd="0" presId="urn:microsoft.com/office/officeart/2005/8/layout/orgChart1"/>
    <dgm:cxn modelId="{144818B4-CAB9-4350-A053-D63AE87F20E6}" type="presParOf" srcId="{DE544AF9-3840-4F13-A945-F90976FBF064}" destId="{A097A283-E4F5-41E7-A611-F384CDD860B1}" srcOrd="1" destOrd="0" presId="urn:microsoft.com/office/officeart/2005/8/layout/orgChart1"/>
    <dgm:cxn modelId="{300FB4A6-AC36-4FC4-92EE-BA16777E6BF5}" type="presParOf" srcId="{DE544AF9-3840-4F13-A945-F90976FBF064}" destId="{380FBC59-6824-4025-95BD-665ED1CB1B80}" srcOrd="2" destOrd="0" presId="urn:microsoft.com/office/officeart/2005/8/layout/orgChart1"/>
    <dgm:cxn modelId="{1BFD496B-C672-4235-B9B2-759A65FE56CC}" type="presParOf" srcId="{3172E5E6-F2F4-4D95-8F50-202D2A7B0566}" destId="{5D9B3C50-E3C7-4163-8858-26EB120B73D4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7FF04E9-D627-4F0A-9CBE-D3DEB7A4BE02}">
      <dsp:nvSpPr>
        <dsp:cNvPr id="0" name=""/>
        <dsp:cNvSpPr/>
      </dsp:nvSpPr>
      <dsp:spPr>
        <a:xfrm>
          <a:off x="4060520" y="2380476"/>
          <a:ext cx="2966082" cy="178595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33327"/>
              </a:lnTo>
              <a:lnTo>
                <a:pt x="2966082" y="1533327"/>
              </a:lnTo>
              <a:lnTo>
                <a:pt x="2966082" y="178595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B6E6BFD-3730-40C7-9E25-D36F318D68B0}">
      <dsp:nvSpPr>
        <dsp:cNvPr id="0" name=""/>
        <dsp:cNvSpPr/>
      </dsp:nvSpPr>
      <dsp:spPr>
        <a:xfrm>
          <a:off x="4014800" y="2380476"/>
          <a:ext cx="91440" cy="185739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1604761"/>
              </a:lnTo>
              <a:lnTo>
                <a:pt x="117153" y="1604761"/>
              </a:lnTo>
              <a:lnTo>
                <a:pt x="117153" y="185739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3FD8521-F66F-49E8-AA3D-10859FCEB9BA}">
      <dsp:nvSpPr>
        <dsp:cNvPr id="0" name=""/>
        <dsp:cNvSpPr/>
      </dsp:nvSpPr>
      <dsp:spPr>
        <a:xfrm>
          <a:off x="1202996" y="2380476"/>
          <a:ext cx="2857524" cy="2000270"/>
        </a:xfrm>
        <a:custGeom>
          <a:avLst/>
          <a:gdLst/>
          <a:ahLst/>
          <a:cxnLst/>
          <a:rect l="0" t="0" r="0" b="0"/>
          <a:pathLst>
            <a:path>
              <a:moveTo>
                <a:pt x="2857524" y="0"/>
              </a:moveTo>
              <a:lnTo>
                <a:pt x="2857524" y="1747640"/>
              </a:lnTo>
              <a:lnTo>
                <a:pt x="0" y="1747640"/>
              </a:lnTo>
              <a:lnTo>
                <a:pt x="0" y="200027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B097E6-E451-44F7-AB2D-A8A8D8C0EB90}">
      <dsp:nvSpPr>
        <dsp:cNvPr id="0" name=""/>
        <dsp:cNvSpPr/>
      </dsp:nvSpPr>
      <dsp:spPr>
        <a:xfrm>
          <a:off x="1785955" y="54651"/>
          <a:ext cx="4549130" cy="2325824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altLang="zh-CN" sz="4000" kern="1200" dirty="0" smtClean="0"/>
            <a:t>Первичный туберкулез</a:t>
          </a:r>
          <a:endParaRPr lang="zh-CN" altLang="en-US" sz="4000" kern="1200" dirty="0"/>
        </a:p>
      </dsp:txBody>
      <dsp:txXfrm>
        <a:off x="1785955" y="54651"/>
        <a:ext cx="4549130" cy="2325824"/>
      </dsp:txXfrm>
    </dsp:sp>
    <dsp:sp modelId="{159E4DF3-CC3D-45A4-839E-A109E14176B7}">
      <dsp:nvSpPr>
        <dsp:cNvPr id="0" name=""/>
        <dsp:cNvSpPr/>
      </dsp:nvSpPr>
      <dsp:spPr>
        <a:xfrm>
          <a:off x="0" y="4380746"/>
          <a:ext cx="2405992" cy="120299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335" tIns="13335" rIns="13335" bIns="13335" numCol="1" spcCol="1270" anchor="ctr" anchorCtr="0">
          <a:noAutofit/>
        </a:bodyPr>
        <a:lstStyle/>
        <a:p>
          <a:pPr lvl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altLang="zh-CN" sz="2100" kern="1200" dirty="0" smtClean="0"/>
            <a:t>Первичный туберкулезный комплекс</a:t>
          </a:r>
          <a:endParaRPr lang="zh-CN" altLang="en-US" sz="2100" kern="1200" dirty="0"/>
        </a:p>
      </dsp:txBody>
      <dsp:txXfrm>
        <a:off x="0" y="4380746"/>
        <a:ext cx="2405992" cy="1202996"/>
      </dsp:txXfrm>
    </dsp:sp>
    <dsp:sp modelId="{BDF84F1B-8074-4F7D-8E3F-41D75AE9840F}">
      <dsp:nvSpPr>
        <dsp:cNvPr id="0" name=""/>
        <dsp:cNvSpPr/>
      </dsp:nvSpPr>
      <dsp:spPr>
        <a:xfrm>
          <a:off x="2928958" y="4237866"/>
          <a:ext cx="2405992" cy="120299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335" tIns="13335" rIns="13335" bIns="13335" numCol="1" spcCol="1270" anchor="ctr" anchorCtr="0">
          <a:noAutofit/>
        </a:bodyPr>
        <a:lstStyle/>
        <a:p>
          <a:pPr lvl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altLang="zh-CN" sz="2100" kern="1200" dirty="0" smtClean="0"/>
            <a:t>Туберкулезная интоксикация</a:t>
          </a:r>
          <a:endParaRPr lang="zh-CN" altLang="en-US" sz="2100" kern="1200" dirty="0"/>
        </a:p>
      </dsp:txBody>
      <dsp:txXfrm>
        <a:off x="2928958" y="4237866"/>
        <a:ext cx="2405992" cy="1202996"/>
      </dsp:txXfrm>
    </dsp:sp>
    <dsp:sp modelId="{B1B601B0-C5FB-4458-8449-AC43783046FB}">
      <dsp:nvSpPr>
        <dsp:cNvPr id="0" name=""/>
        <dsp:cNvSpPr/>
      </dsp:nvSpPr>
      <dsp:spPr>
        <a:xfrm>
          <a:off x="5823607" y="4166432"/>
          <a:ext cx="2405992" cy="120299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335" tIns="13335" rIns="13335" bIns="13335" numCol="1" spcCol="1270" anchor="ctr" anchorCtr="0">
          <a:noAutofit/>
        </a:bodyPr>
        <a:lstStyle/>
        <a:p>
          <a:pPr lvl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altLang="zh-CN" sz="2100" kern="1200" dirty="0" smtClean="0"/>
            <a:t>Туберкулез внутригрудных лимфатических узлов</a:t>
          </a:r>
          <a:endParaRPr lang="zh-CN" altLang="en-US" sz="2100" kern="1200" dirty="0"/>
        </a:p>
      </dsp:txBody>
      <dsp:txXfrm>
        <a:off x="5823607" y="4166432"/>
        <a:ext cx="2405992" cy="120299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5E5-9EE7-4319-8BC9-0ECB9A66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6C5-A4B3-4545-811A-C2B8B78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2CC-04D2-408D-B0E7-BE4EDBCA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B3A-1849-497E-A0C8-188AA6E8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440-8429-4FDC-9D3F-CA4C9051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31F-D058-47DE-AE76-B6D1403F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CD48-B326-4E38-AE1F-BCB7B55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E46-F585-4F3F-9990-A0A1D18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345E-F5E2-4115-86EE-6F104B0A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8E30-4673-4794-A6BB-3AD82900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15C-6BCD-44E7-832B-C7B66ABB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2E8-28EB-4749-B63E-04CC26E6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BE1-8FCC-40BB-9CD0-16675C3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12A0-27AE-4DC3-A1F9-F960383F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3F1E-822D-4045-A2A3-7215317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2916-9F7D-4BAE-A31E-A606488B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0D8-AF83-46C7-965A-5EB596AE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F3A-ABCF-4CC6-9EEF-C7162A07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939-6D2E-4B92-9DDA-61C4409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16E-DB67-4757-B0CC-4D5FDE48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862-2041-45CD-BE22-FF0914B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5D6-8D55-4526-868F-4E6A59D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B69-6386-433F-9870-D303DB19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6F9-0A3D-43E2-8C07-D5CF758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kk-KZ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A6D089-7399-4D97-B2C3-FB3097283A7E}" type="slidenum">
              <a:rPr b="0" lang="kk-KZ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kk-KZ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12735-1702-4C13-9B82-0827D6989399}" type="slidenum">
              <a:rPr b="0" lang="kk-KZ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851240" cy="3384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kk-KZ" sz="2800" spc="-1" strike="noStrike">
                <a:solidFill>
                  <a:srgbClr val="50e0ea"/>
                </a:solidFill>
                <a:latin typeface="Times New Roman"/>
              </a:rPr>
              <a:t>АО </a:t>
            </a:r>
            <a:r>
              <a:rPr b="1" lang="ru-RU" sz="2800" spc="-1" strike="noStrike">
                <a:solidFill>
                  <a:srgbClr val="50e0ea"/>
                </a:solidFill>
                <a:latin typeface="Times New Roman"/>
              </a:rPr>
              <a:t>«Медицинский Университет Астана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5300" spc="-1" strike="noStrike">
                <a:solidFill>
                  <a:srgbClr val="ff0000"/>
                </a:solidFill>
                <a:latin typeface="Times New Roman"/>
              </a:rPr>
              <a:t>Туберкулез внутригрудных лимфатических узлов</a:t>
            </a:r>
            <a:endParaRPr b="0" lang="ru-RU" sz="5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0040" y="3789000"/>
            <a:ext cx="8286480" cy="27115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Жалиева С. 403-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верила: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Досхожина Г.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стана , 2014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Инфильтративная форм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36428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обладает гиперплазия ткани лимфатических узлов с незначительным некрозом и развитием инфильтративных изменений в прилегающей легочной ткан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Рисунок 3" descr="slide_3.jpg"/>
          <p:cNvPicPr/>
          <p:nvPr/>
        </p:nvPicPr>
        <p:blipFill>
          <a:blip r:embed="rId1"/>
          <a:stretch/>
        </p:blipFill>
        <p:spPr>
          <a:xfrm>
            <a:off x="3571920" y="1500120"/>
            <a:ext cx="5357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slide_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Опухолевидна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мфоидная ткань замещается казеозом, воспалительный процесс не выходит за пределы капсулы лимфатического узла. Узел увеличивается до значительных размеров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уморозный бронхоадени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начинается подостро или остро и сопровождается выраженными симптомами интоксикации и признаками сдавления увеличенными лимфатическими узлами органов средостения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Малые формы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начительное увеличение внутригрудных лимфатических узлов (0,5-1,5см). Не выраженные клинические и рентгенологические признаки. Рентгендиагностика этой формы в фазе инфильтрации возможна лишь по непрямым признак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обзорной рентгенограмме легких и томограммах тень корня незначительно расширена, малоструктурна, наружный контур размыт, тень промежуточного бронха определяется не четко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Клини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уберкулез ВГЛУ обусловлены формой туберкулезного воспаления, локализацией и объемом поражения. Температура тела при инфильтративной и опухолевидной формах повышается вплоть до 38-39. У детей проявляется «беспричинная» потливость  в ночное время у детей раннего возраста сухой битональный каш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Рисунок 3" descr="slide_1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Диагности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В анамнезе более чем у половины заболевших удаетс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наружить источник заражения и выявить контакт с туберкулезным больным в семье, среди родственников, знакомых, друз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уберкулинодиагности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проба Манту с 2 ТЕ ППДЛ — положительная (папула 5 мм и более) или гиперергическая (папула 17 мм и более или возникновение везикулы и некроза на месте введения туберкулина)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 микробиологическом исследовании мокро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мывных вод желудка и бронх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методом бактериоскопии и посева МБТ находят крайне редко — не более чем в 3% случаев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ой способ распознавания туберкулеза внутригрудных лимфатических уз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— рентгенотомографический; весьма информативна КТ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6_33.gif"/>
          <p:cNvPicPr/>
          <p:nvPr/>
        </p:nvPicPr>
        <p:blipFill>
          <a:blip r:embed="rId1"/>
          <a:stretch/>
        </p:blipFill>
        <p:spPr>
          <a:xfrm>
            <a:off x="0" y="1000080"/>
            <a:ext cx="914364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общем клиническом анализе кров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отмечаются умеренный лейкоцитоз, эозинофилия, сдвиг нейтрофилов влево (увеличение палочкоядерных элементов), лимфоцитопения, моноцитоз, умеренное увеличение СОЭ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хоскоп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проводят при наличии симптомов, подозрительных на туберкулез бронхов, и при дифференциальной диагностик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ифференциальную диагностику туберкулеза внутригрудных лимфатических уз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проводят с патологическими изменениями в области средостения нетуберкулезной этиологии — неспецифической гиперплазией внутригрудных лимфатических узлов, опухолями и кистами вилочковой железы, дермоидными кистами и тератомами, саркоидозом, лимфогранулематозом, лимфолейкозом, неспецифическими аденопатиями при кори, коклюше, вирусных инфекциях, невриномой, опухолями пищевода, бронхоэнтерогенными кистами и другими заболеваниям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Леч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47145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изводится в соответствии с первой и третье категори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тенсивная фаза лечения – использование 4-ех препаратов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изониазид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ифампицин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пиразинамид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этамбутол(препарат выбора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трептомицин(препарат выбора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Рисунок 4" descr="загруженное (2).jpg"/>
          <p:cNvPicPr/>
          <p:nvPr/>
        </p:nvPicPr>
        <p:blipFill>
          <a:blip r:embed="rId1"/>
          <a:stretch/>
        </p:blipFill>
        <p:spPr>
          <a:xfrm>
            <a:off x="4714920" y="1571760"/>
            <a:ext cx="442872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План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уберкулез ВГЛУ как форма первичного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атогенез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туберкулеза ВГЛУ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ника. Диагностика и лечения ВГЛУ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и лечения опухолевидной формы туберкулеза ВГЛУ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ы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Леч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47145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изводится в соответствии с первой и третье категори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тенсивная фаза лечения – использование 4-ех препаратов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изониазид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ифампицин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пиразинамид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этамбутол(препарат выбора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трептомицин(препарат выбора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Рисунок 3" descr="slide_2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</a:rPr>
              <a:t>Особенности лечения опухолевидной формы туберкулеза ВГЛУ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221472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мещение химиотерапевтического лечения с хирургическим вмешательством при осложненном течени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чение производится согласно первой и третье категориям лечения: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атегория: Интенсивная фаза 2-4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ивющая 4-7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атегория: Интенсивная фаза 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,Z,E(S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ивающая 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Исходы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лагоприятный – полное рассасывание специфических изменений в лимфатических узлах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носительно благоприятный – склероз корня легкого, бронхоэктазы, образование кальцинатов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благоприятный – прогрессирование процесс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Заключ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благодаря профилактике вакциной БЦЖ и превентивному лечению детей в период первичного инфицирования наиболее часто наблюдается изолированное поражение различных групп внутригрудных лимфатических узлов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Литературы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.И.Перельман, В.А.Корякин, Н.М. Протопопова «Туберкулез», Москва – 1990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471456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развитии первичного туберкулеза в патологический процесс вовлекаются как периферические, так и внутригрудные лимфатические узлы, специфическое поражение которых называется туберкулезом внутригрудных лимфатических узлов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kk-KZ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Рисунок 4" descr="bronhoadenit.jpg"/>
          <p:cNvPicPr/>
          <p:nvPr/>
        </p:nvPicPr>
        <p:blipFill>
          <a:blip r:embed="rId1"/>
          <a:stretch/>
        </p:blipFill>
        <p:spPr>
          <a:xfrm>
            <a:off x="4500720" y="928800"/>
            <a:ext cx="4428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65147549"/>
              </p:ext>
            </p:extLst>
          </p:nvPr>
        </p:nvGraphicFramePr>
        <p:xfrm>
          <a:off x="428760" y="571320"/>
          <a:ext cx="8229240" cy="62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Туберкулез ВГЛУ как форма первичног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вид туберкулеза развивается в результате первичного заражения у детей, подростков и лиц молодого возраста. Реже он возникает вследствие эндогенной реактивации имевшихся туберкулезных изменений в бронхиальных, медиастинальных, бронхопульмональных, паратрахеальных и трахеобронхиальных лимфатических узлах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Группы ВГЛУ(по Суккенникову)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трахеальны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хеобронхиальны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ронхопульмональны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фуркационны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аортальны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872928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томия внутригрудных лимфатических уз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уществуют разные схемы классификации внутригрудных лимфатических узлов. Наиболее распространена на практике схема В.А. Сукенникова, по которой лимфатические узлы по их отношению к трахее и крупным бронхам подразделяют на четыре группы: паратрахеальные, трахеобронхиальные, бифуркационные и бронхопульмональные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Рисунок 3" descr="images.jpg"/>
          <p:cNvPicPr/>
          <p:nvPr/>
        </p:nvPicPr>
        <p:blipFill>
          <a:blip r:embed="rId1"/>
          <a:stretch/>
        </p:blipFill>
        <p:spPr>
          <a:xfrm>
            <a:off x="214200" y="2643120"/>
            <a:ext cx="864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Патогенез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уберкулез внутригрудных лимфатических узлов характеризуется первичной вегетацией МБТ в лимфатических узлах, куда последняя попадает лимфогенным или гематогенным путе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мфоидная ткань подвергается гиперплазии, что приводит к увеличению размеров лимфатических узлов. В дальнейшем появляются признаки специфического воспаления (эпителиоидные, гигантские клетки), при этом гранулемы могут располагаться по всем зонам лимфатического узл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ецифическое поражение внутригрудных лимфатических узлов может наблюдаться без значительного их увеличения. Если размеры лимфатических узлов увеличены незначительно (0,5—1,5 см) в одной или двух группах, то имеет место так называемая малая форма бронхоаденита. В настоящее время эта форма заболевания встречается наиболее часто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55953274"/>
              </p:ext>
            </p:extLst>
          </p:nvPr>
        </p:nvGraphicFramePr>
        <p:xfrm>
          <a:off x="428760" y="785880"/>
          <a:ext cx="8329320" cy="6071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5</TotalTime>
  <Application>LibreOffice/7.4.7.2$Linux_X86_64 LibreOffice_project/40$Build-2</Application>
  <AppVersion>15.0000</AppVersion>
  <Words>645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3:15:26Z</dcterms:created>
  <dc:creator>User</dc:creator>
  <dc:description/>
  <dc:language>en-US</dc:language>
  <cp:lastModifiedBy>Windows7</cp:lastModifiedBy>
  <dcterms:modified xsi:type="dcterms:W3CDTF">2014-09-17T19:41:10Z</dcterms:modified>
  <cp:revision>2</cp:revision>
  <dc:subject/>
  <dc:title>АО «Медицинский Университет Астана»    Туберкулез внутригрудных лимфатических уз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