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027-D083-458F-98F0-5BE6B960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972-A191-4BF4-B36F-D2751203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26E-3384-4E01-B9B8-ADEA9166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19A-7EB6-4B77-92A8-907901A6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9DFE-09C3-4219-8205-911A7F1F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E9FB-1467-47F2-B2C6-8DC0CE6A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4812-6F22-4946-83ED-86234741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D106-23C2-48AC-9588-383FC5DB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4A64-D26A-4ABC-AC60-A62FE6A1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A9E9-8532-4670-90D2-FEF1987A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09E2-F9EA-4F97-8E31-EF2DE81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BCE-6FF0-49F2-A55A-483AC096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CC73-2D12-4B5F-A71D-8277CAF2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7515-50EC-4D83-AEA9-414D3D6B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0F23-41ED-483F-8724-2744E67B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CA18-02AD-4CA0-897C-F6BE5190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BF55-1DF0-467D-B42E-14739DC0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299-FC43-4423-B314-534D910E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0F6-6A9E-48B7-89A9-C989CB00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E32-BBEB-4985-AC82-77C73ECB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98C-89DC-40D7-B64A-E7FFAD86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0D3-7E89-4B81-8AEB-F425A2AC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6AE-FE52-49B4-A6B3-6A8F1A71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312-4B6D-46B8-A41F-BEEE38A4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56DC-8E0D-43D0-9138-78EBBD047B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0BEC-AFBE-4A0B-9FB4-774DD39B32A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152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ИНИСТЕРСТВО ЗДРАВООХРАНЕНИЯ И СОЦИАЛЬНОГО РАЗВИТИЯ РОССИЙСКОЙ ФЕДЕРАЦИ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ГБОУ ВПО «ИРКУТСКИЙ ГОСУДАРСТВЕННЫЙ МЕДИЦИНСКИЙ УНИВЕРСИТЕТ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КАФЕДРА АНЕСТЕЗИОЛОГИИ И РЕАНИМАТОЛОГИ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Учебное пособие.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Зав.каф., проф., д.м.н. Голуб И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Доц., к.м.н. Сорокина Л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сс. , к.м.н. Нетесин Е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Иркутск,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9638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Спинальная и эпидуральная  анестез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сле ощущения «проваливания» мандрен извлекают, иглы менного продвигают вперед до появления спинальной жидкост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Рисунок 64" descr="Описание: капля спинномозговой жидкости"/>
          <p:cNvPicPr/>
          <p:nvPr/>
        </p:nvPicPr>
        <p:blipFill>
          <a:blip r:embed="rId1"/>
          <a:stretch/>
        </p:blipFill>
        <p:spPr>
          <a:xfrm>
            <a:off x="4643280" y="2637000"/>
            <a:ext cx="40388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2" descr="Описание: мандрен иглы спинальной"/>
          <p:cNvPicPr/>
          <p:nvPr/>
        </p:nvPicPr>
        <p:blipFill>
          <a:blip r:embed="rId2"/>
          <a:stretch/>
        </p:blipFill>
        <p:spPr>
          <a:xfrm>
            <a:off x="468360" y="2708280"/>
            <a:ext cx="4038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 игле присоединяют шприц с отмеренным количеством анестетика  и вводят в субдуральное пространств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Рисунок 65" descr="Описание: введение анестетика"/>
          <p:cNvPicPr/>
          <p:nvPr/>
        </p:nvPicPr>
        <p:blipFill>
          <a:blip r:embed="rId1"/>
          <a:stretch/>
        </p:blipFill>
        <p:spPr>
          <a:xfrm>
            <a:off x="457200" y="2349360"/>
            <a:ext cx="4038480" cy="3456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6" descr="Описание: анестетика введение"/>
          <p:cNvPicPr/>
          <p:nvPr/>
        </p:nvPicPr>
        <p:blipFill>
          <a:blip r:embed="rId2"/>
          <a:stretch/>
        </p:blipFill>
        <p:spPr>
          <a:xfrm>
            <a:off x="4648320" y="2349360"/>
            <a:ext cx="4038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глу удаляют, на место прокола накладывают стерильную повязку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Рисунок 67" descr="Описание: стерильный шари"/>
          <p:cNvPicPr/>
          <p:nvPr/>
        </p:nvPicPr>
        <p:blipFill>
          <a:blip r:embed="rId1"/>
          <a:stretch/>
        </p:blipFill>
        <p:spPr>
          <a:xfrm>
            <a:off x="457200" y="1844640"/>
            <a:ext cx="4038480" cy="3672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9" descr="Описание: стерильная повязка"/>
          <p:cNvPicPr/>
          <p:nvPr/>
        </p:nvPicPr>
        <p:blipFill>
          <a:blip r:embed="rId2"/>
          <a:stretch/>
        </p:blipFill>
        <p:spPr>
          <a:xfrm>
            <a:off x="4648320" y="1844640"/>
            <a:ext cx="4038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казания к эпидуральной анестези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тивные вмешательства на грудной клетке, брюшной полости, органов малого таза, конечност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чение хронических бо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зболивание р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зболивание в послеоперационный пери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0_6670e_670f094c_XL[1]"/>
          <p:cNvPicPr/>
          <p:nvPr/>
        </p:nvPicPr>
        <p:blipFill>
          <a:blip r:embed="rId1"/>
          <a:stretch/>
        </p:blipFill>
        <p:spPr>
          <a:xfrm>
            <a:off x="5727600" y="1600200"/>
            <a:ext cx="1879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ика выполнения.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пределение места пункци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Рисунок 9" descr="Описание: http://s003.radikal.ru/i204/1105/80/e4ac0028ad88.jpg"/>
          <p:cNvPicPr/>
          <p:nvPr/>
        </p:nvPicPr>
        <p:blipFill>
          <a:blip r:embed="rId1"/>
          <a:stretch/>
        </p:blipFill>
        <p:spPr>
          <a:xfrm>
            <a:off x="457200" y="2349360"/>
            <a:ext cx="4038480" cy="30308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0" descr="Описание: http://i066.radikal.ru/1105/ae/b53d75028a6b.jpg"/>
          <p:cNvPicPr/>
          <p:nvPr/>
        </p:nvPicPr>
        <p:blipFill>
          <a:blip r:embed="rId2"/>
          <a:stretch/>
        </p:blipFill>
        <p:spPr>
          <a:xfrm>
            <a:off x="4648320" y="2360520"/>
            <a:ext cx="40384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бработка рук и операционного поля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Рисунок 11" descr="Описание: http://s60.radikal.ru/i167/1105/0b/15d094b231af.jpg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72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Описание: http://s50.radikal.ru/i129/1105/58/721f4eb03c2d.jpg"/>
          <p:cNvPicPr/>
          <p:nvPr/>
        </p:nvPicPr>
        <p:blipFill>
          <a:blip r:embed="rId2"/>
          <a:stretch/>
        </p:blipFill>
        <p:spPr>
          <a:xfrm>
            <a:off x="4648320" y="2349360"/>
            <a:ext cx="403848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безболивание места пункции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Рисунок 18" descr="Описание: http://s009.radikal.ru/i308/1105/9e/5abc8953f418.jpg"/>
          <p:cNvPicPr/>
          <p:nvPr/>
        </p:nvPicPr>
        <p:blipFill>
          <a:blip r:embed="rId1"/>
          <a:stretch/>
        </p:blipFill>
        <p:spPr>
          <a:xfrm>
            <a:off x="826920" y="1773360"/>
            <a:ext cx="46292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ункция при помощи иглы с мандреном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Рисунок 21" descr="Описание: http://i034.radikal.ru/1105/98/bda99f4ebc6d.jpg"/>
          <p:cNvPicPr/>
          <p:nvPr/>
        </p:nvPicPr>
        <p:blipFill>
          <a:blip r:embed="rId1"/>
          <a:stretch/>
        </p:blipFill>
        <p:spPr>
          <a:xfrm>
            <a:off x="457200" y="2343240"/>
            <a:ext cx="4038480" cy="30430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4" descr="Описание: http://s16.radikal.ru/i190/1105/40/125bbde59e52.jpg"/>
          <p:cNvPicPr/>
          <p:nvPr/>
        </p:nvPicPr>
        <p:blipFill>
          <a:blip r:embed="rId2"/>
          <a:stretch/>
        </p:blipFill>
        <p:spPr>
          <a:xfrm>
            <a:off x="4648320" y="2340000"/>
            <a:ext cx="40384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соединение шприца с изотоническим раствором и пузырьком воздух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Рисунок 25" descr="Описание: http://s41.radikal.ru/i094/1105/ee/53eca7220430.jpg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41767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6" descr="Описание: http://s16.radikal.ru/i191/1105/42/49f603010b68.jpg"/>
          <p:cNvPicPr/>
          <p:nvPr/>
        </p:nvPicPr>
        <p:blipFill>
          <a:blip r:embed="rId2"/>
          <a:stretch/>
        </p:blipFill>
        <p:spPr>
          <a:xfrm>
            <a:off x="4643280" y="1989000"/>
            <a:ext cx="403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сле исчезновения пузырька воздуха шприц отсоединяют 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Рисунок 27" descr="Описание: http://i031.radikal.ru/1105/e9/ca774cd0d448.jpg"/>
          <p:cNvPicPr/>
          <p:nvPr/>
        </p:nvPicPr>
        <p:blipFill>
          <a:blip r:embed="rId1"/>
          <a:stretch/>
        </p:blipFill>
        <p:spPr>
          <a:xfrm>
            <a:off x="1835280" y="2276640"/>
            <a:ext cx="46288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натом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Picture 4" descr="19088[1]"/>
          <p:cNvPicPr/>
          <p:nvPr/>
        </p:nvPicPr>
        <p:blipFill>
          <a:blip r:embed="rId1"/>
          <a:stretch/>
        </p:blipFill>
        <p:spPr>
          <a:xfrm>
            <a:off x="457200" y="1700280"/>
            <a:ext cx="4038480" cy="3779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2" descr="Описание: http://www.onarkoze.ru/img/spinnoj-mozg.jpg"/>
          <p:cNvPicPr/>
          <p:nvPr/>
        </p:nvPicPr>
        <p:blipFill>
          <a:blip r:embed="rId2"/>
          <a:stretch/>
        </p:blipFill>
        <p:spPr>
          <a:xfrm>
            <a:off x="5295960" y="1916280"/>
            <a:ext cx="27432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ведение эпидурального зонда, извлечение иглы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9" name="Рисунок 29" descr="Описание: http://s011.radikal.ru/i318/1105/8d/9d3ae0861944.jpg"/>
          <p:cNvPicPr/>
          <p:nvPr/>
        </p:nvPicPr>
        <p:blipFill>
          <a:blip r:embed="rId1"/>
          <a:stretch/>
        </p:blipFill>
        <p:spPr>
          <a:xfrm>
            <a:off x="457200" y="2355840"/>
            <a:ext cx="4038480" cy="30178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1" descr="Описание: http://s016.radikal.ru/i334/1105/7c/60dd460a3c8f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сле введения пробной дозы анестетика и оценки результатов  вводится остальная доза, катетер фиксируют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Рисунок 35" descr="Описание: http://s55.radikal.ru/i149/1105/4d/da19099d8850.jpg"/>
          <p:cNvPicPr/>
          <p:nvPr/>
        </p:nvPicPr>
        <p:blipFill>
          <a:blip r:embed="rId1"/>
          <a:stretch/>
        </p:blipFill>
        <p:spPr>
          <a:xfrm>
            <a:off x="457200" y="2781360"/>
            <a:ext cx="4038480" cy="3240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7" descr="Описание: http://s42.radikal.ru/i098/1105/70/2e09cd1ace28.jpg"/>
          <p:cNvPicPr/>
          <p:nvPr/>
        </p:nvPicPr>
        <p:blipFill>
          <a:blip r:embed="rId2"/>
          <a:stretch/>
        </p:blipFill>
        <p:spPr>
          <a:xfrm>
            <a:off x="4648320" y="2781360"/>
            <a:ext cx="40384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Рисунок 38" descr="Описание: http://s42.radikal.ru/i097/1105/8f/8f3ce7bdafa2.jpg"/>
          <p:cNvPicPr/>
          <p:nvPr/>
        </p:nvPicPr>
        <p:blipFill>
          <a:blip r:embed="rId1"/>
          <a:stretch/>
        </p:blipFill>
        <p:spPr>
          <a:xfrm>
            <a:off x="457200" y="2355840"/>
            <a:ext cx="4038480" cy="30178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9" descr="Описание: http://s56.radikal.ru/i153/1105/a6/a19dea7f5cf2.jpg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Рисунок 40" descr="Описание: http://s46.radikal.ru/i111/1105/f1/12b91b4e0169.jpg"/>
          <p:cNvPicPr/>
          <p:nvPr/>
        </p:nvPicPr>
        <p:blipFill>
          <a:blip r:embed="rId1"/>
          <a:stretch/>
        </p:blipFill>
        <p:spPr>
          <a:xfrm>
            <a:off x="2271600" y="2127240"/>
            <a:ext cx="4600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тивопоказа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ие необходимых условий и оснащения для полноценного наблюдения за состоянием больного  во время анестезии и эффективного лечения потенциально возможных осложн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Шо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ипотония, гиповолем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нутричерепная гипертенз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болевания нервной системы (менингит, арахноидит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фекция кожи в области пунк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епси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актерием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яжелая интоксика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болевания ССС в стадии декомпенсац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ыраженные признаки ваготонии, частые синкопальные состояния в анамнезе, синдром слабости синусового узла, AV-блока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томические аномалии позвоночник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агулопат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вышенная чувствительность к анестетик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ложнени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реждение сосудов субдурального и субарахноидального пространства ( лечение - немедленно извлечен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кое снижение АД ( лечение – инфузионная терапия, адреналин, допамин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гнетение дыхания ( лечение – оксигенотерапия, ИВЛ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лергические реа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нойный менинги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игательные параличи и парезы нижних конечно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рушение циркуляции цереброспинальной жидкости ( головные боли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ксическое действие анестетиков ( рвота, сонливость, судорог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лагодарю за внимание!!!!!!!!!!!!!!!!!!!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6" name="Picture 4" descr="107026_506x285[1]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исок литературы 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А Долина «Анестезиология и реаниматология» 2006 г. Изд-во ГЭОТАР- Мед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ациональной руководство Анестезиология» 2008 г. Изд-во ГЭОТАР – Меди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ы в интерне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nesth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uc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nsme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estezi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arkoz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.mi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medik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пинальная (субарахноидальная) и эпидуральная анестезия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Рисунок 44" descr="Описание: отличия спинальной от эпидуральной"/>
          <p:cNvPicPr/>
          <p:nvPr/>
        </p:nvPicPr>
        <p:blipFill>
          <a:blip r:embed="rId1"/>
          <a:stretch/>
        </p:blipFill>
        <p:spPr>
          <a:xfrm>
            <a:off x="1763640" y="1844640"/>
            <a:ext cx="6121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казания к субарахноидальной анестези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ерации на нижней половине тела( брюшная полость, органы малого таза, нижние конечности)  при восполненном ОЦК и отсутствии абсолютных противопоказаний для спинномозговой анестез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ерации на нижней половине тела при наличии относительных (а иногда и  абсолютных) противопоказаний для спинномозговой анестезии у пациентов крайне высокого операционно-анестезиологического риска в случаях явного превышения риска общей анестезии над риском регионарной анестез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перация кесарева сече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имущества спинномозговой анестезии при операциях на нижней половине тела при отсутствии явных противопоказаний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изкая стоим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личная антиноцицептивная защи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нижение операционной кровопотер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ннее послеоперационное восстановл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нижение интенсивности послеоперационной бо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нижение риска дыхательных, сердечно-сосудистых и тромботических осложн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Техника проведения спинальной анестезии.  Положение больног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4" descr="12[1]"/>
          <p:cNvPicPr/>
          <p:nvPr/>
        </p:nvPicPr>
        <p:blipFill>
          <a:blip r:embed="rId1"/>
          <a:stretch/>
        </p:blipFill>
        <p:spPr>
          <a:xfrm>
            <a:off x="776160" y="1773360"/>
            <a:ext cx="2932200" cy="4357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iCA62Z5VL"/>
          <p:cNvPicPr/>
          <p:nvPr/>
        </p:nvPicPr>
        <p:blipFill>
          <a:blip r:embed="rId2"/>
          <a:stretch/>
        </p:blipFill>
        <p:spPr>
          <a:xfrm>
            <a:off x="4932360" y="1341360"/>
            <a:ext cx="3600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пределение места прокола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Picture 9" descr="12[1]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6" descr="Описание: 'положении при спинальной анестезии"/>
          <p:cNvPicPr/>
          <p:nvPr/>
        </p:nvPicPr>
        <p:blipFill>
          <a:blip r:embed="rId2"/>
          <a:stretch/>
        </p:blipFill>
        <p:spPr>
          <a:xfrm>
            <a:off x="457200" y="2349360"/>
            <a:ext cx="403848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облюдение правил асептики и антисептик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Рисунок 48" descr="Описание: антисептическая обработка рук"/>
          <p:cNvPicPr/>
          <p:nvPr/>
        </p:nvPicPr>
        <p:blipFill>
          <a:blip r:embed="rId1"/>
          <a:stretch/>
        </p:blipFill>
        <p:spPr>
          <a:xfrm>
            <a:off x="457200" y="1700280"/>
            <a:ext cx="4038480" cy="38894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0" descr="Описание: антисептичская обработка"/>
          <p:cNvPicPr/>
          <p:nvPr/>
        </p:nvPicPr>
        <p:blipFill>
          <a:blip r:embed="rId2"/>
          <a:stretch/>
        </p:blipFill>
        <p:spPr>
          <a:xfrm>
            <a:off x="4648320" y="1700280"/>
            <a:ext cx="4038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нфильтрация кожи в месте введения( 0,25 % р-р новокаина)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Рисунок 54" descr="Описание: положение больного при спинальной"/>
          <p:cNvPicPr/>
          <p:nvPr/>
        </p:nvPicPr>
        <p:blipFill>
          <a:blip r:embed="rId1"/>
          <a:stretch/>
        </p:blipFill>
        <p:spPr>
          <a:xfrm>
            <a:off x="457200" y="1916280"/>
            <a:ext cx="4038480" cy="3463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5" descr="Описание: местная анестезия области"/>
          <p:cNvPicPr/>
          <p:nvPr/>
        </p:nvPicPr>
        <p:blipFill>
          <a:blip r:embed="rId2"/>
          <a:stretch/>
        </p:blipFill>
        <p:spPr>
          <a:xfrm>
            <a:off x="4648320" y="1916280"/>
            <a:ext cx="40384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 помощью специальной иглы с мандреном делают прокол в найденной точке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Рисунок 59" descr="Описание: введение спинальной иглы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6003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0" descr="Описание: спинальная игла введение"/>
          <p:cNvPicPr/>
          <p:nvPr/>
        </p:nvPicPr>
        <p:blipFill>
          <a:blip r:embed="rId2"/>
          <a:stretch/>
        </p:blipFill>
        <p:spPr>
          <a:xfrm>
            <a:off x="4648320" y="2133720"/>
            <a:ext cx="4038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09:37:38Z</dcterms:created>
  <dc:creator>Александр</dc:creator>
  <dc:description/>
  <dc:language>en-US</dc:language>
  <cp:lastModifiedBy>Admin</cp:lastModifiedBy>
  <dcterms:modified xsi:type="dcterms:W3CDTF">2012-05-15T14:55:40Z</dcterms:modified>
  <cp:revision>8</cp:revision>
  <dc:subject/>
  <dc:title>Спинальная и эпидуральная  анестезия</dc:title>
</cp:coreProperties>
</file>