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430-C921-4283-8236-E5F0456D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E18-1BF1-450E-AA5E-46D5B00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318-602E-4DE4-8C8A-33264CB5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B7C-3C04-4F36-8C39-59F9CE6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235-0E86-4E49-AA1C-5BF245D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25F-8C75-4CBD-A886-6666A7E5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43A-69DE-451C-98A5-E949C3C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BBD-5CC1-4B6A-B853-1240F5A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436-BDD8-4BDE-82CA-52CAF164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17A-6991-432C-8F30-315924E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996-2DB7-4114-9BAA-9914408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F71-56C0-4BE7-9E8C-7AB06D07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197-AA72-4B23-983B-0DE7C781C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Барвин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357280" y="714240"/>
            <a:ext cx="5783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Презентація на т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Життя і творчість Лесі Украї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Love030"/>
          <p:cNvPicPr/>
          <p:nvPr/>
        </p:nvPicPr>
        <p:blipFill>
          <a:blip r:embed="rId1"/>
          <a:stretch/>
        </p:blipFill>
        <p:spPr>
          <a:xfrm>
            <a:off x="0" y="-24300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2"/>
          <p:cNvSpPr/>
          <p:nvPr/>
        </p:nvSpPr>
        <p:spPr>
          <a:xfrm>
            <a:off x="-142920" y="-142920"/>
            <a:ext cx="6696000" cy="3024360"/>
          </a:xfrm>
          <a:custGeom>
            <a:avLst/>
            <a:gdLst>
              <a:gd name="textAreaLeft" fmla="*/ 1674000 w 6696000"/>
              <a:gd name="textAreaRight" fmla="*/ 5022000 w 6696000"/>
              <a:gd name="textAreaTop" fmla="*/ 0 h 3024360"/>
              <a:gd name="textAreaBottom" fmla="*/ 2646360 h 3024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ffff">
              <a:alpha val="37000"/>
            </a:srgbClr>
          </a:solidFill>
          <a:ln w="9360">
            <a:solidFill>
              <a:srgbClr val="a8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000160" y="2357280"/>
            <a:ext cx="29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871 – 19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19(4)"/>
          <p:cNvPicPr/>
          <p:nvPr/>
        </p:nvPicPr>
        <p:blipFill>
          <a:blip r:embed="rId2"/>
          <a:stretch/>
        </p:blipFill>
        <p:spPr>
          <a:xfrm>
            <a:off x="2214720" y="357120"/>
            <a:ext cx="16808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Rectangle 15"/>
          <p:cNvSpPr/>
          <p:nvPr/>
        </p:nvSpPr>
        <p:spPr>
          <a:xfrm>
            <a:off x="9144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68360" y="450072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432120" y="642960"/>
            <a:ext cx="294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еся Украї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Лариса Петрівна Кос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ародилася 25 лю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1871р. у Новограді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олинськ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Мати її — письменниц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ена Пчілка — і бат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юрист — багато ува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0" y="269064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риділяли гуманітарній освіті дітей, розвивали інтерес до  літератури, вивчення мов, перекладацької роботи. Дитячі роки поетеси минали на Поліссі. Взимку Косачі жили в Луцьку, а літом — у с. Колодяжне. Серед факторів, які впливали на формування таланту Лесі Українки, була музика. “Мені часом здається, — писала вона, — що з мене вийшов би далеко кращий музика, ніж поет, та тільки біда, що натура утяла мені кепський жарт”. Цей “жарт” — початок туберкульозу, з яким вона боролась усе життя. Хвороба спричинилась до того, що дівчинка не ходила до школи, однак завдяки матері, а також М. Драгоманову, який мав великий вплив на духовний розвиток Лесі Українки, вона дістала глибоку і різнобічну освіту. Письменниця знала більше десяти мов, вітчизняну і світову літературу, історію, філософ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4" descr="lone_tre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15880" y="500040"/>
            <a:ext cx="417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Над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Ні долі, ні волі у мене не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Зосталася тільки надія од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Надія вернутись ще раз на Вкраї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Поглянути ще раз на рідну краї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Поглянути ще раз на синій Дніпро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Там жити чи вмерти, мені все од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Поглянути ще раз на степ, моги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Востаннє згадати палкії гадк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Ні долі, ні волі у мене не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6b600"/>
                </a:solidFill>
                <a:latin typeface="Arial"/>
              </a:rPr>
              <a:t>Зосталася тільки надія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5143680" y="642960"/>
            <a:ext cx="3500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ove032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12" descr=""/>
          <p:cNvPicPr/>
          <p:nvPr/>
        </p:nvPicPr>
        <p:blipFill>
          <a:blip r:embed="rId2"/>
          <a:stretch/>
        </p:blipFill>
        <p:spPr>
          <a:xfrm>
            <a:off x="1620720" y="195120"/>
            <a:ext cx="5445360" cy="3621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71680" y="4786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очаток роботи Лесі Українки над прозовими жанрами пов'язаний з діяльністю гуртка київської літературної молоді «Плеяда». Тут готували видання для народу з історії, географії, перекладали твори російських та зарубіжних письменників; гуртківці писали і власні твори, які оцінювались на конкурсах. Так були написані і деякі оповідання Лесі Украї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928960" y="39290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Гурт “Плея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ove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Серце Лесі Українки перестало битися 19 липня 1913 р. в грузинському місті Сурамі. Тіло письменниці перевезли до Києва й поховали на Байковому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кладовищі поряд із могилами батька й б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lesya-ukrainka"/>
          <p:cNvPicPr/>
          <p:nvPr/>
        </p:nvPicPr>
        <p:blipFill>
          <a:blip r:embed="rId2"/>
          <a:stretch/>
        </p:blipFill>
        <p:spPr>
          <a:xfrm>
            <a:off x="1792440" y="420840"/>
            <a:ext cx="485748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71680" y="435780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Arial"/>
              </a:rPr>
              <a:t>Леся Українка в останні роки жи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ove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6"/>
          <p:cNvPicPr/>
          <p:nvPr/>
        </p:nvPicPr>
        <p:blipFill>
          <a:blip r:embed="rId2"/>
          <a:stretch/>
        </p:blipFill>
        <p:spPr>
          <a:xfrm>
            <a:off x="324000" y="476280"/>
            <a:ext cx="3139920" cy="472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Picture 8" descr="IMG_1954"/>
          <p:cNvPicPr/>
          <p:nvPr/>
        </p:nvPicPr>
        <p:blipFill>
          <a:blip r:embed="rId3"/>
          <a:stretch/>
        </p:blipFill>
        <p:spPr>
          <a:xfrm>
            <a:off x="4924440" y="476280"/>
            <a:ext cx="3500280" cy="466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"/>
          <p:cNvSpPr/>
          <p:nvPr/>
        </p:nvSpPr>
        <p:spPr>
          <a:xfrm>
            <a:off x="224280" y="535788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Могила Лесі Украї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370840" y="52862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ам'ятник у Киє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5:39Z</dcterms:created>
  <dc:creator>Короткова</dc:creator>
  <dc:description/>
  <dc:language>en-US</dc:language>
  <cp:lastModifiedBy>Alex</cp:lastModifiedBy>
  <dcterms:modified xsi:type="dcterms:W3CDTF">2012-12-20T13:09:09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800000000000010250600207f7000400038000</vt:lpwstr>
  </property>
</Properties>
</file>