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16A-AD25-4133-ABF1-0E1EF863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768-FE13-4FC7-9CAF-9C5D1C49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CC6-2D50-466F-8939-2D7F2205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277-0149-4765-A8CC-C974E066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4BEC-FBD3-4D03-86BB-08333126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2A35-0162-4EF9-885C-5426749D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D46F-3A64-4F27-884E-F5418A20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6533-3441-40BE-8141-7E749ED3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43FD-D726-41FC-B749-E802BE41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8583-E3D6-4955-A87A-84187ED3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66D8-C894-4CED-9658-EE662C30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7A3-0401-4180-8AD6-679E6C01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DC39-5340-4240-B681-674157A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8541-2402-4034-93A0-BDB7E01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05E5-2E57-435B-8661-DF7BFBE0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24F0-6B9A-4AE4-B4B4-50B47D9E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FC6E-A66A-485D-B014-17EDFC52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AE971-950E-4405-A9B3-3B9B9C9D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7158-1941-4AB0-ADEB-E2FBAE05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C3F7-377B-42EE-8516-AB096C1C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BB60-9D02-40B3-9FEA-4D96E442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C982-48D1-4AE9-98A8-83804E4E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B9C-1314-4E64-AD3E-7214E255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E9F4-2A0F-4AFA-B851-07C317D0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1250C-98F1-4BE5-8148-0CDFF3E3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AA8B-B71C-43E4-B64C-8DF8F91E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DDE6-390E-4DB3-95A2-E3BD7362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9A23-086A-4C2C-AF8A-545D9F64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A090-B591-4F7D-9BFA-AAD6D08F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803E-7CF8-40E7-BCC0-337181B2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04E6-B0BD-45EE-A157-071E4674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0E7E-7F73-403F-9D50-1770D6C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E159-7D73-4731-B7A4-3799E809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E53-142B-4819-B5FC-95E6E563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9A89-50CE-4860-8DD1-9C92277C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2BAF-70CB-4041-9A0A-81B6CC0A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2041-2D76-4B78-B43C-68CBCD22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87D1-8029-4180-9F85-8D2FCA4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0BD9F-E074-42F5-A3DA-886CD5D1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D6049-6347-4B83-8850-54CB32A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AC0A-7BF0-416D-B24C-A878AD32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E8AB-DEAD-47A6-A396-590F5D7E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8FFBA-32DB-402C-B52A-635038D7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2CA-C39F-45ED-8D27-6AF43A5B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585-FD6F-48F6-B0FD-D0C80A92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52B-27F2-4179-9DBA-E8715A4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8BD-7938-492D-907F-77C85AE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0F9-AF94-47EC-9616-3B6DF199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36E2-A76E-4F6E-87B4-36B712B09B7D}" type="slidenum">
              <a:rPr b="0" lang="ru-RU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5DC8-2C1E-4B71-8810-1C481ED326EB}" type="slidenum">
              <a:rPr b="0" lang="ru-RU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0D1-2D14-4DD6-B8C4-FB4CF36406A3}" type="slidenum">
              <a:rPr b="0" lang="ru-RU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EA3F-DAEA-4356-B281-5A7E13F632A4}" type="slidenum">
              <a:rPr b="0" lang="ru-RU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180640" cy="210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екция для студентов 1 курс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дико-профилактического факультета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 дисциплине «Общая химия, биоорганическая химия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пециальность 32.05.01-«Медико-профилактическое дело»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ектор  - ст. преподаватель кафедры медицинской хим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юрина Елена Эдуардовн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2071800" y="857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БОУ ВПО НГМУ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дико-профилактический факульте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афедра медицинской хим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3584880" y="59292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овосибирс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75f6d"/>
                </a:solidFill>
                <a:latin typeface="Calibri"/>
              </a:rPr>
              <a:t>Химия и медицина</a:t>
            </a:r>
            <a:endParaRPr b="0" lang="en-US" sz="26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2560" y="1643040"/>
            <a:ext cx="35290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09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научных работ русского врача-физиолог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.М. Сеченов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посвящены применению методов физической химии в медицине, поэтому он считается основателем физико-химической медици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Содержимое 10" descr="MAImСеченов.jpg"/>
          <p:cNvPicPr/>
          <p:nvPr/>
        </p:nvPicPr>
        <p:blipFill>
          <a:blip r:embed="rId1"/>
          <a:stretch/>
        </p:blipFill>
        <p:spPr>
          <a:xfrm>
            <a:off x="3786120" y="1192320"/>
            <a:ext cx="45720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75f6d"/>
                </a:solidFill>
                <a:latin typeface="Constantia"/>
              </a:rPr>
              <a:t>Г.И. Гесс</a:t>
            </a:r>
            <a:endParaRPr b="0" lang="en-US" sz="26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рач и химик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жнейшим законом, лежащим в основе многих термодинамиче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ких расчетов, является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акон Гесс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акон суммы тепловых эффект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Содержимое 4" descr="1632.jpg"/>
          <p:cNvPicPr/>
          <p:nvPr/>
        </p:nvPicPr>
        <p:blipFill>
          <a:blip r:embed="rId1"/>
          <a:stretch/>
        </p:blipFill>
        <p:spPr>
          <a:xfrm>
            <a:off x="4210200" y="1676520"/>
            <a:ext cx="3841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75f6d"/>
                </a:solidFill>
                <a:latin typeface="Calibri"/>
              </a:rPr>
              <a:t>Химия и медицина</a:t>
            </a:r>
            <a:endParaRPr b="0" lang="en-US" sz="26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31488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 научные изыскания по медицине и физиологии бактериолог          П. Эрлих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достоен премии в области химиотерап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Содержимое 4" descr="02.jpg"/>
          <p:cNvPicPr/>
          <p:nvPr/>
        </p:nvPicPr>
        <p:blipFill>
          <a:blip r:embed="rId1"/>
          <a:stretch/>
        </p:blipFill>
        <p:spPr>
          <a:xfrm>
            <a:off x="4027320" y="1676520"/>
            <a:ext cx="4206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75f6d"/>
                </a:solidFill>
                <a:latin typeface="Calibri"/>
              </a:rPr>
              <a:t>Химия и медицина</a:t>
            </a:r>
            <a:endParaRPr b="0" lang="en-US" sz="26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имик Дж. Уотсон и физик Ф. Крик описали вторичную структуру ДНК, представив ее в виде двойной спира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Содержимое 4" descr="article-0-005FD32200000258-901_634x583.jpg"/>
          <p:cNvPicPr/>
          <p:nvPr/>
        </p:nvPicPr>
        <p:blipFill>
          <a:blip r:embed="rId1"/>
          <a:stretch/>
        </p:blipFill>
        <p:spPr>
          <a:xfrm>
            <a:off x="3608280" y="1643040"/>
            <a:ext cx="5127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onstantia"/>
              </a:rPr>
              <a:t>В последние годы на стыке химии, медицины, биологии и геологии возникли новые науки: 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ионеорганическая химия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еохимическая экология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иогеохимия - интегрированная наука об элементном составе живого вещества, миграции, трансформации, концентрировании элементов и их соединений в биосфере, биологической роли и экологических аспектах химических элементов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снователем биогеохимии является В.И. Вернадский, </a:t>
            </a:r>
            <a:br>
              <a:rPr sz="2100"/>
            </a:br>
            <a:r>
              <a:rPr b="0" lang="ru-RU" sz="21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развитие научных идей получило продолжение в трудах его ученика В.В. Ковальского. </a:t>
            </a:r>
            <a:br>
              <a:rPr sz="2100"/>
            </a:br>
            <a:r>
              <a:rPr b="0" lang="ru-RU" sz="21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На базе учения о биосфере возникла </a:t>
            </a:r>
            <a:r>
              <a:rPr b="1" lang="ru-RU" sz="21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едицинская экология человека.</a:t>
            </a:r>
            <a:endParaRPr b="0" lang="en-US" sz="21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232" name="Содержимое 6" descr="3d458d.jpg"/>
          <p:cNvPicPr/>
          <p:nvPr/>
        </p:nvPicPr>
        <p:blipFill>
          <a:blip r:embed="rId1"/>
          <a:stretch/>
        </p:blipFill>
        <p:spPr>
          <a:xfrm>
            <a:off x="676440" y="2260440"/>
            <a:ext cx="3324240" cy="409428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7" descr="Ковальский  В.В.-200.jpg"/>
          <p:cNvPicPr/>
          <p:nvPr/>
        </p:nvPicPr>
        <p:blipFill>
          <a:blip r:embed="rId2"/>
          <a:stretch/>
        </p:blipFill>
        <p:spPr>
          <a:xfrm>
            <a:off x="5014800" y="2357280"/>
            <a:ext cx="32148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onstantia"/>
              </a:rPr>
              <a:t>Медицинская биохимия </a:t>
            </a:r>
            <a:br>
              <a:rPr sz="2800"/>
            </a:br>
            <a:r>
              <a:rPr b="0" lang="ru-RU" sz="2800" spc="-1" strike="noStrike">
                <a:solidFill>
                  <a:srgbClr val="575f6d"/>
                </a:solidFill>
                <a:latin typeface="Constantia"/>
              </a:rPr>
              <a:t>(возникла при взаимодействии медицины, химии, молекулярной биологии, физики)</a:t>
            </a:r>
            <a:endParaRPr b="0" lang="en-US" sz="28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учает механизмы, лежащие в основе процессов жизнедеятельности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отекающих в здоровом организме челове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и особенности их нарушений при патологических состояниях с целью расшифровки биохимических основ патогенеза заболеваний как на молекулярном, так и на более сложном уровне организации живой матер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рабатывает основы рациональных методов и приемов воздействия на ход определенных биохимических реакций в организме для лечени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предупрежд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х или иных патологических состояни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575f6d"/>
                </a:solidFill>
                <a:latin typeface="Constantia"/>
              </a:rPr>
              <a:t>По госстандарту выпускник должен обладать: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пособностью и готовностью к прогнозированию опасности для здоровья, причиной которых могут стать используемые трудовые и производственные процессы, … распознаванию и интерпретации появления в производственной среде химических …факторов среды обитания человека, которые могут повлиять на здоровье и самочувствие работни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формирование этой компетенции и направлен курс общей и биоорганической хим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575f6d"/>
                </a:solidFill>
                <a:latin typeface="Calibri"/>
              </a:rPr>
              <a:t>Цель лекции: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знакомиться с одним из методов аналитической химии, широко применяемом на практике – методом титриметрического анализ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дачи (план лекции)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вторить темы школьного курса: «Растворы, способы выражения концентрации растворов (процентная, молярная)»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зучить другие способы выражения состава растворов: молярная концентрация эквивалента, титр, моляльная концентрац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знакомиться с методом объёмного титрования и его теоретической основой – законом эквивалентов, обосновать значение этого метода в практике врача санитарно-эпидемиологической служб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створы представляют ту среду, в которой протекают все жизненно важные процессы. Плазма крови, лимфа, желудочный сок, слюна, внутриклеточная жидкость – это растворы с определенной концентрацией растворенных веществ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5f6d"/>
                </a:solidFill>
                <a:latin typeface="Constantia"/>
              </a:rPr>
              <a:t>М.В. Ломоносов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2828880"/>
            <a:ext cx="2890800" cy="36720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глубоком смысле химия и медицина не отделимы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..медик без довольного познания химии совершенен быть не може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6" descr="image2.png"/>
          <p:cNvPicPr/>
          <p:nvPr/>
        </p:nvPicPr>
        <p:blipFill>
          <a:blip r:embed="rId1"/>
          <a:srcRect l="7860" t="0" r="7860" b="0"/>
          <a:stretch/>
        </p:blipFill>
        <p:spPr>
          <a:xfrm rot="420000">
            <a:off x="3489120" y="1208160"/>
            <a:ext cx="4662360" cy="39704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онент, присутствующий в растворе в большем количестве,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створителем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остальные компоненты –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створен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створы бывают твердыми (сплавы металлов), жидкими (кровь, слюна) и газообразными (воздух). Растворы бывают истинными (однофазные) и коллоидными, имеющими гетерогенные фазы: гель, золь, эмульсия, аэрозоль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истинных растворах размер частиц около 0,1 нм, т.е. порядка размера молекул, а в коллоидных 1-1000 н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575f6d"/>
                </a:solidFill>
                <a:uFillTx/>
                <a:latin typeface="Constantia"/>
              </a:rPr>
              <a:t>Классификация растворов</a:t>
            </a:r>
            <a:r>
              <a:rPr b="0" lang="ru-RU" sz="4400" spc="-1" strike="noStrike">
                <a:solidFill>
                  <a:srgbClr val="575f6d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концентрации: ненасыщенные, насыщенные, пересыщенны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наличию диссоциации: электролиты, неэлектролит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размеру частиц: гомогенные (истинные), гетерогенные (коллоидные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зависимости от природы растворителя: водные, неводны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зависимости от концентрации ионов Н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 ОН</a:t>
            </a:r>
            <a:r>
              <a:rPr b="1" lang="ru-RU" sz="2600" spc="-1" strike="noStrike" baseline="30000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ислые, нейтральные, основные.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onstantia"/>
              </a:rPr>
              <a:t>Способы выражения концентрации растворов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Процентная концентрация (массовая доля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nstantia"/>
              </a:rPr>
              <a:t>%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(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nstantia"/>
              </a:rPr>
              <a:t>вещества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/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nstantia"/>
              </a:rPr>
              <a:t>раствора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) х 100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nstantia"/>
              </a:rPr>
              <a:t>раствора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 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,   [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]=[</a:t>
            </a: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мл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];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ρ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/мл, г/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nstantia"/>
              </a:rPr>
              <a:t>вещества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= С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nstantia"/>
              </a:rPr>
              <a:t>%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m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nstantia"/>
              </a:rPr>
              <a:t>раствора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/ 100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"/>
              <p:cNvSpPr txBox="1"/>
              <p:nvPr/>
            </p:nvSpPr>
            <p:spPr>
              <a:xfrm>
                <a:off x="928800" y="3286080"/>
                <a:ext cx="53226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TextBox 7"/>
          <p:cNvSpPr/>
          <p:nvPr/>
        </p:nvSpPr>
        <p:spPr>
          <a:xfrm>
            <a:off x="214200" y="1000080"/>
            <a:ext cx="853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концентрация раствора С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личина, показывающа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колько молей веществ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ходится в 1 литре раствор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диница измерения - моль/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6429240" y="3643200"/>
                <a:ext cx="23860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моль</m:t>
                            </m:r>
                          </m:num>
                          <m:den>
                            <m:r>
                              <m:t xml:space="preserve">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-165600" y="1357200"/>
            <a:ext cx="912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сли объем раствора дан в миллилитрах (мл), т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431240" y="7228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1714680" y="3143160"/>
                <a:ext cx="338292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5715000" y="3500280"/>
                <a:ext cx="2001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моль</m:t>
                            </m:r>
                          </m:num>
                          <m:den>
                            <m:r>
                              <m:t xml:space="preserve">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431240" y="7228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концентрация эквивалента Сэ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еличина, показывающая, сколько моль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квивалент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находится в 1 литре раствора. Единица измерения  - моль-экв/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"/>
              <p:cNvSpPr txBox="1"/>
              <p:nvPr/>
            </p:nvSpPr>
            <p:spPr>
              <a:xfrm>
                <a:off x="642960" y="3714840"/>
                <a:ext cx="6000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э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Rectangle 3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2685960" y="5214960"/>
                <a:ext cx="24433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Rectangle 8"/>
          <p:cNvSpPr/>
          <p:nvPr/>
        </p:nvSpPr>
        <p:spPr>
          <a:xfrm>
            <a:off x="-117000" y="4754520"/>
            <a:ext cx="8874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n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Constantia"/>
                <a:ea typeface="Times New Roman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х) - количество вещества эквивалента (моль-экв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Эквивалент – некая реальная или условная частица, которая может присоединять или высвобождать один ион водорода в кислотно-основных реакциях или один электрон в окислительно-восстановительных реакц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актор эквивалентности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э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величина безразмерная, рассчитывается для разных классов соединений по следующим формул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кислот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"/>
              <p:cNvSpPr txBox="1"/>
              <p:nvPr/>
            </p:nvSpPr>
            <p:spPr>
              <a:xfrm>
                <a:off x="2909880" y="5643720"/>
                <a:ext cx="5519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ислот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основность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кислоты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Rectangle 3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оснований: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onstantia"/>
              </a:rPr>
              <a:t>э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основания)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имер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э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= ½ (или 1);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э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=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имер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э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= 1;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э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] 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/3 ( 1/2 или 1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"/>
              <p:cNvSpPr txBox="1"/>
              <p:nvPr/>
            </p:nvSpPr>
            <p:spPr>
              <a:xfrm>
                <a:off x="3571920" y="2214720"/>
                <a:ext cx="40100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ислотность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3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соле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э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(соли) 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имер,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э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/2;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э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/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объем раствора дан в миллилитрах (мл), т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"/>
              <p:cNvSpPr txBox="1"/>
              <p:nvPr/>
            </p:nvSpPr>
            <p:spPr>
              <a:xfrm>
                <a:off x="2357280" y="2357280"/>
                <a:ext cx="65008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томо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металла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валентность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металл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Rectangle 3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857160" y="4643280"/>
                <a:ext cx="5105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э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Rectangle 6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>
                <a:off x="6143760" y="4857840"/>
                <a:ext cx="2822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экв</m:t>
                            </m:r>
                          </m:num>
                          <m:den>
                            <m:r>
                              <m:t xml:space="preserve">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пример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nstantia"/>
              </a:rPr>
              <a:t>э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= 0,5 моль-экв/л означает, что в 1 л раствора находится 0,5 моль эквивалента растворенного веществ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анее данный способ выражения концентрации назывался нормальностью раствор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575f6d"/>
                </a:solidFill>
                <a:latin typeface="Constantia"/>
              </a:rPr>
              <a:t>Введение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ойства химических веществ, образующих биологические системы, определяются их составом и строением, а закономерности их биохимического действия проявляются в более благоприятных условиях, достигая большей сложности и эффективности, чем вне организма. Поэтому биологический процесс оказывается наиболее развитой разновидностью химического и протекает по физико-химическим законам с участием тех же элементов (С, Н, O и т.д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Титр раствора 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величина, показывающая, какая масса вещества находится в 1 миллилитре раство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в-ва) – масса растворенного вещества (г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р-ра)- объем раствора (м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имер, Т= 0.0063 г/мл означает, что в 1 мл раствора растворено 0,0063 г веще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1214280" y="2928960"/>
                <a:ext cx="30848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р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ра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4643280" y="3143160"/>
                <a:ext cx="16434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м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иллиграмм-процент (мг%)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величина, показывающая, сколько миллиграммов вещества находится в 100 г или 100 мл физиологического раствора (ρ= 1 г/м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нный способ выражения концентрации используется в медицинской практике и отличается от процентной концентрации только единицей измерения массы растворенного веще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оляльная концентрация (моляльност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казывает отношение количества растворённого вещества к массе растворителя. Размерность – моль/к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μ =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onstantia"/>
              </a:rPr>
              <a:t>вещества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m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onstantia"/>
              </a:rPr>
              <a:t>растворителя (кг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μ = 1000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onstantia"/>
              </a:rPr>
              <a:t>вещества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/ ( М 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onstantia"/>
              </a:rPr>
              <a:t>*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Constantia"/>
              </a:rPr>
              <a:t>растворителя(г)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виды концентрации пропорциональны друг другу, следовательно, можно от одного способа выражения концентрации перейти к друго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1704960" y="4143240"/>
                <a:ext cx="55911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m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6"/>
              <p:cNvSpPr txBox="1"/>
              <p:nvPr/>
            </p:nvSpPr>
            <p:spPr>
              <a:xfrm>
                <a:off x="2000160" y="5286240"/>
                <a:ext cx="52689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m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Rectangle 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9"/>
              <p:cNvSpPr txBox="1"/>
              <p:nvPr/>
            </p:nvSpPr>
            <p:spPr>
              <a:xfrm>
                <a:off x="1754280" y="3214800"/>
                <a:ext cx="5492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етод нейтрализ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широко применяется в медико-биологических исследованиях, при проведении клинических анализов (например, определение кислотности мочи, желудочного сока и др. биологических жидкостей), в санитарно-гигиеническом контроле воды, пищевых продуктов (молока, хлеба), лекар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од нейтрализации позволяет по результатам титрования определить точную концентрацию компонента кислотного или основного характера в исследуемом растворе и вычислить его содержание в граммах. В основе метода лежит реакция нейтрализации между кислотой и основанием, кислотой и основной солью, основанием и кислой солью, т.е. реакция взаимодействия гидратированных ионов Н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 ОН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+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+ ОН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оретической основой метода явля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эквивалент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Массы реагирующих веществ прямо пропорциональны молярным массам эквивалентов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"/>
              <p:cNvSpPr txBox="1"/>
              <p:nvPr/>
            </p:nvSpPr>
            <p:spPr>
              <a:xfrm>
                <a:off x="1285920" y="3714840"/>
                <a:ext cx="624528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ислоты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снования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э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ислоты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э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нования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Следствие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 закона эквивалентов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ъемы реагирующих веществ обратно пропорциональны молярным концентрациям их эквивалентов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"/>
              <p:cNvSpPr txBox="1"/>
              <p:nvPr/>
            </p:nvSpPr>
            <p:spPr>
              <a:xfrm>
                <a:off x="1428840" y="3429000"/>
                <a:ext cx="6611760" cy="22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ислоты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снования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э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снования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э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ислоты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цесс определения концентрации неизвестного вещества основан н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итрован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добавлении небольших порций одного из растворов к заранее известному объему другого раствор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вор с веществом неизвестной концентрации называ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нализируемы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а раствор, содержащий реагент, концентрация которого известна с большой точностью, называ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бочим раствором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оцессе титрования наступает момент, когда количества реагирующих веществ в смеси становятся эквивалентными (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очка эквивалентност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определения точки эквивалентности в реакции нейтрализации используют кислотно-основные индикаторы. Это сложные органические вещества со слабыми кислотными или основными свойств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575f6d"/>
                </a:solidFill>
                <a:latin typeface="Calibri"/>
              </a:rPr>
              <a:t>Ятрохимия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трохим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Иатрохимия) (от греч. iatros – врач) - это направление в медицине, возникшее в начале XVI века в Западной Европе. Его представители рассматривали процессы в организме человека как химические явления, болезни как результат нарушения химического равновесия. Это медицинская химия, основная задача которой - приложение своих знаний для развития медиц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краска этих соединений в молекулярной и ионизированной формах различается (см. таблицу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43000" y="3286080"/>
          <a:ext cx="6334200" cy="3224160"/>
        </p:xfrm>
        <a:graphic>
          <a:graphicData uri="http://schemas.openxmlformats.org/drawingml/2006/table">
            <a:tbl>
              <a:tblPr/>
              <a:tblGrid>
                <a:gridCol w="2111400"/>
                <a:gridCol w="2111400"/>
                <a:gridCol w="2111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д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тервал 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зменение окра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иловый 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,1 – 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асная – оранжево-жел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кму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,0 – 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асная – синя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енолфтале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,2 – 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есцветная - мали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575f6d"/>
                </a:solidFill>
                <a:uFillTx/>
                <a:latin typeface="Constantia"/>
              </a:rPr>
              <a:t>Обучающая задача: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Вычислить содержание (масса, г) гидроксида натрия в 250 мл раствора и титр рабочего раствора гидроксида натрия, если на титрование 10 мл этого раствора было израсходовано 8,5 мл щавелевой кислоты (Н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·2 Н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) с Сэ = 0,1 моль-экв/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575f6d"/>
                </a:solidFill>
                <a:uFillTx/>
                <a:latin typeface="Constantia"/>
              </a:rPr>
              <a:t>Решение: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Напишем уравнение реакци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+ 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4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 Na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+ 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м фактор эквивалентности и молярную массу эквивалента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экв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= 1;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э (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= 40 г-экв/мол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м Сэ раствор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используя следствие из закона эквивалентов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"/>
              <p:cNvSpPr txBox="1"/>
              <p:nvPr/>
            </p:nvSpPr>
            <p:spPr>
              <a:xfrm>
                <a:off x="642960" y="5214960"/>
                <a:ext cx="7456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э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OH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э</m:t>
                        </m:r>
                        <m:r>
                          <m:t xml:space="preserve">(</m:t>
                        </m:r>
                        <m:r>
                          <m:t xml:space="preserve">к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к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OH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,1</m:t>
                        </m:r>
                        <m:r>
                          <m:t xml:space="preserve">⋅</m:t>
                        </m:r>
                        <m:r>
                          <m:t xml:space="preserve">8,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моль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экв</m:t>
                        </m:r>
                      </m:num>
                      <m:den>
                        <m:r>
                          <m:t xml:space="preserve">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м титр раствор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м массу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OH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 250 мл раствор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·Т = 250 мл·0,003400 г/мл  = 0,85 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вет: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OH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 в 250 мл раствора = 0,85 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"/>
              <p:cNvSpPr txBox="1"/>
              <p:nvPr/>
            </p:nvSpPr>
            <p:spPr>
              <a:xfrm>
                <a:off x="714240" y="2643120"/>
                <a:ext cx="7533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э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O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Мэ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O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8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003400</m:t>
                        </m:r>
                        <m:r>
                          <m:t xml:space="preserve">⋅</m:t>
                        </m:r>
                        <m:r>
                          <m:t xml:space="preserve">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575f6d"/>
                </a:solidFill>
                <a:uFillTx/>
                <a:latin typeface="Constantia"/>
              </a:rPr>
              <a:t>Задача для самостоятельного решения</a:t>
            </a:r>
            <a:endParaRPr b="0" lang="en-US" sz="4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определении кислотности молока на титрование  100 мл его пошло 25 мл раствора гидроксида натрия с Сэ =0,01 моль-экв/л. Определить Сэ молочной кислоты в молоке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вет: Сэ = 0.0025 моль-экв/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668c4"/>
                </a:solidFill>
                <a:latin typeface="Constantia"/>
              </a:rPr>
              <a:t>Список литературы: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сновна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ая химия. Биофизическая химия. Химия биогенных элементов : учебник для студентов вузов / ред. Ю. А. Ершов. - М. : Высшая школа, 2009. - 559 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оорганическая химия : учебник для вузов / Н. А. Тюкавкина, Ю. И. Бауков. - М. : Дрофа, 2005. - 544 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оорганическая химия : учебник для студентов медицинских вузов / Н. А. Тюкавкина, Ю. И. Бауков, С. Э. Зурабян. - М. : ГЭОТАР-Медиа, 2010. - 416 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ая химия : учебник для студентов медицинских вузов / В. А. Попков, С. А. Пузаков. - М. : ГЭОТАР-Медиа, 2009. - 976 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иоорганическая химия : учебник для студентов вузов, обучающихся по специальностям 040100 "Лечебное дело", 040200 "Педиатрия", 040300 "Медико-профилактическое дело", 040400 "Стоматология" / Н. А. Тюкавкина, Ю. И. Бауков. - М. : Дрофа, 2008. - 542 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имия : учебник / А. В. Жолнин ; под ред. В. А. Попкова, А. В. Жолнина. – М. :ГЭОТАР-Медиа, 2012. - 400 с.: и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пособия кафедр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344" name="Содержимое 3" descr="7RF1J-Ivkvk.jpg"/>
          <p:cNvPicPr/>
          <p:nvPr/>
        </p:nvPicPr>
        <p:blipFill>
          <a:blip r:embed="rId1"/>
          <a:srcRect l="0" t="0" r="391" b="9010"/>
          <a:stretch/>
        </p:blipFill>
        <p:spPr>
          <a:xfrm>
            <a:off x="428760" y="357120"/>
            <a:ext cx="8286480" cy="55198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-55800" y="5857920"/>
            <a:ext cx="925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АУДИТОРИИ, БИБЛИОТЕКИ, УЧЕБНЫХ ПОСОБИЙ НА САЙТЕ…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575f6d"/>
                </a:solidFill>
                <a:latin typeface="Constantia"/>
              </a:rPr>
              <a:t>Лекции, методические пособия (путь на сайте НГМУ)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ниверситет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уктура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федра медицинской химии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ументы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дико-пофилактический факультет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дико-профилактическое дело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курс 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щая химия, биоорганическая хим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62110"/>
                </a:solidFill>
                <a:latin typeface="Constantia"/>
              </a:rPr>
              <a:t>  </a:t>
            </a:r>
            <a:r>
              <a:rPr b="0" lang="ru-RU" sz="6000" spc="-1" strike="noStrike">
                <a:solidFill>
                  <a:srgbClr val="862110"/>
                </a:solidFill>
                <a:latin typeface="Constantia"/>
              </a:rPr>
              <a:t>УСПЕХОВ В УЧЁБЕ 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0" name="Рисунок 3" descr="depositphotos_8943039-Aha-Smiley.jpg"/>
          <p:cNvPicPr/>
          <p:nvPr/>
        </p:nvPicPr>
        <p:blipFill>
          <a:blip r:embed="rId1"/>
          <a:stretch/>
        </p:blipFill>
        <p:spPr>
          <a:xfrm>
            <a:off x="2143080" y="3071880"/>
            <a:ext cx="44197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onstantia"/>
              </a:rPr>
              <a:t>ПАРАЦЕЛЬС</a:t>
            </a:r>
            <a:endParaRPr b="0" lang="en-US" sz="2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605320" cy="317196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(Филипп Ауреол Теофраст Бомбаст фон ГОГЕНГЕЙМ)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1493 - 1541) - швейцарский врач и астролог, профессор университета. Основоположник ятрохим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Рисунок 5" descr="Paracelsus.jpg"/>
          <p:cNvPicPr/>
          <p:nvPr/>
        </p:nvPicPr>
        <p:blipFill>
          <a:blip r:embed="rId1"/>
          <a:srcRect l="0" t="18082" r="0" b="1808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onstantia"/>
              </a:rPr>
              <a:t>Вклад Парацельса в медицинскую химию</a:t>
            </a:r>
            <a:endParaRPr b="0" lang="en-US" sz="32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рацельс считал химическими все процессы, происходящие в организме, и был уверен, что болезнь возникает в результате нарушения химического состава организма. Лекарство должно восстановить его нормативный состав. Он впервые успешно стал применять неорганические вещества в медицине и привлёк внимание врачей к изучению хим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onstantia"/>
              </a:rPr>
              <a:t>Вклад Парацельса в медицинскую химию</a:t>
            </a:r>
            <a:endParaRPr b="0" lang="en-US" sz="32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читал, что всё происходящее в организме - это химические процесс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ял лекарства из растений, развил новое представление о дозировке лекарств и использовал для лечебных целей минеральные источник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рацельс был первым, кто изобрел таблетку. С тех времен таблетка слегка трансформировалась и деформировалась, но все же увлажнять и прессовать порошок придумал Парацель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onstantia"/>
              </a:rPr>
              <a:t>Вклад Парацельса в медицинскую химию</a:t>
            </a:r>
            <a:endParaRPr b="0" lang="en-US" sz="32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рацельс всю сознательную жизнь и врачебную практику посвятил пропаганде гигиены и чистоты, будучи уверенным, в том, что мыло, которое, к слову сказать, именно он и начал варить первым, может не только уничтожить болезнетворные бактерии и очистить тело, но и стать настоящей панацеей от бушевавшей во времена Парацельса чум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onstantia"/>
              </a:rPr>
              <a:t>Вклад Парацельса в медицинскую химию</a:t>
            </a:r>
            <a:endParaRPr b="0" lang="en-US" sz="32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теряв сына и жену, будучи сам тяжело больным чумой Парацельс продолжил свои опыты в ятрохимии, естествоиспытатель был уверен, что правильное дозирование лекарств полученных химическим путем - это будущее науки. В этом он оказался прав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арацельс в предсмертной записке написал всего три слова: борьба, жизнь, разу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05:54:42Z</dcterms:created>
  <dc:creator>Елена</dc:creator>
  <dc:description/>
  <dc:language>en-US</dc:language>
  <cp:lastModifiedBy>Home</cp:lastModifiedBy>
  <dcterms:modified xsi:type="dcterms:W3CDTF">2017-01-13T16:24:08Z</dcterms:modified>
  <cp:revision>120</cp:revision>
  <dc:subject/>
  <dc:title>Химия и медицина.  Способы выражения концентрации растворов. Метод титриметрического анализа.</dc:title>
</cp:coreProperties>
</file>