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EAE-2117-4CF9-AF80-26D4B87F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E33-DD93-4C0A-968D-95D00103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51E-E8BF-4F33-B03C-EF9E2201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BC5-C59C-4E1A-ADC1-540DBE4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139-D15E-4A3A-B0BD-46A04978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B20-7B3B-44EC-A345-3FDFB9E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7C5-B8BC-4354-B990-3228AD8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228-BA38-434E-828E-0BD9DB6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6C5-8B68-41CE-92AE-9855BDCC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0E5-110F-46D1-A488-B82540D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A4D-2E3E-4818-9DCA-691B607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42C-91E9-48DF-86C2-BC8BFB2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2CA6-78E3-431F-A9C8-A09F0ECA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кция №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Основы физиологии спинного моз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ышечные веретена (стро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907920"/>
            <a:ext cx="4464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ипы волокон мышечной ткани и их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1. Экстрафузальные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– обеспечивают активное укорочение мышцы при совершении мышцейполезн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2. Интрафузальные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– отвечают за восприятие организмом сокращения или расслабления мышцы, а также за восприятие динамического поведения мышц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 Ядерно-сумчатые (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С) волокна или волокна с ядерной сумкой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– вовлечены в динамические ответы, а импульсация в их волокнах зависит от скорости удлинения мышц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Ядерно-цепочечные (ЯЦ) волокна или волокна с ядерной цепочкой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вовлечены в статические ответы, а импульсация во вторичных волокнах главным образом зависит от статической длины мышцы.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Раздельная гамма-иннервация ЯС и ЯЦ волокон делает возможным раздельную регуляцию динамической и статической реактивности сенсорных окончаний, что увеличивает точность сенсорных сигналов и управление работой мыш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ышечные веретен (тро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уставные рецеп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311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ажнейшие двигательные безусловные рефлексы у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осходящие соматосенсорные пути спинного мозга (схе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5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осходящие проприоцептивные пути спинного мозга (схе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41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91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новные восходящие (чувствительные) пути спин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229600" cy="373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4105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91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новные нисходящие (двигательные) пути спин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3213000"/>
            <a:ext cx="8229600" cy="338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432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иотатический рефлекс и реципрокное антагонистическое торм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264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 (ПРАВИЛО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БЕЛЛА-МАЖ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орсальные корешки спинного мозга являются афферентными (чувствительными) и при их повреждении доминируют расстройства чувствительности, а передние – эфферентными (двигательными) и при их повреждении доминируют двигательные рас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хема эксперимента для изучения перекрестного сгибательно-разгибательного реф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02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лисинаптический защитный перекрестный сгибательно-разгибательный рефлекс (сх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329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хема антидромного торм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5857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02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Наиболее общие функции спинного мозг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Рефлекто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оводниковая: афферентная и эфферен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Регулято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Хранение и воспроизведение автоматизированных двигательных про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омеост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Троф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И многие друг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Морфо-функциональные особенности спинного мозга в онтоген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о внутриутробном периоде спинной мозг заполняет весь позвоночный канал, но начиная с 3 месяца постнатального развития позвоночник растет в длину быстрее, чем спинной мозг. Длина спинного мозга у новорожденного около 14 см. До 10 летнего возраста его длина удваивается. У взрослого длина спинного мозга составляет 42-43 см. Известно, что спинной мозг новорожденного более сформирован, чем головной. Основные пути его миелинизированы и функционируют, причем раньше миелинизируются чувствительные пути, а лишь затем двигательные (по мере формирования двигательной активности ребенка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Arial"/>
              </a:rPr>
              <a:t>Восходящие пути спинного мозга.  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роводником   болевой, температурной и частично тактильной чувствительности является спиноталамический путь, который у новорожденных вполне сформирован и покрыт миелином. Поэтому ребенок с первых дней рождения реагирует на болевые и температурные раздражения. Проводниками глубокой мышечной, суставной и кожной тактильной чувствительности являются пути Голля и Бурдаха, которые проходят в задних столбах спинного мозга. У новорожденного эти пути покрыты миелином. Однако в первые месяцы жизни ребенок еще не может локализовать раздражения, что связано с недостаточной функциональной зрелостью коры больших полушарий и других структур головного мозг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Arial"/>
              </a:rPr>
              <a:t>Нисходящие пути.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У новорожденного пирамидные пути лишены миелина. Миелинизация их начинается только с 3-4-го месяца после рождения и завершается к 2-3 годам жизни. Наиболее интенсивно процесс миелинизации волокон пирамидного пути происходит с первых попыток стояния и ходьбы. Рубро-спинальный и вестибуло-спинальный пути у новорожденных покрыты миелин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36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инципиальная схема поперечного строения спин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503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ейроны спинного мозга (нача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052640"/>
          <a:ext cx="8209080" cy="5314680"/>
        </p:xfrm>
        <a:graphic>
          <a:graphicData uri="http://schemas.openxmlformats.org/drawingml/2006/table">
            <a:tbl>
              <a:tblPr/>
              <a:tblGrid>
                <a:gridCol w="2089080"/>
                <a:gridCol w="6120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ейр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ьфа мотоней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упные клетки, их аксоны входят в состав передних корешков спинного мозга. Эти мотонейроны иннервируют экстрафузальные волокна скелетной мускулатуры, обеспечивающие укорочение мышцы и выполнение ею работы. Альфа-мотонейроны имеют разветвленные дендриты с большим  количеством синапсов (до 20 тысяч на одну клетку). Эти синаптические входы образованы преимущественно вставочными нейронами. Кроме того, альфа мотонейроны получают синаптические контакты от интрафузальных волокон, а также от нисходящих трактов пирамидной системы (кортикоспинальные волокна) и непирамидной или экстрапирамидной систем (рубро-, вестибуло-, ретикуло-, текто- и оливо-спинальных путей). Альфа мотонейроны обладают выраженной ритмической активностью, их деполяризация приводит к ритмической генерации потенциалов действия, однако частота подобной активности не слишком высока – 10-20 Г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ейроны спинного мозга (продол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981000"/>
          <a:ext cx="8209080" cy="5608440"/>
        </p:xfrm>
        <a:graphic>
          <a:graphicData uri="http://schemas.openxmlformats.org/drawingml/2006/table">
            <a:tbl>
              <a:tblPr/>
              <a:tblGrid>
                <a:gridCol w="2089080"/>
                <a:gridCol w="6120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ейр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 мотоней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нервируют как интра-, так и экстрафузальные волокна мышц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тоней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лкие клетки, расположенные в передних рогах спинного мозга. Посылают аксоны (именуемые гамма-эфферентами), которые иннервируют интрафузальные мышечные волокна. Эти волокна не обеспечивают эффективного мышечного укорочения, но влияют на степень импульсации мышечных веретен. Частота импульсации гамма-мотонейронов может достигать 200-500 Гц в связи с короткой фазой следовой гиперполяризации, что отличает эти клетки от альфа-мотонейр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рней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промежуточные или вставочны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остки не выходят за пределы спинного мозга. Однако аксоны этих нейронов могут иметь различную длину обеспечивая внутрисегментарные или межсегиентарные взимодействия с другими клетками. Кроме того, на вставочных нейронах заканчиваются волокна большинства нисходящих путей ЦНС, что позволяет рассматривать их как релейно-интегративный аппарат спинногом мозга. Мультиполярные клетки, с развитой сетью дендритов, на которых может быть до 500 синапсов в пересчете на одну клетку. Частота импульсации этих клеток может достигать 1000 Гц. Выделяют как возбуждающие, так и тормозные интерней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ейроны спинного мозга (оконч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052640"/>
          <a:ext cx="8209080" cy="3603600"/>
        </p:xfrm>
        <a:graphic>
          <a:graphicData uri="http://schemas.openxmlformats.org/drawingml/2006/table">
            <a:tbl>
              <a:tblPr/>
              <a:tblGrid>
                <a:gridCol w="2232000"/>
                <a:gridCol w="5977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нейр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ганглионарные нейроны автономной нервн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агаются преимущественно в боковых рогах спинного мозга, а также в передних. Аксоны этих клеток направляются к симпатическим ганглиям и к интрамуральным ганглиям внутренних органов. Эти нейроны обладают выраженной фоновой активностью, но имеют редкую частоту (не более 15 Гц). Разряды преганглионарных симпатических нейронов синхронизированы с колебаниями артериального давления, а активность преганглионарных парасимпатических нейронов сакрального отдела соответствует изменению функционального состояния внутренних орган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бщий конечный путь (по Ч. Шеррингто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454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приоцепция и кинест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5388120" cy="327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12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47:47Z</dcterms:created>
  <dc:creator>И.В. Филиппов</dc:creator>
  <dc:description/>
  <dc:language>en-US</dc:language>
  <cp:lastModifiedBy>И.В. Филиппов</cp:lastModifiedBy>
  <dcterms:modified xsi:type="dcterms:W3CDTF">2008-10-01T06:09:04Z</dcterms:modified>
  <cp:revision>16</cp:revision>
  <dc:subject>Основы физиологии спинного мозга</dc:subject>
  <dc:title>Лекция № 7</dc:title>
</cp:coreProperties>
</file>