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80625" cy="7559675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32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4" y="0"/>
                </a:moveTo>
                <a:arcTo wR="4" hR="4" stAng="16200000" swAng="-5400000"/>
                <a:lnTo>
                  <a:pt x="0" y="31507"/>
                </a:lnTo>
                <a:arcTo wR="4" hR="4" stAng="10800000" swAng="-5400000"/>
                <a:lnTo>
                  <a:pt x="21596" y="315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91880" y="954000"/>
            <a:ext cx="4584600" cy="34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4080" y="4729320"/>
            <a:ext cx="46656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373040" y="954000"/>
            <a:ext cx="406728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371600" y="954000"/>
            <a:ext cx="40705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371600" y="954000"/>
            <a:ext cx="40705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371600" y="954000"/>
            <a:ext cx="40705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371600" y="954000"/>
            <a:ext cx="40705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371600" y="954000"/>
            <a:ext cx="40705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371600" y="954000"/>
            <a:ext cx="40705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371600" y="954000"/>
            <a:ext cx="40705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371600" y="954000"/>
            <a:ext cx="40705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371600" y="954000"/>
            <a:ext cx="40705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53720" y="4729320"/>
            <a:ext cx="466740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89899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7520" y="4340880"/>
            <a:ext cx="89899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752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408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01564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6480" y="201564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520" y="434088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34088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6480" y="434088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51F-C234-4CC1-A872-B2B75253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87520" y="2015640"/>
            <a:ext cx="898992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9E2-D3F4-4BE9-A570-C8217CE2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898992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17C-38FE-4DE7-A669-8EB02E95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5E2-7958-453A-90C5-83280166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C0C-EC96-4179-88E3-DEA163DC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87520" y="520560"/>
            <a:ext cx="8989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B30-8254-49BC-8EB6-F94CF4DE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752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0E0-6723-401E-A05D-2D5E442E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7520" y="2015640"/>
            <a:ext cx="898992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408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BB6-A8C6-4A2B-959C-8D8A29C4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7520" y="4340880"/>
            <a:ext cx="89899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4D4-8F06-4A54-985D-511E8374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89899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7520" y="4340880"/>
            <a:ext cx="89899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F5F-18FE-4BF1-991F-F806901F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752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408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DC9-72C9-49B0-B400-C0480FC9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27000" y="201564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66480" y="201564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87520" y="434088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27000" y="434088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66480" y="434088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6A0-C3BE-4AD4-9DB8-8011CFC6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4CB-A6C0-4CF9-A4A5-1FD01263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87520" y="2015640"/>
            <a:ext cx="898992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DFFA-D48E-4169-B4F7-34ABFB72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898992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86D7-5963-416B-B757-4B0366CD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BB92-1344-480D-ADE0-251A8F2A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19D5-F9A9-4DC0-8FD3-0C717CCB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898992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87520" y="520560"/>
            <a:ext cx="8989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97DE-5450-4ADF-BBDD-2716328A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752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5F61-D2A0-4EE5-A5B7-95C19FD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9408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4079-837C-4B7B-AA96-D94711D8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7520" y="4340880"/>
            <a:ext cx="89899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1474-9E9B-4010-A023-1383899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89899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87520" y="4340880"/>
            <a:ext cx="89899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543B-99A2-40B0-9E51-EE7AFE94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752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9408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17E8-59F7-4D3E-9AAD-6E15AEC8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27000" y="201564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66480" y="201564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87520" y="434088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27000" y="434088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66480" y="4340880"/>
            <a:ext cx="289440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3E72-74CD-4730-A3F1-07D26019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87520" y="520560"/>
            <a:ext cx="8989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752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4080" y="434088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752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4080" y="2015640"/>
            <a:ext cx="43869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7520" y="4340880"/>
            <a:ext cx="89899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5568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07800"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24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22280">
              <a:lnSpc>
                <a:spcPct val="10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39800" indent="-422280">
              <a:lnSpc>
                <a:spcPct val="10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028880" indent="-422280">
              <a:lnSpc>
                <a:spcPct val="10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316160" indent="-401760">
              <a:lnSpc>
                <a:spcPct val="10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1604880" indent="-422280">
              <a:lnSpc>
                <a:spcPct val="10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1604880" indent="-422280">
              <a:lnSpc>
                <a:spcPct val="1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1604880" indent="-422280">
              <a:lnSpc>
                <a:spcPct val="1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49960"/>
            <a:ext cx="1969920" cy="105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252360" y="252360"/>
            <a:ext cx="9575640" cy="6551280"/>
            <a:chOff x="252360" y="252360"/>
            <a:chExt cx="9575640" cy="6551280"/>
          </a:xfrm>
        </p:grpSpPr>
        <p:sp>
          <p:nvSpPr>
            <p:cNvPr id="40" name="Rectangle 3"/>
            <p:cNvSpPr/>
            <p:nvPr/>
          </p:nvSpPr>
          <p:spPr>
            <a:xfrm>
              <a:off x="252360" y="252360"/>
              <a:ext cx="9575640" cy="655128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Rectangle 4"/>
            <p:cNvSpPr/>
            <p:nvPr/>
          </p:nvSpPr>
          <p:spPr>
            <a:xfrm>
              <a:off x="338040" y="338040"/>
              <a:ext cx="9402840" cy="6360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Line 5"/>
            <p:cNvSpPr/>
            <p:nvPr/>
          </p:nvSpPr>
          <p:spPr>
            <a:xfrm>
              <a:off x="588240" y="1910880"/>
              <a:ext cx="89877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87520" y="2015640"/>
            <a:ext cx="898992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15720">
              <a:spcBef>
                <a:spcPts val="8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260360" indent="-252360">
              <a:spcBef>
                <a:spcPts val="850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763640" indent="-252360">
              <a:spcBef>
                <a:spcPts val="8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268360" indent="-252360">
              <a:spcBef>
                <a:spcPts val="85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268360" indent="-252360">
              <a:spcBef>
                <a:spcPts val="85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268360" indent="-252360">
              <a:spcBef>
                <a:spcPts val="85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587160" y="6888240"/>
            <a:ext cx="22683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570120" y="688824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747720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7AB7046-D99E-44C4-A86E-D3526CB7D85F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20840" y="503280"/>
            <a:ext cx="9256320" cy="6132240"/>
            <a:chOff x="420840" y="503280"/>
            <a:chExt cx="9256320" cy="6132240"/>
          </a:xfrm>
        </p:grpSpPr>
        <p:sp>
          <p:nvSpPr>
            <p:cNvPr id="85" name="Rectangle 3"/>
            <p:cNvSpPr/>
            <p:nvPr/>
          </p:nvSpPr>
          <p:spPr>
            <a:xfrm>
              <a:off x="420840" y="503280"/>
              <a:ext cx="9256320" cy="613224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499680" y="587160"/>
              <a:ext cx="9070920" cy="5964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1008720" y="3947040"/>
              <a:ext cx="806292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7520" y="520560"/>
            <a:ext cx="89899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87520" y="2015640"/>
            <a:ext cx="898992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15720">
              <a:spcBef>
                <a:spcPts val="8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260360" indent="-252360">
              <a:spcBef>
                <a:spcPts val="850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763640" indent="-252360">
              <a:spcBef>
                <a:spcPts val="8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268360" indent="-252360">
              <a:spcBef>
                <a:spcPts val="85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268360" indent="-252360">
              <a:spcBef>
                <a:spcPts val="85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268360" indent="-252360">
              <a:spcBef>
                <a:spcPts val="85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592200" y="6888240"/>
            <a:ext cx="22636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84520" y="6888240"/>
            <a:ext cx="318312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483320" y="6897240"/>
            <a:ext cx="2100240" cy="505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85FC767-B7E9-4E1A-A311-9B406C2D25D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02920" y="1187280"/>
            <a:ext cx="9217080" cy="32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08072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Раздел 3 БЖД в условиях производств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0807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Шум: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определение,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параметры,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действие на человека,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нормирование, з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ащита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т шу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Вибрация: определение, параметры,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действие на человека,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нормирование,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защита, режимы работ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802080"/>
            <a:ext cx="9074160" cy="52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ежимы труда и отдыха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) продолжительность работы в контакте с вибрацией долж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ть не более 2/3 сме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) продолжительность одноразового включения оборудования, генерирующего вибрацию, должна составлять 15-20 м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) продолжительнос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обеденног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ереры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н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мен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 м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) регламентированные перерывы в рабо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20 мин через 1-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час после начала см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30 мин через 2 час после обе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Рекомендуется самомассаж и обогрев рук, курсы прфилак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чес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го лечения; обязателен проф. осмотр 1 раз в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644387763"/>
          <p:cNvPicPr/>
          <p:nvPr/>
        </p:nvPicPr>
        <p:blipFill>
          <a:blip r:embed="rId1"/>
          <a:stretch/>
        </p:blipFill>
        <p:spPr>
          <a:xfrm>
            <a:off x="3024360" y="1692360"/>
            <a:ext cx="39589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02920" y="779400"/>
            <a:ext cx="9001080" cy="54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ум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Шу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який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неприятн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действующи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челове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звук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Источником может 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ть любо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колеблющееся тело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ыведенно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из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равновес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какой-либ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нешней силой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Шум распространяется последовательно в виде волны с длиной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λ = с/f = c×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Пространство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гд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происходи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перенос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энерги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п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звуковой волне, на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ывается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звуков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полем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количество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энерги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излучаемо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в простран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-  звуковая мощность W, В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ть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кже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звуковое давлени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Р, Па;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интенсивность звук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J, Вт/м</a:t>
            </a:r>
            <a:r>
              <a:rPr b="0" lang="en-GB" sz="1800" spc="-1" strike="noStrike" baseline="33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н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звукового давления и уровни интенсивност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L</a:t>
            </a:r>
            <a:r>
              <a:rPr b="0" lang="en-GB" sz="18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и L</a:t>
            </a:r>
            <a:r>
              <a:rPr b="0" lang="en-GB" sz="1800" spc="-1" strike="noStrike" baseline="-33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, д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сь 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кустический диапазон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делит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по частоте на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3 зоны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0 - 16 Гц - инфразвук,  16 Гц – 20 кГц - слышимый звук, &gt; 20 кГц – ультразву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у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 разделяют на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полосы часто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9 октав) со среднегеометриче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час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02920" y="780840"/>
            <a:ext cx="8929800" cy="59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йствие шума на человека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50000"/>
              </a:lnSpc>
              <a:spcBef>
                <a:spcPts val="524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Шум – общебиологический раздражитель, он действует на все системы человека, в первую очередь на нервную;  шум такой же медленный убийца, как и химическое отрав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Интенсивный шум на производстве способствует снижению внимания, увеличению числа ошибок, снижению быстроты реакции, производительности труда, качества работы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Шум оказывает влияние на весь организм: угнетает ЦНС, способствует нарушению обмена веществ, возникновению звболеваний ССС,  может привести к проф. заболеваниям –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тугоухости, гипертони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Характерные жалобы: повышенная утомляемость, общая слабость, раздражительность, апатия, потлив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Степени тугоухости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легкая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порог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слышимост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0 дБ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больные не слышат шопот; умеренная (&gt;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40 дБ), не слышат разговорную речь; тяжел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(&gt;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60 дБ), не слышат громкую речь;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лная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глухот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- не слышат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 крик. 130 дБ - боль, 186 - разрыв бара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анно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й перепонки,196 - смер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590400"/>
            <a:ext cx="8928000" cy="60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рмирование ГОСТ 12.1.003-83, СН 2.2.4/2.1.8.562-96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Нормируется :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ровень звукового давле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дБ) в октавных полосах  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ровень звук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эквивалентный уровень звука) в дБ(А) в зависимости от вида производственной деятель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Октавная полоса частот (например, первая 2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4 Гц) характеризуется среднегеометрической (f</a:t>
            </a:r>
            <a:r>
              <a:rPr b="0" lang="en-GB" sz="2000" spc="-1" strike="noStrike" baseline="-33000">
                <a:solidFill>
                  <a:srgbClr val="ffffff"/>
                </a:solidFill>
                <a:latin typeface="Arial"/>
              </a:rPr>
              <a:t>с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√f</a:t>
            </a:r>
            <a:r>
              <a:rPr b="0" lang="en-GB" sz="2000" spc="-1" strike="noStrike" baseline="-33000">
                <a:solidFill>
                  <a:srgbClr val="ffffff"/>
                </a:solidFill>
                <a:latin typeface="Arial"/>
              </a:rPr>
              <a:t>1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x f</a:t>
            </a:r>
            <a:r>
              <a:rPr b="0" lang="en-GB" sz="20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) частотой, равной: 31,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ц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первая)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тальные -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3, 125, 250, 500, 1000, 2000, 4000, 8000 Г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ответственно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Для производственных условий характерным является шум в шестой октаве со f</a:t>
            </a:r>
            <a:r>
              <a:rPr b="0" lang="en-GB" sz="2000" spc="-1" strike="noStrike" baseline="-33000">
                <a:solidFill>
                  <a:srgbClr val="ffffff"/>
                </a:solidFill>
                <a:latin typeface="Arial"/>
              </a:rPr>
              <a:t>с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1000 Г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Для постоянных рабочих мест в производственных помещениях уровень звукового давления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ПДУ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75 дБ, уровень звука (эквивалентный уровень звука) = 80 дБА; для КБ, лаборат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й, ПЭВМ соответственно = 45дБ и 50 дБ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ДУ УЗ = 110 дБ в диапазоне 25-105 Гц; ПДУ инфразвука = 105 дБ в диапаз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е частот от 8 до 16 Гц и = 102 дБ н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оте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1,5 Гц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76000" y="718920"/>
            <a:ext cx="9001080" cy="61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62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0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Защита от шума ГОСТ 12.1.029-80, СНиП 23.03-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62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20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редства коллективной защи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2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20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А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архитектур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ланировочны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метод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рациональное размещение оборудования, рабочих мест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зон и режимо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движения транспорта,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2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20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 – акустические средства: звукоизоляции (ограждения, кожухи, кабины, экраны)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звукопоглощ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облицовки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объемны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глотители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иброизоляци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окладки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опоры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конструктивные разрывы); демпфирования (элементы с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сухим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язким 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внутренним трением); глушители шум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реактивные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абсорбционные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мбини -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рован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2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20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С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организацион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ехнически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метод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ДУ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малошумные технологии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алошумные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машины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совершенствовани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ремонт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обслужива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2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20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редства индивидуальной защи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2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20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науш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вкладыши «беруш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шлемы, каск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. костюмы при уровне &gt;120 д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2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20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02920" y="793440"/>
            <a:ext cx="90010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б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бра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сложны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колебатель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процесс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возникающи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периодическом смещени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центра тяже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тела о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полож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равновес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а также при периодическом изменении формы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Параметры вибраци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амплитуда, м; колебательная скорость, м/с; колебательное ускорение, м/с</a:t>
            </a:r>
            <a:r>
              <a:rPr b="0" lang="en-GB" sz="1800" spc="-1" strike="noStrike" baseline="33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частота, Г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Причина вибр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неуравновешен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силов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воздейств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 работе машин (вращающиеся массы, удары детал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дисбаланс, возвратно-поступательные движущиеся системы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Вид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ибраци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общая, локальная (местная)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Виды обще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транспортная , транспортн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технологическая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ехнологи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ческая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Технологическая подразделяется на категории: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а (действует на постоянных рабочих местах производственных помещений)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б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на рабочих местах, где нет генерирующих вибрацию машин)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в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 служебных помещ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ниях, КБ, лабораториях, ...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ибрация подраздеяется по направлениям осей координат, опасна по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По частоте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16 Г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низкочастотная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1,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63 Г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среднечастотн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748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25-1000 Гц - высокочас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я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пасн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частотах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6-250 Г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03280" y="562320"/>
            <a:ext cx="8928000" cy="58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ействие вибрации на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7460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460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брация, воздействуя на живой организм, трансформируется в энергию биохимических и биоэлектрических процессов, формируя ответную реакцию организма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ейств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брации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зависи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е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ида, параметров и на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С частоты более 2 Гц человек ведет себя как целостная масса, имеющая свои резонансные частоты, т.е. человек – сложная колебательная система.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есьма опасн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колебания рабочих мес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с частотой, резонансной колебаниям отдельных органов частей тела: для внутренних органов 6-9 Гц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460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для сидяще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челове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-12 и 17-25 Гц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для стоящего 4-6 Г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может быть разрыв внутренних органов), для глазных яблок 30-80 Гц (пеле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460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4600"/>
                <a:tab algn="l" pos="53640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Общая вибрация вызывае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психофизиологический дискомфорт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ухуд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шение самочувствия, настроения, рост уровня тревожности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напряженности. Происходят изменения в ССС, вестибулярном аппарате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нарушается обмен веществ, страдает нервная система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ны: головные боли, головокру- жения,  плохой  сон,  понижение  работоспособности,  плохое  самочувствие, нарушение сердечной деятельности, зябкость, тугоподвижность пальцев рук, изменение цвета кожи пальцев и рук, морская болезнь (укачивание, тошнота, рво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31640" y="636480"/>
            <a:ext cx="9072720" cy="627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йствие вибрации на орг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Может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развитьс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о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сионально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заболе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иброболез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000" spc="-1" strike="noStrike" baseline="33000">
                <a:solidFill>
                  <a:srgbClr val="ffffff"/>
                </a:solidFill>
                <a:latin typeface="Arial"/>
              </a:rPr>
              <a:t>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степен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резкие тянущие и ноющие боли, зябкость, парестезия костей, снижение силы в руках, судороги в кистях, дистрофические нарушения опорно-двигательного аппарата. Виброболезнь стоит на 2 месте (после пылевых) среди проф. заболеваний; возможна инвалидность. Частота 1-80 Гц наиболее часто встречается на производстве; при частоте ниже 1 Гц – возникает укач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Локальная вибрац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бич современного производ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Для нее характерны: спазмы сосудов кистей, предплечий, нарушение снабжения конечностей кровью. Имеет место действие и на нервные окончания, мышечные и костные ткани, снижение костной чувствительности, отложение солей в суставах пальцев, деформируя и уменьшая их подвижность, резкое снижение тонуса капиляров, спазм сосудов (на высоких частота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48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3280" y="1038960"/>
            <a:ext cx="8858160" cy="538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рмирование и защита от виб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Нормы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установлены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(ГОСТ 12.1.012-90, СН 2.2.4/2.1.8.556-96)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для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среднеквадратичных значений виброускорения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(м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и логарифмических уровней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виброускорения (дБ)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в октавных и 1/3 октавных частотах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для  видов вибраций и работ: так, для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общей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технологической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вибрации показатели  (ПДУ)  при продолжительности  смены  8 час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ля 3а 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дБ;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для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3в =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дБ;  для локальной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ибрации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=  1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дБ.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Коллективные методы защиты (ГОСТ 12.4.046-78)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А – снижение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ибрации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в источнике (замена динамич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ески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х процессов статическими, режим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раборы оборуд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вани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я, балансировка,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ск. резонанс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Б – уменьшение параметров вибрации по пути распространения (вибропоглощение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двухслойными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материалами;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виброгашение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– фунда -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менты, колеб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ательны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е системы; виброизоляция пружинами, прокладками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СИЗ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: рукавицы, перчатки (ГОСТ 12.4.002-74), снижение на 1-5 и 1-6 дБ при δ= 5 и 6 мм для f= 8-20 000 Гц; спец. обувь (ГОСТ 12.4.024-74), снижение на 2-7 дБ на f = 16; 31,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746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и 63 Гц при толщ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е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прокладок 5, 8 и 10 м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3-07-25T07:44:34Z</dcterms:modified>
  <cp:revision>30</cp:revision>
  <dc:subject/>
  <dc:title>Лекция 11  Раздел 3 БЖД в условиях производства </dc:title>
</cp:coreProperties>
</file>