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1817-5C85-4D5F-8DCF-6C6C868C8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2B0C-00D1-403D-A57D-7177B82EA2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00DB-E08B-46B7-9F22-F5A4384D6C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8D01-44A9-45AD-B9D7-2B37B434D2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45D5-8047-41ED-A9C8-0323647FA1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599D-A335-4C71-837F-6D7BA79ED9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CA32-2E0F-4343-B4A5-FEE5F16D94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AD10-D847-414D-B0F9-892F423CD6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A388-4993-44EF-B253-CD9452C692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FCE-DE16-423D-B981-C1EB607D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5B3-548D-4846-933D-ECA595DE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BAE-CD44-40CC-897E-DE092444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2E0-45AC-498B-9331-CFF9C459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1254-AF73-48B9-99FA-714313E1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F59D-455C-4861-A058-6DACA7F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1778-CD8C-4952-BBC6-EFA0B90E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B0F7-0E90-4E88-9153-ED348BD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A9DA-183C-437C-B54E-1ED0DFB5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76FB-0E8F-4271-80EA-722574C7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C6A4-BA80-4E04-A9C7-D908EA5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0E8-D410-4698-874C-FC93BFF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A76F-52EC-429F-9749-3323FCA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B7C1-70EA-4E88-9CBA-7615B9EE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F81B-C830-4176-BD9B-1B4C03B2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6C4D-CA30-40E3-94A0-662061AD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2F4A-729D-4637-9928-2C0D975E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8718-479A-49A4-97E8-7EDBBEAE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0044-6897-4166-A3C0-D927405B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8EFE-599D-4FD1-91BD-F30CE2C3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A26E-BC76-4A7D-B2AB-24D448A3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5403-A0B0-4DA2-B0A1-BD0B308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7A8-9B3B-4778-BA02-E9525BA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694E-9AE7-4493-9A02-B6CF240D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48C8-FC7D-4EAD-83D2-B590A81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0729-94CB-40FB-8169-141A2FEE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3274-543E-4639-9045-980274D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3DC1-69DD-4EFA-87BE-0FF4F3AA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DA3B-A569-4F6F-8AB6-4C0FB8BD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5FE5-F0D9-4F2B-9F66-E662134B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C17E-A508-4665-81A5-723CAF57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8056-CB83-4C99-9440-CA87D14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7120-6C3E-4144-ADCA-2FD1763E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7F5-29B1-4C04-98C5-08519F3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1557-8DF8-4BCF-AAA5-50A208A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BAC2-A1AC-4719-AF8B-C4DA86D7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5DFB-5CEA-437E-AF95-6651977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6EAC-91F9-4D97-BFD3-E83433B1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D15E-E976-4527-AF7B-41EB8C3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2E9D-A31D-4C69-ACC1-D43D263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2618-63AA-46F7-B061-9E02BA7F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24D3-15A3-49DD-98F0-CECF0C2B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011C-53C0-4CF6-B4EE-3B7D292E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0705E-AE81-4192-BD2A-36ACAE24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6EE-83A1-492F-A004-95502BCE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370C-D956-4FB9-BAB2-8A3E5179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31D77-6F90-4D82-94E1-856FBC6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0D0B-E111-47B7-95E5-6B5F0B6B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C95C3-BDE8-44E0-BA30-BB511BCC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B43E-DB4A-4CF3-B859-287B8DA9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19BC-C87A-4623-8293-F4570A7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9AE14-8A29-4FA9-85E1-54EA80FD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92CDC-8094-45A5-80EC-4C654FF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B85F-4A65-4EF3-9FF8-FE7C060B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ADBFC-F310-4815-883F-A0D92AED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EBA-E9FE-4432-9B99-1339135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0C989-6237-4EDF-B3D6-E58BE306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FC9-779E-44DC-B483-EB5FEAC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F5D-2ED2-4A70-B141-749E362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31E-D97E-476E-94C4-71D01D0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8B5-A7C1-403B-9841-C786FAE67212}" type="datetime">
              <a:rPr b="0" lang="en-US" sz="1000" spc="-1" strike="noStrike">
                <a:solidFill>
                  <a:srgbClr val="14335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EC45-4A5D-4D7D-B556-FB41E614573A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F7AB-2589-42FD-AFB5-1AD1924B3D2C}" type="datetime">
              <a:rPr b="0" lang="en-US" sz="1000" spc="-1" strike="noStrike">
                <a:solidFill>
                  <a:srgbClr val="14335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2E75-3663-470D-8421-ECF35CE6E658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B087-18B6-40C5-A092-C62CE3CA5B14}" type="datetime">
              <a:rPr b="0" lang="en-US" sz="1000" spc="-1" strike="noStrike">
                <a:solidFill>
                  <a:srgbClr val="14335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8F7-7DA4-46AB-A6FE-39ED9AF4552A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AB80-5D48-4FD9-909F-F1FEF42B08DA}" type="datetime">
              <a:rPr b="0" lang="en-US" sz="1000" spc="-1" strike="noStrike">
                <a:solidFill>
                  <a:srgbClr val="14335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91FF-3DE5-47D0-8292-455F6FFC58CF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5B9C-695B-451A-AE3C-FA493B675FAD}" type="datetime">
              <a:rPr b="0" lang="en-US" sz="1000" spc="-1" strike="noStrike">
                <a:solidFill>
                  <a:srgbClr val="14335a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4335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AC3E-CE6F-4735-86C5-3D7BE10C6320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to-kem.ru/professiya/trener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5280" y="620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Проект на тему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”E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сть такая професс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фитнес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инструктор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Васильев Савелий и Хавеничев Иван 9 с  класс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Тольятти 2015 г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85C3-24A7-41A0-8CF1-CA655A0FBEF3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Спасибо за внимание =)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255" name="Содержимое 4" descr="zToi1OHCcFE.jpg"/>
          <p:cNvPicPr/>
          <p:nvPr/>
        </p:nvPicPr>
        <p:blipFill>
          <a:blip r:embed="rId1"/>
          <a:stretch/>
        </p:blipFill>
        <p:spPr>
          <a:xfrm>
            <a:off x="1332000" y="836640"/>
            <a:ext cx="3116160" cy="4176720"/>
          </a:xfrm>
          <a:prstGeom prst="rect">
            <a:avLst/>
          </a:prstGeom>
          <a:ln w="0">
            <a:noFill/>
          </a:ln>
        </p:spPr>
      </p:pic>
      <p:sp>
        <p:nvSpPr>
          <p:cNvPr id="256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6238-BE82-4A22-A724-CB6428CBFA2B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C:\Users\Савелий\Desktop\Post_11_fot_(21).jpg"/>
          <p:cNvPicPr/>
          <p:nvPr/>
        </p:nvPicPr>
        <p:blipFill>
          <a:blip r:embed="rId2"/>
          <a:stretch/>
        </p:blipFill>
        <p:spPr>
          <a:xfrm>
            <a:off x="4905360" y="907920"/>
            <a:ext cx="2762280" cy="4105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стория возникновения професс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 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История этой профессии уходит корнями в далёкое прошлое, когда появились первые люди. Человек сейчас умеет и знает намного больше своих предков, потому что они открывали, изобретали, изучали и распространяли свои убеждения, инструкции по применению предметов, трав и корешков — своего рода наставники и учителя. Философы также имели последователей и учеников. В наше время большинство интересуется уже не тем, какие травы надо варить, а как строить бизнес. Поэтому около 10 лет назад приобрела популярность профессия бизнес-тренера.…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6F8C-EF84-42F0-B4FD-F3ED8121215B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C:\Users\Савелий\Desktop\важное савелия\DSC_1696_800.jpg"/>
          <p:cNvPicPr/>
          <p:nvPr/>
        </p:nvPicPr>
        <p:blipFill>
          <a:blip r:embed="rId2"/>
          <a:stretch/>
        </p:blipFill>
        <p:spPr>
          <a:xfrm>
            <a:off x="3132000" y="3141720"/>
            <a:ext cx="2735280" cy="316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1112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Тренер составляет индивидуальную программу занятий для своих  подопечных, дает им задания, следит за ходом тренировок, при необходимости исправляет ошибки и корректирует действия каждого из учеников. Кроме того, тренер занимается отбором — выбирает учеников, наиболее способных к его виду спорта, и убеждает их заняться именно им. Зачастую тренер вынужден решать и ряд организационных вопросов, не имеющих прямого отношения к тренировкам (обеспечение специального питания спортсменов, приобретение инвентаря и т. п.). Помимо собственно подготовки к достижению спортивных результат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1112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1112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6E82-BA86-44A1-8298-76031D01F786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C:\Users\Савелий\Desktop\важное савелия\1227684_12354-550x500.jpg"/>
          <p:cNvPicPr/>
          <p:nvPr/>
        </p:nvPicPr>
        <p:blipFill>
          <a:blip r:embed="rId1"/>
          <a:stretch/>
        </p:blipFill>
        <p:spPr>
          <a:xfrm>
            <a:off x="2050920" y="3068640"/>
            <a:ext cx="4525920" cy="3019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68360" y="549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оскольку тренировки у спортсменов высокого уровня проводятся дважды в день, и каждая, практически без выходных, рабочий день у тренера начинается рано, он фактически живет со своими спортсменами, сопровождая их на площадках как на родине, так и в многочисленных разъездах по всему мир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F8E-2648-4C44-8A66-5C0A164B0B26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C:\Users\Савелий\Desktop\i.jpg"/>
          <p:cNvPicPr/>
          <p:nvPr/>
        </p:nvPicPr>
        <p:blipFill>
          <a:blip r:embed="rId1"/>
          <a:stretch/>
        </p:blipFill>
        <p:spPr>
          <a:xfrm>
            <a:off x="1763640" y="2276640"/>
            <a:ext cx="5256360" cy="3450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1112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 спорте высших достижений тренер работает не единолично, а в сотрудничестве с другими специалистами: спортивными сотрудниками, занимающимися решением всех организационных вопросов, связанных с тренировками и выступлениями, психологами,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массажистами и т. д. Как правило, на должности тренеров приглашают работником с высшим (в редких случаях — со средним специальным) педагогическим  образованием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F047-FD46-4C06-84B2-9D03F207066C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C:\Users\Савелий\Desktop\i.jpg"/>
          <p:cNvPicPr/>
          <p:nvPr/>
        </p:nvPicPr>
        <p:blipFill>
          <a:blip r:embed="rId1"/>
          <a:stretch/>
        </p:blipFill>
        <p:spPr>
          <a:xfrm>
            <a:off x="2050920" y="2852640"/>
            <a:ext cx="4145040" cy="3097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6840" y="713880"/>
            <a:ext cx="8472600" cy="6000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1112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дготовка тренеров осуществляется в специализированных институтах физической культуры, на факультетах физической культуры педагогических институтов, в училищах олимпийского резерва. Для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еха в профессиональной деятельности тренеру необходима обстоятельная педагогическая подготовка (владение методикой тренировки, навыки профессионального общения со спортсменами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601F-0859-417D-899A-451DE3FD674C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C:\Users\Савелий\Desktop\важное савелия\post-3756-0-65589400-1389084805.jpg"/>
          <p:cNvPicPr/>
          <p:nvPr/>
        </p:nvPicPr>
        <p:blipFill>
          <a:blip r:embed="rId1"/>
          <a:stretch/>
        </p:blipFill>
        <p:spPr>
          <a:xfrm>
            <a:off x="2627280" y="2565360"/>
            <a:ext cx="3745080" cy="3743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Знание физиологических основ тренировочного процесса, а также особенностей соответствующего вида спорта — недаром большинство лучших тренеров получается из бывших спортсменов. Кроме того, тренеру важно хорошее знание психологии и понимание индивидуальных особенностей поведения спортсмена, умение где-то успокоить его, а где-то, наоборот, спровоцировать на «спортивную»</a:t>
            </a:r>
            <a:r>
              <a:rPr b="1" lang="en-US" sz="16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злость». Именно от таких нюансов подчас зависит побед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85C9-26E0-4A17-A988-0858BD030DE4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C:\Users\Савелий\Desktop\i.jpg"/>
          <p:cNvPicPr/>
          <p:nvPr/>
        </p:nvPicPr>
        <p:blipFill>
          <a:blip r:embed="rId1"/>
          <a:stretch/>
        </p:blipFill>
        <p:spPr>
          <a:xfrm>
            <a:off x="1332000" y="2565360"/>
            <a:ext cx="2401920" cy="321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Савелий\Desktop\i.jpg"/>
          <p:cNvPicPr/>
          <p:nvPr/>
        </p:nvPicPr>
        <p:blipFill>
          <a:blip r:embed="rId2"/>
          <a:stretch/>
        </p:blipFill>
        <p:spPr>
          <a:xfrm>
            <a:off x="4643280" y="2708280"/>
            <a:ext cx="3241800" cy="3168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1112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прос на тренеров на рынке труда относительно невелик, профессия на относится к числу массовых. Однако не так много и тех, кто может и хочет занять эти вакансии, поэтому сложностей с трудоустройством у них, как правило, не возникает. Информация о таких рабочих местах почти не попадает в средства массовой информации, поиск тренеров осуществляется, главным образом, через отзывы коллег и информацию в узкоспециальных издания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1112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6A6-33C5-47D2-AC50-EF6E5CCCE18F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C:\Users\Савелий\Desktop\i.jpg"/>
          <p:cNvPicPr/>
          <p:nvPr/>
        </p:nvPicPr>
        <p:blipFill>
          <a:blip r:embed="rId1"/>
          <a:stretch/>
        </p:blipFill>
        <p:spPr>
          <a:xfrm>
            <a:off x="2411280" y="3068640"/>
            <a:ext cx="3889440" cy="2840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0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0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Verdana"/>
              </a:rPr>
              <a:t>Диаграмма  показывает что инструкторы по фитнесу  нужны .</a:t>
            </a:r>
            <a:endParaRPr b="1" lang="en-US" sz="29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252" name="Содержимое 6" descr=""/>
          <p:cNvPicPr/>
          <p:nvPr/>
        </p:nvPicPr>
        <p:blipFill>
          <a:blip r:embed="rId1"/>
          <a:stretch/>
        </p:blipFill>
        <p:spPr>
          <a:xfrm>
            <a:off x="488880" y="425520"/>
            <a:ext cx="8285400" cy="4289400"/>
          </a:xfrm>
          <a:prstGeom prst="rect">
            <a:avLst/>
          </a:prstGeom>
          <a:ln w="0">
            <a:noFill/>
          </a:ln>
        </p:spPr>
      </p:pic>
      <p:sp>
        <p:nvSpPr>
          <p:cNvPr id="253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A6FC-A1D0-4DA2-8205-4824ADF53C44}" type="slidenum">
              <a:rPr b="0" lang="en-US" sz="1000" spc="-1" strike="noStrike">
                <a:solidFill>
                  <a:srgbClr val="1433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8:37:36Z</dcterms:created>
  <dc:creator>addvisor</dc:creator>
  <dc:description/>
  <dc:language>en-US</dc:language>
  <cp:lastModifiedBy>Diapsalmata</cp:lastModifiedBy>
  <dcterms:modified xsi:type="dcterms:W3CDTF">2016-04-23T17:49:32Z</dcterms:modified>
  <cp:revision>51</cp:revision>
  <dc:subject/>
  <dc:title>Слайд 1</dc:title>
</cp:coreProperties>
</file>