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4AF-440D-4318-BF24-8106F88D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D95-2A27-4216-BBF0-3AD9FBC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BA5-BB01-4C02-94B8-450B3948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47B-87DE-4C4E-B788-B85DA38C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6B0-C507-456E-9FB2-88321B49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1DC-3669-4C92-9590-C8E7B4E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6A7-A12D-4BE7-9869-D6100B64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300-C606-4521-A7A9-380C211E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485-D7A5-4ED0-886A-0586E9B3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8E4-5CDA-4C61-BC23-9E0215DF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1AF-0F60-489D-B189-A5047A06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5FA-7325-4115-BEDB-591D7349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AD83-645D-416B-B6CB-FD64C51BD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&#1069;&#1083;&#1040;&#1083;&#1073;&#1057;&#1093;&#1077;&#1084;/59-v/PowerPoint/101.ppt" TargetMode="External"/><Relationship Id="rId3" Type="http://schemas.openxmlformats.org/officeDocument/2006/relationships/hyperlink" Target="file:///1-1.ppt" TargetMode="External"/><Relationship Id="rId4" Type="http://schemas.openxmlformats.org/officeDocument/2006/relationships/hyperlink" Target="file:///1-1.ppt" TargetMode="External"/><Relationship Id="rId5" Type="http://schemas.openxmlformats.org/officeDocument/2006/relationships/hyperlink" Target="file:///1-1.ppt" TargetMode="External"/><Relationship Id="rId6" Type="http://schemas.openxmlformats.org/officeDocument/2006/relationships/hyperlink" Target="file:///1-2.ppt" TargetMode="External"/><Relationship Id="rId7" Type="http://schemas.openxmlformats.org/officeDocument/2006/relationships/hyperlink" Target="file:///1-3.ppt" TargetMode="External"/><Relationship Id="rId8" Type="http://schemas.openxmlformats.org/officeDocument/2006/relationships/hyperlink" Target="file:///1-3.ppt" TargetMode="External"/><Relationship Id="rId9" Type="http://schemas.openxmlformats.org/officeDocument/2006/relationships/hyperlink" Target="file:///1-3&#1072;.ppt" TargetMode="External"/><Relationship Id="rId10" Type="http://schemas.openxmlformats.org/officeDocument/2006/relationships/hyperlink" Target="file:///1-3&#1072;.ppt" TargetMode="External"/><Relationship Id="rId11" Type="http://schemas.openxmlformats.org/officeDocument/2006/relationships/hyperlink" Target="file:///1-3&#1073;.ppt" TargetMode="External"/><Relationship Id="rId1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1-3&#1072;.ppt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1-3&#1073;.ppt" TargetMode="Externa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ема 1. Финансы предприятий и финансовый менеджме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95280" y="1916280"/>
            <a:ext cx="8497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.1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заимосвязь финансов предприятий и финансового менеджмента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.2.  Основные направления финансовой деятельности на предприят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.3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Основные функции финансового менед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Основные функции финансового менеджера (продолжение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Основные функции финансового менеджера (оконч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765000"/>
            <a:ext cx="7489800" cy="1943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Финансовый менеджмен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это процесс системного финансового управления формированием, распределением, перераспределением и использованием финансовых ресурсов хозяйствующего субъекта, направленный на оптимизацию оборота его денежных средств, осуществляемый посредством проведения финансовой политики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46040" y="130320"/>
            <a:ext cx="6858000" cy="40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ансовый менеджмент как система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95280" y="3284640"/>
            <a:ext cx="3382920" cy="3168720"/>
            <a:chOff x="395280" y="3284640"/>
            <a:chExt cx="3382920" cy="3168720"/>
          </a:xfrm>
        </p:grpSpPr>
        <p:sp>
          <p:nvSpPr>
            <p:cNvPr id="131" name=""/>
            <p:cNvSpPr/>
            <p:nvPr/>
          </p:nvSpPr>
          <p:spPr>
            <a:xfrm>
              <a:off x="395280" y="3284640"/>
              <a:ext cx="3382920" cy="31687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СУБЪЕКТ 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4076640"/>
              <a:ext cx="3097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лжностные лица финансо-вой службы, в компетенцию которых входит управление организацией денежного оборота предприят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219640" y="3284640"/>
            <a:ext cx="3382920" cy="3168720"/>
            <a:chOff x="5219640" y="3284640"/>
            <a:chExt cx="3382920" cy="3168720"/>
          </a:xfrm>
        </p:grpSpPr>
        <p:sp>
          <p:nvSpPr>
            <p:cNvPr id="134" name=""/>
            <p:cNvSpPr/>
            <p:nvPr/>
          </p:nvSpPr>
          <p:spPr>
            <a:xfrm>
              <a:off x="5219640" y="3284640"/>
              <a:ext cx="3382920" cy="31687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ОБЪЕКТ 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64000" y="4005360"/>
              <a:ext cx="3097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Денежные поступления и выплаты, составляющие денежный оборот предприя-тия (активы, пассивы и финансовые обязательства предприятия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995640" y="3500280"/>
            <a:ext cx="976320" cy="2791080"/>
          </a:xfrm>
          <a:custGeom>
            <a:avLst/>
            <a:gdLst>
              <a:gd name="textAreaLeft" fmla="*/ 122040 w 976320"/>
              <a:gd name="textAreaRight" fmla="*/ 854280 w 976320"/>
              <a:gd name="textAreaTop" fmla="*/ 697680 h 2791080"/>
              <a:gd name="textAreaBottom" fmla="*/ 2093400 h 279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держание финансового механизма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384280"/>
            <a:ext cx="8785440" cy="4321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50920" y="3897360"/>
            <a:ext cx="1333440" cy="2374920"/>
            <a:chOff x="250920" y="3897360"/>
            <a:chExt cx="1333440" cy="2374920"/>
          </a:xfrm>
        </p:grpSpPr>
        <p:sp>
          <p:nvSpPr>
            <p:cNvPr id="141" name=""/>
            <p:cNvSpPr/>
            <p:nvPr/>
          </p:nvSpPr>
          <p:spPr>
            <a:xfrm>
              <a:off x="576360" y="3897360"/>
              <a:ext cx="7189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256280"/>
              <a:ext cx="1333440" cy="201600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логовых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тношени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вестиционной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еятельност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орм и методов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четов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ервных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ребовани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ормативы и др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92360" y="3897360"/>
            <a:ext cx="1511280" cy="2735280"/>
            <a:chOff x="1692360" y="3897360"/>
            <a:chExt cx="1511280" cy="2735280"/>
          </a:xfrm>
        </p:grpSpPr>
        <p:sp>
          <p:nvSpPr>
            <p:cNvPr id="144" name=""/>
            <p:cNvSpPr/>
            <p:nvPr/>
          </p:nvSpPr>
          <p:spPr>
            <a:xfrm>
              <a:off x="2160720" y="3897360"/>
              <a:ext cx="7189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92360" y="4256280"/>
              <a:ext cx="151128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став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Лимит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ерв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онд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нутренний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нтроль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етная политика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мортизационная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литика и д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11640" y="3897360"/>
            <a:ext cx="1404720" cy="2735280"/>
            <a:chOff x="3311640" y="3897360"/>
            <a:chExt cx="1404720" cy="2735280"/>
          </a:xfrm>
        </p:grpSpPr>
        <p:sp>
          <p:nvSpPr>
            <p:cNvPr id="147" name=""/>
            <p:cNvSpPr/>
            <p:nvPr/>
          </p:nvSpPr>
          <p:spPr>
            <a:xfrm>
              <a:off x="3708360" y="3897360"/>
              <a:ext cx="719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1640" y="4256280"/>
              <a:ext cx="140472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ланирование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ый учет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правленческий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ет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гулирование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нализ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нтроль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788000" y="3897360"/>
            <a:ext cx="1476360" cy="2736720"/>
            <a:chOff x="4788000" y="3897360"/>
            <a:chExt cx="1476360" cy="2736720"/>
          </a:xfrm>
        </p:grpSpPr>
        <p:sp>
          <p:nvSpPr>
            <p:cNvPr id="150" name=""/>
            <p:cNvSpPr/>
            <p:nvPr/>
          </p:nvSpPr>
          <p:spPr>
            <a:xfrm>
              <a:off x="5184720" y="3897360"/>
              <a:ext cx="719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88000" y="4257720"/>
              <a:ext cx="147636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ервичные:</a:t>
              </a:r>
              <a:br>
                <a:rPr sz="12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ебиторская задолж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редиторск. задолж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редиты и займы,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акции и облигаци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Вторичные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ционы,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фьючерсы,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форвардные контр.,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центные (валют.)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воп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35640" y="3897360"/>
            <a:ext cx="1332000" cy="2735280"/>
            <a:chOff x="6335640" y="3897360"/>
            <a:chExt cx="1332000" cy="2735280"/>
          </a:xfrm>
        </p:grpSpPr>
        <p:sp>
          <p:nvSpPr>
            <p:cNvPr id="153" name=""/>
            <p:cNvSpPr/>
            <p:nvPr/>
          </p:nvSpPr>
          <p:spPr>
            <a:xfrm>
              <a:off x="6624720" y="3897360"/>
              <a:ext cx="7189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35640" y="4256280"/>
              <a:ext cx="133200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тавки налогов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Штраф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ен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еустойк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рмы 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мортизаци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тавки процен-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ов по креди-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ам и депозит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348000" y="306864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2360" y="307008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рматив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вов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3070080"/>
            <a:ext cx="151308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гул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3070080"/>
            <a:ext cx="139680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нан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стр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7640" y="3068640"/>
            <a:ext cx="129564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ычаг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иму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84280"/>
            <a:ext cx="8497800" cy="1630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нансовый механиз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это система государственных законов и нормативных актов, регулирующих финансы предприятия, образование и использование денежных фондов, обеспечивающих хозяйственную деятельность пред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нансовый механиз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это совокупность форм и методов воздействия на субъекты и объекты финансового управления для достижения намеченных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96360" y="3068640"/>
            <a:ext cx="129528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каз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25653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63700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И Н А Н С О В Ы Й    М Е Х А Н И З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740720" y="3897360"/>
            <a:ext cx="1152360" cy="2340000"/>
            <a:chOff x="7740720" y="3897360"/>
            <a:chExt cx="1152360" cy="2340000"/>
          </a:xfrm>
        </p:grpSpPr>
        <p:sp>
          <p:nvSpPr>
            <p:cNvPr id="165" name=""/>
            <p:cNvSpPr/>
            <p:nvPr/>
          </p:nvSpPr>
          <p:spPr>
            <a:xfrm>
              <a:off x="7740720" y="4256280"/>
              <a:ext cx="1152360" cy="198108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ые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казател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орматив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Лимит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56720" y="3897360"/>
              <a:ext cx="7189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500"/>
                            </p:stCondLst>
                            <p:childTnLst>
                              <p:par>
                                <p:cTn id="3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ем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Информационное обеспечение финансов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916280"/>
            <a:ext cx="8497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1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точники финанс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2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аланс как источни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3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эффициенты ликвидности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эффициенты ликвидности предприятия (оконч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 финансовой информа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693720"/>
            <a:ext cx="7561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инансовое управление может быть эффективным лишь при наличии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 субъекта управления достоверной финанс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нансовая информац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это система показателей о движении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нежны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4000" y="2205000"/>
            <a:ext cx="4176720" cy="4176720"/>
            <a:chOff x="324000" y="2205000"/>
            <a:chExt cx="4176720" cy="4176720"/>
          </a:xfrm>
        </p:grpSpPr>
        <p:sp>
          <p:nvSpPr>
            <p:cNvPr id="174" name=""/>
            <p:cNvSpPr/>
            <p:nvPr/>
          </p:nvSpPr>
          <p:spPr>
            <a:xfrm>
              <a:off x="324000" y="2205000"/>
              <a:ext cx="4176720" cy="417672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47640" y="227664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498920" y="2205000"/>
            <a:ext cx="3960720" cy="4176720"/>
            <a:chOff x="4498920" y="2205000"/>
            <a:chExt cx="3960720" cy="4176720"/>
          </a:xfrm>
        </p:grpSpPr>
        <p:sp>
          <p:nvSpPr>
            <p:cNvPr id="177" name=""/>
            <p:cNvSpPr/>
            <p:nvPr/>
          </p:nvSpPr>
          <p:spPr>
            <a:xfrm>
              <a:off x="4498920" y="2205000"/>
              <a:ext cx="3960720" cy="417672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анные статистически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сследов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аркетинговые исследова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формация различ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а и рода о контраген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конкурен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0000" y="227664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2781360"/>
            <a:ext cx="295128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нансовая отче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правленческий у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 банковских сч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анные об объемах произ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меры закупок матер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анные об объемах от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анные об объемах прод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намика производственных запа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 дебиторской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 дебиторской задолженност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анс как источник информ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77720"/>
            <a:ext cx="7561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Баланс предприя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отражение его финансового состоя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конкретный момент времени, являющийся в управлении важнейши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трументом изучения и диагностики финансового равновесия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блюдения за потенциальными факторами его нару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332000" y="1773360"/>
            <a:ext cx="6624720" cy="1655640"/>
            <a:chOff x="1332000" y="1773360"/>
            <a:chExt cx="6624720" cy="1655640"/>
          </a:xfrm>
        </p:grpSpPr>
        <p:sp>
          <p:nvSpPr>
            <p:cNvPr id="185" name=""/>
            <p:cNvSpPr/>
            <p:nvPr/>
          </p:nvSpPr>
          <p:spPr>
            <a:xfrm>
              <a:off x="1332000" y="1773360"/>
              <a:ext cx="6624720" cy="16556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24000" y="1916280"/>
              <a:ext cx="4826160" cy="144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Виды финансового анализа балан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749600" y="2120760"/>
            <a:ext cx="2404800" cy="34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Горизонт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89600" y="2120760"/>
            <a:ext cx="2404800" cy="34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Вертик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90720" y="2421000"/>
            <a:ext cx="2104920" cy="710640"/>
          </a:xfrm>
          <a:prstGeom prst="roundRect">
            <a:avLst>
              <a:gd name="adj" fmla="val 16667"/>
            </a:avLst>
          </a:prstGeom>
          <a:solidFill>
            <a:srgbClr val="b0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Характеризует 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изменение показателей за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6400" y="2421000"/>
            <a:ext cx="2092320" cy="912600"/>
          </a:xfrm>
          <a:prstGeom prst="roundRect">
            <a:avLst>
              <a:gd name="adj" fmla="val 16667"/>
            </a:avLst>
          </a:prstGeom>
          <a:solidFill>
            <a:srgbClr val="b0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Характеризует 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удельный вес показателей в общей валюте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5280" y="3645000"/>
          <a:ext cx="8424720" cy="3031920"/>
        </p:xfrm>
        <a:graphic>
          <a:graphicData uri="http://schemas.openxmlformats.org/drawingml/2006/table">
            <a:tbl>
              <a:tblPr/>
              <a:tblGrid>
                <a:gridCol w="3382920"/>
                <a:gridCol w="830160"/>
                <a:gridCol w="3251520"/>
                <a:gridCol w="96012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оборотные а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 капи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лженность со сроком плате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одного года (долгосроч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авершенн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срочна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ая прод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лженность со сроком плате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одного года (краткосрочна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иторская задолж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эффициенты ликвидности предприят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3280" y="620640"/>
            <a:ext cx="810108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латежеспособность предприя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текущая и перспективна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можность погашения собственных обязатель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Ликвидность предприя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пособность предприятия погасить сво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ткосрочные обязательства, реализуя текущие акти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28720" y="1844640"/>
            <a:ext cx="6730560" cy="1079640"/>
            <a:chOff x="828720" y="1844640"/>
            <a:chExt cx="6730560" cy="1079640"/>
          </a:xfrm>
        </p:grpSpPr>
        <p:sp>
          <p:nvSpPr>
            <p:cNvPr id="197" name=""/>
            <p:cNvSpPr/>
            <p:nvPr/>
          </p:nvSpPr>
          <p:spPr>
            <a:xfrm>
              <a:off x="828720" y="1844640"/>
              <a:ext cx="673056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КОЭФФИЦИЕНТ АВТОНОМ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Итог раздела </a:t>
              </a: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 </a:t>
              </a: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пассива балан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Сумма валюты балан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 – не менее 0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14440" y="2384280"/>
              <a:ext cx="375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117440" y="2997360"/>
            <a:ext cx="6767280" cy="1331640"/>
            <a:chOff x="1117440" y="2997360"/>
            <a:chExt cx="6767280" cy="1331640"/>
          </a:xfrm>
        </p:grpSpPr>
        <p:sp>
          <p:nvSpPr>
            <p:cNvPr id="200" name=""/>
            <p:cNvSpPr/>
            <p:nvPr/>
          </p:nvSpPr>
          <p:spPr>
            <a:xfrm>
              <a:off x="1117440" y="2997360"/>
              <a:ext cx="6767280" cy="13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СООТНОШЕНИЯ СОБСТВЕННЫХ</a:t>
              </a:r>
              <a:br>
                <a:rPr sz="1600"/>
              </a:b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 И ЗАЕМНЫХ 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Величина обязательств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Собственные средства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 –1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35680" y="3787560"/>
              <a:ext cx="4329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440000" y="4400640"/>
            <a:ext cx="6769080" cy="1079280"/>
            <a:chOff x="1440000" y="4400640"/>
            <a:chExt cx="6769080" cy="1079280"/>
          </a:xfrm>
        </p:grpSpPr>
        <p:sp>
          <p:nvSpPr>
            <p:cNvPr id="203" name=""/>
            <p:cNvSpPr/>
            <p:nvPr/>
          </p:nvSpPr>
          <p:spPr>
            <a:xfrm>
              <a:off x="1440000" y="4400640"/>
              <a:ext cx="6769080" cy="1079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МАНЕВРЕННОСТИ СОБСТВЕННОГО 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Собственные оборотные сред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Сумма собственных источников 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 – 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7280" y="4941720"/>
              <a:ext cx="43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765440" y="5626080"/>
            <a:ext cx="6730920" cy="1079640"/>
            <a:chOff x="1765440" y="5626080"/>
            <a:chExt cx="6730920" cy="1079640"/>
          </a:xfrm>
        </p:grpSpPr>
        <p:sp>
          <p:nvSpPr>
            <p:cNvPr id="206" name=""/>
            <p:cNvSpPr/>
            <p:nvPr/>
          </p:nvSpPr>
          <p:spPr>
            <a:xfrm>
              <a:off x="1765440" y="5626080"/>
              <a:ext cx="673092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АБСОЛЮТНОЙ ЛИКВИД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Денежные средства и легко реализуемые ценные бума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Краткосрочная задолженность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 – 0,2 - 0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0920" y="6165720"/>
              <a:ext cx="608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596360" y="8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эффициенты ликвидности предприятия (окончани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6560" y="836640"/>
            <a:ext cx="7237440" cy="1079640"/>
            <a:chOff x="466560" y="836640"/>
            <a:chExt cx="7237440" cy="1079640"/>
          </a:xfrm>
        </p:grpSpPr>
        <p:sp>
          <p:nvSpPr>
            <p:cNvPr id="213" name=""/>
            <p:cNvSpPr/>
            <p:nvPr/>
          </p:nvSpPr>
          <p:spPr>
            <a:xfrm>
              <a:off x="466560" y="836640"/>
              <a:ext cx="7237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СРОЧНОЙ ЛИКВИД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Денежные средства + Ценные бумаги + Дебиторская задолжен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Краткосрочные обязательства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– не менее 0,8 – 1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1376640"/>
              <a:ext cx="705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55640" y="2170080"/>
            <a:ext cx="7201080" cy="1042920"/>
            <a:chOff x="755640" y="2170080"/>
            <a:chExt cx="7201080" cy="1042920"/>
          </a:xfrm>
        </p:grpSpPr>
        <p:sp>
          <p:nvSpPr>
            <p:cNvPr id="216" name=""/>
            <p:cNvSpPr/>
            <p:nvPr/>
          </p:nvSpPr>
          <p:spPr>
            <a:xfrm>
              <a:off x="755640" y="2170080"/>
              <a:ext cx="7201080" cy="104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ПЛАТЕЖЕСПОСОБНОСТИ (ПОКРЫТИЯ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Сумма текущих актив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Краткосрочные обязатель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– 2,0 – 3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5280" y="2709720"/>
              <a:ext cx="327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258920" y="3573360"/>
            <a:ext cx="6984720" cy="1079280"/>
            <a:chOff x="1258920" y="3573360"/>
            <a:chExt cx="6984720" cy="1079280"/>
          </a:xfrm>
        </p:grpSpPr>
        <p:sp>
          <p:nvSpPr>
            <p:cNvPr id="219" name=""/>
            <p:cNvSpPr/>
            <p:nvPr/>
          </p:nvSpPr>
          <p:spPr>
            <a:xfrm>
              <a:off x="1258920" y="3573360"/>
              <a:ext cx="6984720" cy="1079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КОЭФФИЦИЕНТ ОБЕСПЕЧЕННОСТИ ЗАПАСОВ И ЗАТР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Источники собственных оборотных 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Стоимость запасов и затрат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начение: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злишки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– недостаток собственных 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84000" y="4114440"/>
              <a:ext cx="453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655640" y="5013360"/>
            <a:ext cx="6983640" cy="1079640"/>
            <a:chOff x="1655640" y="5013360"/>
            <a:chExt cx="6983640" cy="1079640"/>
          </a:xfrm>
        </p:grpSpPr>
        <p:sp>
          <p:nvSpPr>
            <p:cNvPr id="222" name=""/>
            <p:cNvSpPr/>
            <p:nvPr/>
          </p:nvSpPr>
          <p:spPr>
            <a:xfrm>
              <a:off x="1655640" y="5013360"/>
              <a:ext cx="69836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РЕАЛЬНОЙ СТОИМОСТИ ИМУЩ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Основные средства + Производственные запасы + НЗ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Валюта балан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инимальное значение – 0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2000" y="5553000"/>
              <a:ext cx="583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ема 4.  Источники финансирования предпринимательской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916280"/>
            <a:ext cx="8497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словия определения способов финанс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2.  Виды и задачи финансового менедж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3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точники финансирования предприним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я средств предпри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5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руктура собственного капитала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0920" y="2349360"/>
            <a:ext cx="8642160" cy="4248360"/>
            <a:chOff x="250920" y="2349360"/>
            <a:chExt cx="8642160" cy="4248360"/>
          </a:xfrm>
        </p:grpSpPr>
        <p:sp>
          <p:nvSpPr>
            <p:cNvPr id="229" name=""/>
            <p:cNvSpPr/>
            <p:nvPr/>
          </p:nvSpPr>
          <p:spPr>
            <a:xfrm>
              <a:off x="250920" y="2349360"/>
              <a:ext cx="8642160" cy="4248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900000" y="6021360"/>
              <a:ext cx="7632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Текущий финансовый менеджмент</a:t>
              </a:r>
              <a:endPara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овия определения способов финансиров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84360" y="620640"/>
            <a:ext cx="8064360" cy="1440000"/>
            <a:chOff x="684360" y="620640"/>
            <a:chExt cx="8064360" cy="1440000"/>
          </a:xfrm>
        </p:grpSpPr>
        <p:sp>
          <p:nvSpPr>
            <p:cNvPr id="234" name=""/>
            <p:cNvSpPr/>
            <p:nvPr/>
          </p:nvSpPr>
          <p:spPr>
            <a:xfrm>
              <a:off x="684360" y="620640"/>
              <a:ext cx="806436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124000" y="765000"/>
              <a:ext cx="518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тегический финансовый менеджмент</a:t>
              </a:r>
              <a:endPara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476360" y="1341360"/>
            <a:ext cx="29512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ртикальная интег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1341360"/>
            <a:ext cx="31687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изонтальная интег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26920" y="1916280"/>
            <a:ext cx="3745080" cy="3928320"/>
            <a:chOff x="826920" y="1916280"/>
            <a:chExt cx="3745080" cy="3928320"/>
          </a:xfrm>
        </p:grpSpPr>
        <p:sp>
          <p:nvSpPr>
            <p:cNvPr id="239" name=""/>
            <p:cNvSpPr/>
            <p:nvPr/>
          </p:nvSpPr>
          <p:spPr>
            <a:xfrm>
              <a:off x="826920" y="2637000"/>
              <a:ext cx="3672000" cy="320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беспечение условий для адоптации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различных предпринимательских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структур в системе деятельности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вышестоящего звен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Сопоставление структур издержек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производства и обращ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ределение уровня себестоимости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в предпринимательских структура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ределение уровня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самоокупаемо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03280" y="1916280"/>
              <a:ext cx="3168720" cy="647640"/>
              <a:chOff x="1403280" y="1916280"/>
              <a:chExt cx="3168720" cy="647640"/>
            </a:xfrm>
          </p:grpSpPr>
          <p:sp>
            <p:nvSpPr>
              <p:cNvPr id="241" name=""/>
              <p:cNvSpPr/>
              <p:nvPr/>
            </p:nvSpPr>
            <p:spPr>
              <a:xfrm>
                <a:off x="1403280" y="1916280"/>
                <a:ext cx="3168720" cy="647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65480" y="2060640"/>
                <a:ext cx="144144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з а д а ч 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4643280" y="1916280"/>
            <a:ext cx="3745080" cy="4038840"/>
            <a:chOff x="4643280" y="1916280"/>
            <a:chExt cx="3745080" cy="4038840"/>
          </a:xfrm>
        </p:grpSpPr>
        <p:grpSp>
          <p:nvGrpSpPr>
            <p:cNvPr id="244" name=""/>
            <p:cNvGrpSpPr/>
            <p:nvPr/>
          </p:nvGrpSpPr>
          <p:grpSpPr>
            <a:xfrm>
              <a:off x="4643280" y="1916280"/>
              <a:ext cx="3168720" cy="647640"/>
              <a:chOff x="4643280" y="1916280"/>
              <a:chExt cx="3168720" cy="647640"/>
            </a:xfrm>
          </p:grpSpPr>
          <p:sp>
            <p:nvSpPr>
              <p:cNvPr id="245" name=""/>
              <p:cNvSpPr/>
              <p:nvPr/>
            </p:nvSpPr>
            <p:spPr>
              <a:xfrm>
                <a:off x="4643280" y="1916280"/>
                <a:ext cx="3168720" cy="647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05480" y="2060640"/>
                <a:ext cx="1441440" cy="368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з а д а ч 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4716360" y="2637000"/>
              <a:ext cx="3672000" cy="331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еративное реагирование на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происходящие события как внутри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фирмы, так и за ее пределам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Постоянное обновление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информации в процессе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формирования фондов денежных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средст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000"/>
                            </p:stCondLst>
                            <p:childTnLst>
                              <p:par>
                                <p:cTn id="5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50920" y="765000"/>
            <a:ext cx="8642160" cy="5832720"/>
            <a:chOff x="250920" y="765000"/>
            <a:chExt cx="8642160" cy="5832720"/>
          </a:xfrm>
        </p:grpSpPr>
        <p:sp>
          <p:nvSpPr>
            <p:cNvPr id="250" name=""/>
            <p:cNvSpPr/>
            <p:nvPr/>
          </p:nvSpPr>
          <p:spPr>
            <a:xfrm>
              <a:off x="250920" y="765000"/>
              <a:ext cx="8642160" cy="583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5640" y="8366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ИНАНСОВЫЙ МЕНЕДЖМЕ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и задачи финансового менеджме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1268280"/>
            <a:ext cx="3024360" cy="642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кущи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1268280"/>
            <a:ext cx="3024360" cy="642600"/>
          </a:xfrm>
          <a:prstGeom prst="rect">
            <a:avLst/>
          </a:prstGeom>
          <a:solidFill>
            <a:srgbClr val="b0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тегически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55640" y="2060640"/>
            <a:ext cx="3672000" cy="4252680"/>
            <a:chOff x="755640" y="2060640"/>
            <a:chExt cx="3672000" cy="4252680"/>
          </a:xfrm>
        </p:grpSpPr>
        <p:sp>
          <p:nvSpPr>
            <p:cNvPr id="257" name=""/>
            <p:cNvSpPr/>
            <p:nvPr/>
          </p:nvSpPr>
          <p:spPr>
            <a:xfrm>
              <a:off x="755640" y="2781360"/>
              <a:ext cx="3672000" cy="3531960"/>
            </a:xfrm>
            <a:prstGeom prst="rect">
              <a:avLst/>
            </a:prstGeom>
            <a:solidFill>
              <a:srgbClr val="b0ee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Планирование затрат с позиций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их окупаемо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существление капитальных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вложений с позиций величины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будущей прибыл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Поиск путей наиболее эффективного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накопления капитал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Перераспределение финансовых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Ресурсов в наиболее прибыльные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сферы деятельно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Рост предприят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971640" y="2060640"/>
              <a:ext cx="3168720" cy="647640"/>
              <a:chOff x="971640" y="2060640"/>
              <a:chExt cx="3168720" cy="647640"/>
            </a:xfrm>
          </p:grpSpPr>
          <p:sp>
            <p:nvSpPr>
              <p:cNvPr id="259" name=""/>
              <p:cNvSpPr/>
              <p:nvPr/>
            </p:nvSpPr>
            <p:spPr>
              <a:xfrm>
                <a:off x="971640" y="2060640"/>
                <a:ext cx="3168720" cy="647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b0e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33840" y="2205000"/>
                <a:ext cx="1441440" cy="368280"/>
              </a:xfrm>
              <a:prstGeom prst="rect">
                <a:avLst/>
              </a:prstGeom>
              <a:solidFill>
                <a:srgbClr val="b0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 а д а ч 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4716360" y="2060640"/>
            <a:ext cx="3672000" cy="4252680"/>
            <a:chOff x="4716360" y="2060640"/>
            <a:chExt cx="3672000" cy="4252680"/>
          </a:xfrm>
        </p:grpSpPr>
        <p:grpSp>
          <p:nvGrpSpPr>
            <p:cNvPr id="262" name=""/>
            <p:cNvGrpSpPr/>
            <p:nvPr/>
          </p:nvGrpSpPr>
          <p:grpSpPr>
            <a:xfrm>
              <a:off x="5003640" y="2060640"/>
              <a:ext cx="3168720" cy="647640"/>
              <a:chOff x="5003640" y="2060640"/>
              <a:chExt cx="3168720" cy="647640"/>
            </a:xfrm>
          </p:grpSpPr>
          <p:sp>
            <p:nvSpPr>
              <p:cNvPr id="263" name=""/>
              <p:cNvSpPr/>
              <p:nvPr/>
            </p:nvSpPr>
            <p:spPr>
              <a:xfrm>
                <a:off x="5003640" y="2060640"/>
                <a:ext cx="3168720" cy="647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65840" y="2205000"/>
                <a:ext cx="1441440" cy="368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 а д а ч 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716360" y="2781360"/>
              <a:ext cx="3672000" cy="35319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Стимулирование коммерческой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инициатив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Рост производительности тру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тимизация издержек обращ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ределение величины внутренних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источников финансирования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обеспечивающих самоокупаемос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Эффективное использование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имеющихся в распоряжении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денежных средств за определенный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отрезок времен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связь финансов предприятий и финансового менедж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276640"/>
            <a:ext cx="2952720" cy="417672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 изуч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цессы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а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я и исполь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ротных сред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ирование и исполь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ручки от реализац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ежных накопл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угооборот фон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точники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овной и инвестицио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нципы финансов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ланир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ценка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зяйств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413000"/>
            <a:ext cx="2952720" cy="64764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Финансы предприят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1268280"/>
            <a:ext cx="3024360" cy="72072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Финансовый менеджмен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Управление финанса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2276640"/>
            <a:ext cx="3024360" cy="417672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 изуч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ижение денежных пото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довательность протек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х процес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заимообусловлен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ъективных экономических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х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возмож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ффективного воздействия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е отнош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773360"/>
            <a:ext cx="976320" cy="43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предпринимательской деятель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2133720"/>
            <a:ext cx="3457440" cy="3166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 Т О Ч Н И К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НАНС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4360" y="1197000"/>
            <a:ext cx="2815920" cy="1944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ЗЯЙ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16440" y="1197000"/>
            <a:ext cx="2816280" cy="1944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Е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4437000"/>
            <a:ext cx="2815920" cy="1944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ЛЕЧ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24360" y="4437000"/>
            <a:ext cx="2816280" cy="1944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ЮДЖ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500"/>
                            </p:stCondLst>
                            <p:childTnLst>
                              <p:par>
                                <p:cTn id="6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 средств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1087560"/>
            <a:ext cx="3240000" cy="936360"/>
          </a:xfrm>
          <a:prstGeom prst="roundRect">
            <a:avLst>
              <a:gd name="adj" fmla="val 16667"/>
            </a:avLst>
          </a:prstGeom>
          <a:solidFill>
            <a:srgbClr val="b1bf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 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896000" y="4113360"/>
            <a:ext cx="3671640" cy="1620720"/>
            <a:chOff x="4896000" y="4113360"/>
            <a:chExt cx="3671640" cy="1620720"/>
          </a:xfrm>
        </p:grpSpPr>
        <p:sp>
          <p:nvSpPr>
            <p:cNvPr id="277" name=""/>
            <p:cNvSpPr/>
            <p:nvPr/>
          </p:nvSpPr>
          <p:spPr>
            <a:xfrm>
              <a:off x="4896000" y="461628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51640" y="461808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96000" y="461628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92720" y="4113360"/>
              <a:ext cx="0" cy="50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34200" y="4905360"/>
              <a:ext cx="2233440" cy="828720"/>
            </a:xfrm>
            <a:prstGeom prst="roundRect">
              <a:avLst>
                <a:gd name="adj" fmla="val 16667"/>
              </a:avLst>
            </a:prstGeom>
            <a:solidFill>
              <a:srgbClr val="aa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бственный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капитал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780000" y="4905360"/>
            <a:ext cx="223344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емный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капита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859280" y="1449360"/>
            <a:ext cx="3529080" cy="2665440"/>
            <a:chOff x="4859280" y="1449360"/>
            <a:chExt cx="3529080" cy="2665440"/>
          </a:xfrm>
        </p:grpSpPr>
        <p:sp>
          <p:nvSpPr>
            <p:cNvPr id="284" name=""/>
            <p:cNvSpPr/>
            <p:nvPr/>
          </p:nvSpPr>
          <p:spPr>
            <a:xfrm>
              <a:off x="4859280" y="3249720"/>
              <a:ext cx="3529080" cy="865080"/>
            </a:xfrm>
            <a:prstGeom prst="roundRect">
              <a:avLst>
                <a:gd name="adj" fmla="val 16667"/>
              </a:avLst>
            </a:prstGeom>
            <a:solidFill>
              <a:srgbClr val="6fe2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вансированный капитал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долгосрочные средств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72360" y="1449360"/>
              <a:ext cx="755640" cy="1692360"/>
            </a:xfrm>
            <a:custGeom>
              <a:avLst/>
              <a:gdLst>
                <a:gd name="textAreaLeft" fmla="*/ 101160 w 755640"/>
                <a:gd name="textAreaRight" fmla="*/ 654480 w 755640"/>
                <a:gd name="textAreaTop" fmla="*/ 295920 h 1692360"/>
                <a:gd name="textAreaBottom" fmla="*/ 1226880 h 16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78612"/>
                  <a:lnTo>
                    <a:pt x="7215" y="21166"/>
                  </a:lnTo>
                  <a:lnTo>
                    <a:pt x="0" y="17280"/>
                  </a:lnTo>
                  <a:lnTo>
                    <a:pt x="7215" y="12526"/>
                  </a:lnTo>
                  <a:lnTo>
                    <a:pt x="7215" y="14686"/>
                  </a:lnTo>
                  <a:arcTo wR="21600" hR="7560" stAng="2678612" swAng="-232117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26920" y="1484280"/>
            <a:ext cx="3529080" cy="2630520"/>
            <a:chOff x="826920" y="1484280"/>
            <a:chExt cx="3529080" cy="2630520"/>
          </a:xfrm>
        </p:grpSpPr>
        <p:sp>
          <p:nvSpPr>
            <p:cNvPr id="287" name=""/>
            <p:cNvSpPr/>
            <p:nvPr/>
          </p:nvSpPr>
          <p:spPr>
            <a:xfrm>
              <a:off x="826920" y="3249720"/>
              <a:ext cx="3529080" cy="865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редства краткосрочного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назнач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0920" y="1484280"/>
              <a:ext cx="828720" cy="1728720"/>
            </a:xfrm>
            <a:custGeom>
              <a:avLst/>
              <a:gdLst>
                <a:gd name="textAreaLeft" fmla="*/ 110880 w 828720"/>
                <a:gd name="textAreaRight" fmla="*/ 717840 w 828720"/>
                <a:gd name="textAreaTop" fmla="*/ 302400 h 1728720"/>
                <a:gd name="textAreaBottom" fmla="*/ 12535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8000"/>
                            </p:stCondLst>
                            <p:childTnLst>
                              <p:par>
                                <p:cTn id="6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собственного капитала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836640"/>
            <a:ext cx="4321440" cy="936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ственный капи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95280" y="1916280"/>
            <a:ext cx="2664000" cy="4730760"/>
            <a:chOff x="395280" y="1916280"/>
            <a:chExt cx="2664000" cy="4730760"/>
          </a:xfrm>
        </p:grpSpPr>
        <p:sp>
          <p:nvSpPr>
            <p:cNvPr id="293" name=""/>
            <p:cNvSpPr/>
            <p:nvPr/>
          </p:nvSpPr>
          <p:spPr>
            <a:xfrm>
              <a:off x="395280" y="2465640"/>
              <a:ext cx="2664000" cy="4181400"/>
            </a:xfrm>
            <a:custGeom>
              <a:avLst/>
              <a:gdLst>
                <a:gd name="textAreaLeft" fmla="*/ 129960 w 2664000"/>
                <a:gd name="textAreaRight" fmla="*/ 2534040 w 2664000"/>
                <a:gd name="textAreaTop" fmla="*/ 129960 h 4181400"/>
                <a:gd name="textAreaBottom" fmla="*/ 4051440 h 4181400"/>
              </a:gdLst>
              <a:ahLst/>
              <a:rect l="textAreaLeft" t="textAreaTop" r="textAreaRight" b="textAreaBottom"/>
              <a:pathLst>
                <a:path w="21600" h="33902">
                  <a:moveTo>
                    <a:pt x="3600" y="0"/>
                  </a:moveTo>
                  <a:arcTo wR="3600" hR="3600" stAng="16200000" swAng="-5400000"/>
                  <a:lnTo>
                    <a:pt x="0" y="30302"/>
                  </a:lnTo>
                  <a:arcTo wR="3600" hR="3600" stAng="10800000" swAng="-5400000"/>
                  <a:lnTo>
                    <a:pt x="18000" y="339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8f6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4360" y="1916280"/>
              <a:ext cx="366840" cy="482400"/>
            </a:xfrm>
            <a:prstGeom prst="downArrow">
              <a:avLst>
                <a:gd name="adj1" fmla="val 50000"/>
                <a:gd name="adj2" fmla="val 3287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4360" y="2541600"/>
              <a:ext cx="2087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питал, представляемый собственник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39640" y="5373720"/>
            <a:ext cx="2376720" cy="43164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мортизацио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5950080"/>
            <a:ext cx="2376720" cy="43164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истая приб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4221000"/>
            <a:ext cx="2376720" cy="43200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ства от прода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276720" y="1866960"/>
            <a:ext cx="2663640" cy="4730760"/>
            <a:chOff x="3276720" y="1866960"/>
            <a:chExt cx="2663640" cy="4730760"/>
          </a:xfrm>
        </p:grpSpPr>
        <p:sp>
          <p:nvSpPr>
            <p:cNvPr id="300" name=""/>
            <p:cNvSpPr/>
            <p:nvPr/>
          </p:nvSpPr>
          <p:spPr>
            <a:xfrm>
              <a:off x="3276720" y="2416320"/>
              <a:ext cx="2663640" cy="4181400"/>
            </a:xfrm>
            <a:custGeom>
              <a:avLst/>
              <a:gdLst>
                <a:gd name="textAreaLeft" fmla="*/ 129960 w 2663640"/>
                <a:gd name="textAreaRight" fmla="*/ 2533680 w 2663640"/>
                <a:gd name="textAreaTop" fmla="*/ 129960 h 4181400"/>
                <a:gd name="textAreaBottom" fmla="*/ 4051440 h 4181400"/>
              </a:gdLst>
              <a:ahLst/>
              <a:rect l="textAreaLeft" t="textAreaTop" r="textAreaRight" b="textAreaBottom"/>
              <a:pathLst>
                <a:path w="21600" h="33906">
                  <a:moveTo>
                    <a:pt x="3600" y="0"/>
                  </a:moveTo>
                  <a:arcTo wR="3600" hR="3600" stAng="16200000" swAng="-5400000"/>
                  <a:lnTo>
                    <a:pt x="0" y="30306"/>
                  </a:lnTo>
                  <a:arcTo wR="3600" hR="3600" stAng="10800000" swAng="-5400000"/>
                  <a:lnTo>
                    <a:pt x="18000" y="339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8f6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92800" y="1866960"/>
              <a:ext cx="366480" cy="482400"/>
            </a:xfrm>
            <a:prstGeom prst="downArrow">
              <a:avLst>
                <a:gd name="adj1" fmla="val 50000"/>
                <a:gd name="adj2" fmla="val 3290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64000" y="2492280"/>
              <a:ext cx="208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чие взносы юридических и физических ли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56360" y="1866960"/>
            <a:ext cx="2663640" cy="4730760"/>
            <a:chOff x="6156360" y="1866960"/>
            <a:chExt cx="2663640" cy="4730760"/>
          </a:xfrm>
        </p:grpSpPr>
        <p:sp>
          <p:nvSpPr>
            <p:cNvPr id="304" name=""/>
            <p:cNvSpPr/>
            <p:nvPr/>
          </p:nvSpPr>
          <p:spPr>
            <a:xfrm>
              <a:off x="6156360" y="2416320"/>
              <a:ext cx="2663640" cy="4181400"/>
            </a:xfrm>
            <a:custGeom>
              <a:avLst/>
              <a:gdLst>
                <a:gd name="textAreaLeft" fmla="*/ 129960 w 2663640"/>
                <a:gd name="textAreaRight" fmla="*/ 2533680 w 2663640"/>
                <a:gd name="textAreaTop" fmla="*/ 129960 h 4181400"/>
                <a:gd name="textAreaBottom" fmla="*/ 4051440 h 4181400"/>
              </a:gdLst>
              <a:ahLst/>
              <a:rect l="textAreaLeft" t="textAreaTop" r="textAreaRight" b="textAreaBottom"/>
              <a:pathLst>
                <a:path w="21600" h="33906">
                  <a:moveTo>
                    <a:pt x="3600" y="0"/>
                  </a:moveTo>
                  <a:arcTo wR="3600" hR="3600" stAng="16200000" swAng="-5400000"/>
                  <a:lnTo>
                    <a:pt x="0" y="30306"/>
                  </a:lnTo>
                  <a:arcTo wR="3600" hR="3600" stAng="10800000" swAng="-5400000"/>
                  <a:lnTo>
                    <a:pt x="18000" y="339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8f6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65880" y="1866960"/>
              <a:ext cx="366840" cy="482400"/>
            </a:xfrm>
            <a:prstGeom prst="downArrow">
              <a:avLst>
                <a:gd name="adj1" fmla="val 50000"/>
                <a:gd name="adj2" fmla="val 32875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45080" y="2492280"/>
              <a:ext cx="208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зервы, накопленные предприят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419640" y="3933720"/>
            <a:ext cx="2376360" cy="50328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евое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4941720"/>
            <a:ext cx="2376360" cy="50328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зносы и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жер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00720" y="3573360"/>
            <a:ext cx="2376720" cy="43200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зервный капит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00720" y="4221000"/>
            <a:ext cx="2376720" cy="43200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бавочный капит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0720" y="4869000"/>
            <a:ext cx="2376720" cy="43164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нды нако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5518080"/>
            <a:ext cx="2376720" cy="50328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распределенная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иб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3573360"/>
            <a:ext cx="2376720" cy="50328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тавный капитал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зносы учредите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4797360"/>
            <a:ext cx="2376720" cy="43200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ручка от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6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7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5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65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85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ема 5.  Управление финансовым обеспеч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1916280"/>
            <a:ext cx="84978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перационный анализ в управлении собственными финансов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2.  Показатели операционного анали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3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привлечен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ы привлечения заемных 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5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иды облигаций и их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6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 и недостатки долгосрочных долговых обязатель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7.  Рекомендации по финансированию за сче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лговых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ционный анализ в управлении собственным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ансов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1881360"/>
            <a:ext cx="8785440" cy="432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34920" y="3321000"/>
            <a:ext cx="3058560" cy="2735280"/>
            <a:chOff x="934920" y="3321000"/>
            <a:chExt cx="3058560" cy="2735280"/>
          </a:xfrm>
        </p:grpSpPr>
        <p:sp>
          <p:nvSpPr>
            <p:cNvPr id="322" name=""/>
            <p:cNvSpPr/>
            <p:nvPr/>
          </p:nvSpPr>
          <p:spPr>
            <a:xfrm>
              <a:off x="1882800" y="3321000"/>
              <a:ext cx="14551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34920" y="3679920"/>
              <a:ext cx="305856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колько наличного капитала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требуется предприятию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Каким образом можно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мобилизовать эти средств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До какой степени можно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доводить финансовый риск,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используя эффект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операционного рычаг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Как повлияет на прибыль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изменение объема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производства и сбыт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11640" y="3321000"/>
            <a:ext cx="2986920" cy="2736720"/>
            <a:chOff x="5111640" y="3321000"/>
            <a:chExt cx="2986920" cy="2736720"/>
          </a:xfrm>
        </p:grpSpPr>
        <p:sp>
          <p:nvSpPr>
            <p:cNvPr id="325" name=""/>
            <p:cNvSpPr/>
            <p:nvPr/>
          </p:nvSpPr>
          <p:spPr>
            <a:xfrm>
              <a:off x="5914080" y="3321000"/>
              <a:ext cx="14551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11640" y="3681360"/>
              <a:ext cx="298692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инансовый рыча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перационный рыча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рог рентабельности (точка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безубыточности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пас финансовой прочности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предприят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аловая марж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эффициент валовой марж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149480" y="2529000"/>
            <a:ext cx="2701800" cy="71892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19640" y="2529000"/>
            <a:ext cx="2700360" cy="72072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КАЗ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938160"/>
            <a:ext cx="8497800" cy="5806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, позволяющий проследить цепочку показателей ИЗДЕРЖКИ – ОБЪЕМ ПРОДАЖ – ПРИБЫЛЬ, называется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перационным анализом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19280" y="25653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20239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ЦИОННЫЙ  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5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500"/>
                            </p:stCondLst>
                            <p:childTnLst>
                              <p:par>
                                <p:cTn id="7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затели операционного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19280" y="25653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58920" y="584280"/>
            <a:ext cx="7237440" cy="1152360"/>
            <a:chOff x="358920" y="584280"/>
            <a:chExt cx="7237440" cy="1152360"/>
          </a:xfrm>
        </p:grpSpPr>
        <p:sp>
          <p:nvSpPr>
            <p:cNvPr id="336" name=""/>
            <p:cNvSpPr/>
            <p:nvPr/>
          </p:nvSpPr>
          <p:spPr>
            <a:xfrm>
              <a:off x="358920" y="584280"/>
              <a:ext cx="7237440" cy="1152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74920" y="622440"/>
              <a:ext cx="3637080" cy="250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Валовая марж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5280" y="824040"/>
            <a:ext cx="7632720" cy="877320"/>
            <a:chOff x="395280" y="824040"/>
            <a:chExt cx="7632720" cy="877320"/>
          </a:xfrm>
        </p:grpSpPr>
        <p:sp>
          <p:nvSpPr>
            <p:cNvPr id="339" name=""/>
            <p:cNvSpPr/>
            <p:nvPr/>
          </p:nvSpPr>
          <p:spPr>
            <a:xfrm>
              <a:off x="395280" y="1031760"/>
              <a:ext cx="76327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ВМ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аловая морж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В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ыручка от реал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И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еременные издержки 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90560" y="82404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ВМ = В – П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76360" y="1879560"/>
            <a:ext cx="7200720" cy="757080"/>
            <a:chOff x="576360" y="1879560"/>
            <a:chExt cx="7200720" cy="757080"/>
          </a:xfrm>
        </p:grpSpPr>
        <p:sp>
          <p:nvSpPr>
            <p:cNvPr id="342" name=""/>
            <p:cNvSpPr/>
            <p:nvPr/>
          </p:nvSpPr>
          <p:spPr>
            <a:xfrm>
              <a:off x="576360" y="1879560"/>
              <a:ext cx="7200720" cy="75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56000" y="1917720"/>
              <a:ext cx="3636720" cy="250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Коэффициент валовой марж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19280" y="2119320"/>
            <a:ext cx="7632720" cy="519120"/>
            <a:chOff x="719280" y="2119320"/>
            <a:chExt cx="7632720" cy="519120"/>
          </a:xfrm>
        </p:grpSpPr>
        <p:sp>
          <p:nvSpPr>
            <p:cNvPr id="345" name=""/>
            <p:cNvSpPr/>
            <p:nvPr/>
          </p:nvSpPr>
          <p:spPr>
            <a:xfrm>
              <a:off x="719280" y="2352600"/>
              <a:ext cx="7632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К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эффициент валовой маржи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14560" y="211932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К = ВМ :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55640" y="2781360"/>
            <a:ext cx="7200720" cy="900000"/>
            <a:chOff x="755640" y="2781360"/>
            <a:chExt cx="7200720" cy="900000"/>
          </a:xfrm>
        </p:grpSpPr>
        <p:sp>
          <p:nvSpPr>
            <p:cNvPr id="348" name=""/>
            <p:cNvSpPr/>
            <p:nvPr/>
          </p:nvSpPr>
          <p:spPr>
            <a:xfrm>
              <a:off x="755640" y="2781360"/>
              <a:ext cx="7200720" cy="900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5280" y="2819160"/>
              <a:ext cx="3636720" cy="250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Порог рентаб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900000" y="2997360"/>
            <a:ext cx="7632720" cy="685440"/>
            <a:chOff x="900000" y="2997360"/>
            <a:chExt cx="7632720" cy="685440"/>
          </a:xfrm>
        </p:grpSpPr>
        <p:sp>
          <p:nvSpPr>
            <p:cNvPr id="351" name=""/>
            <p:cNvSpPr/>
            <p:nvPr/>
          </p:nvSpPr>
          <p:spPr>
            <a:xfrm>
              <a:off x="900000" y="3205080"/>
              <a:ext cx="7632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рог рентаб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СПЗ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умма постоянных затр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95280" y="299736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Р = СПЗ : 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34920" y="3824280"/>
            <a:ext cx="7237440" cy="1008000"/>
            <a:chOff x="934920" y="3824280"/>
            <a:chExt cx="7237440" cy="1008000"/>
          </a:xfrm>
        </p:grpSpPr>
        <p:sp>
          <p:nvSpPr>
            <p:cNvPr id="354" name=""/>
            <p:cNvSpPr/>
            <p:nvPr/>
          </p:nvSpPr>
          <p:spPr>
            <a:xfrm>
              <a:off x="934920" y="3824280"/>
              <a:ext cx="7237440" cy="100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51280" y="3862440"/>
              <a:ext cx="3636720" cy="250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Запас финансовой проч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079640" y="4065480"/>
            <a:ext cx="7632720" cy="770040"/>
            <a:chOff x="1079640" y="4065480"/>
            <a:chExt cx="7632720" cy="770040"/>
          </a:xfrm>
        </p:grpSpPr>
        <p:sp>
          <p:nvSpPr>
            <p:cNvPr id="357" name=""/>
            <p:cNvSpPr/>
            <p:nvPr/>
          </p:nvSpPr>
          <p:spPr>
            <a:xfrm>
              <a:off x="1079640" y="4549680"/>
              <a:ext cx="7632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ЗФ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пас финансовой прочности (руб. и %)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74920" y="406548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ЗФП = В – ПР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74920" y="429408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ЗФП = ПР :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50920" y="4978440"/>
            <a:ext cx="7273800" cy="718920"/>
            <a:chOff x="1150920" y="4978440"/>
            <a:chExt cx="7273800" cy="718920"/>
          </a:xfrm>
        </p:grpSpPr>
        <p:sp>
          <p:nvSpPr>
            <p:cNvPr id="361" name=""/>
            <p:cNvSpPr/>
            <p:nvPr/>
          </p:nvSpPr>
          <p:spPr>
            <a:xfrm>
              <a:off x="1150920" y="4978440"/>
              <a:ext cx="7273800" cy="718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3640" y="5016240"/>
              <a:ext cx="3636720" cy="250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Прибы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295280" y="5205240"/>
            <a:ext cx="7632720" cy="493920"/>
            <a:chOff x="1295280" y="5205240"/>
            <a:chExt cx="7632720" cy="493920"/>
          </a:xfrm>
        </p:grpSpPr>
        <p:sp>
          <p:nvSpPr>
            <p:cNvPr id="364" name=""/>
            <p:cNvSpPr/>
            <p:nvPr/>
          </p:nvSpPr>
          <p:spPr>
            <a:xfrm>
              <a:off x="1295280" y="5413320"/>
              <a:ext cx="7632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0560" y="520524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 = ЗФП х 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476360" y="5842080"/>
            <a:ext cx="7272360" cy="755640"/>
            <a:chOff x="1476360" y="5842080"/>
            <a:chExt cx="7272360" cy="755640"/>
          </a:xfrm>
        </p:grpSpPr>
        <p:sp>
          <p:nvSpPr>
            <p:cNvPr id="367" name=""/>
            <p:cNvSpPr/>
            <p:nvPr/>
          </p:nvSpPr>
          <p:spPr>
            <a:xfrm>
              <a:off x="1476360" y="5842080"/>
              <a:ext cx="7272360" cy="75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92720" y="5880240"/>
              <a:ext cx="3636720" cy="250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Сила воздействия операционного рыча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584360" y="6093000"/>
            <a:ext cx="7632720" cy="493560"/>
            <a:chOff x="1584360" y="6093000"/>
            <a:chExt cx="7632720" cy="493560"/>
          </a:xfrm>
        </p:grpSpPr>
        <p:sp>
          <p:nvSpPr>
            <p:cNvPr id="370" name=""/>
            <p:cNvSpPr/>
            <p:nvPr/>
          </p:nvSpPr>
          <p:spPr>
            <a:xfrm>
              <a:off x="1584360" y="6300720"/>
              <a:ext cx="7632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СО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ила воздействия операционного рычаг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79640" y="609300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СОР = ВМ : 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00"/>
                            </p:stCondLst>
                            <p:childTnLst>
                              <p:par>
                                <p:cTn id="8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45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650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75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500"/>
                            </p:stCondLst>
                            <p:childTnLst>
                              <p:par>
                                <p:cTn id="8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5500"/>
                            </p:stCondLst>
                            <p:childTnLst>
                              <p:par>
                                <p:cTn id="8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рактеристика привлечен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26920" y="873000"/>
            <a:ext cx="7237440" cy="1908360"/>
            <a:chOff x="826920" y="873000"/>
            <a:chExt cx="7237440" cy="1908360"/>
          </a:xfrm>
        </p:grpSpPr>
        <p:sp>
          <p:nvSpPr>
            <p:cNvPr id="375" name=""/>
            <p:cNvSpPr/>
            <p:nvPr/>
          </p:nvSpPr>
          <p:spPr>
            <a:xfrm>
              <a:off x="826920" y="873000"/>
              <a:ext cx="7237440" cy="190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4920" y="1104840"/>
              <a:ext cx="6985080" cy="1424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ФАКТОРИНГ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 – </a:t>
              </a: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осуществляемая на договорной основе покупка требований 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                      по товарным поставкам факторинг-компани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Положительное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улучшается кассовое положение предприятия;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снижается риск возможных неплатеже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- с</a:t>
              </a: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окращаются издержки по ведению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дебиторских счет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является возможность использовать данные по сбытовой статистик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95280" y="3032280"/>
            <a:ext cx="8280360" cy="3276360"/>
            <a:chOff x="395280" y="3032280"/>
            <a:chExt cx="8280360" cy="3276360"/>
          </a:xfrm>
        </p:grpSpPr>
        <p:sp>
          <p:nvSpPr>
            <p:cNvPr id="378" name=""/>
            <p:cNvSpPr/>
            <p:nvPr/>
          </p:nvSpPr>
          <p:spPr>
            <a:xfrm>
              <a:off x="395280" y="3032280"/>
              <a:ext cx="8280360" cy="3276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9640" y="3243240"/>
              <a:ext cx="7201080" cy="2922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ЛИЗИНГ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 – </a:t>
              </a: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средне- и долгосрочная аренда машин, оборудования, транспортных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            средств, производственных сооружений; способ финансирования 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            инвестиций, основанный на долгосрочной аренде имущества при  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            сохранении права собственности за арендодателем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</a:t>
              </a:r>
              <a:r>
                <a:rPr b="1" lang="ru-RU" sz="1400" spc="-1" strike="noStrike">
                  <a:solidFill>
                    <a:srgbClr val="009999"/>
                  </a:solidFill>
                  <a:latin typeface="Arial"/>
                </a:rPr>
                <a:t>Виды лизинга – оперативный, финансовый и возвратный лизин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Положительное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зволяет быстро реагировать на изменение конъюктуры;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зволяет быстро обновлять капитал не прибегая к крупным инвестициям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зволяет избегать морального старения оборудова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зволяет включать в себестоимость продукции проценты за кредит, 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используемый для осуществления финансового лизинга и лизинговых платеже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для малых предприятий является основным способом финансирования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их инвестици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ы привлечения заем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95280" y="765000"/>
            <a:ext cx="8280360" cy="1584360"/>
            <a:chOff x="395280" y="765000"/>
            <a:chExt cx="8280360" cy="1584360"/>
          </a:xfrm>
        </p:grpSpPr>
        <p:sp>
          <p:nvSpPr>
            <p:cNvPr id="383" name=""/>
            <p:cNvSpPr/>
            <p:nvPr/>
          </p:nvSpPr>
          <p:spPr>
            <a:xfrm>
              <a:off x="395280" y="765000"/>
              <a:ext cx="8280360" cy="1584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1187280" y="907920"/>
              <a:ext cx="655344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Заемные средств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368360" y="1449360"/>
            <a:ext cx="1763640" cy="733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раткосрочные банковские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су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00360" y="1449360"/>
            <a:ext cx="1763640" cy="733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госрочные банковские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су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77080" y="1449360"/>
            <a:ext cx="1763640" cy="733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лигационные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йм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42920" y="2600280"/>
            <a:ext cx="7201080" cy="39978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Факторы, сдерживающие кредитование производ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Высокий кредитный риск невозврата сс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Отсутствие реальной ответственности заемщиков за убыточн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результаты деятельности и возврата сс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едостатки и противоречия законов и норм, регулирующих кредитны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от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Просчеты в кредитно-денежной, налоговой и инвестиционной политик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Отсутствие экономического стимулирования банков, кредитующих сфер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материального произво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Отсутствие надежной системы страхования банковских депози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Недостаточная ликвидность предоставляемых предприятиями залого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под кредит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8500"/>
                            </p:stCondLst>
                            <p:childTnLst>
                              <p:par>
                                <p:cTn id="8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облигаций и их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79280" y="1413000"/>
            <a:ext cx="8677440" cy="5256000"/>
            <a:chOff x="179280" y="1413000"/>
            <a:chExt cx="8677440" cy="5256000"/>
          </a:xfrm>
        </p:grpSpPr>
        <p:sp>
          <p:nvSpPr>
            <p:cNvPr id="392" name=""/>
            <p:cNvSpPr/>
            <p:nvPr/>
          </p:nvSpPr>
          <p:spPr>
            <a:xfrm>
              <a:off x="179280" y="1413000"/>
              <a:ext cx="8677440" cy="525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1187280" y="1557360"/>
              <a:ext cx="6805800" cy="287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Облигаци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84360" y="569880"/>
            <a:ext cx="7848360" cy="79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блига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ценная бумага с фиксированным процентом, выпускаемая частными компаниями или государством. Облигация подлежит погашению (выкупу) в течение обусловленного при выпуске займа с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5769000"/>
            <a:ext cx="78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19280" y="5613480"/>
            <a:ext cx="7596000" cy="97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 переменной процентной ставко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ставка купона меняется в зависимости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от изменения ставок на денежных рынках или рынка капитала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При меняются в условиях неопределенности будущих процентных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ставок из-за инфляции. Продаются по цене, близкой к номин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19280" y="4781520"/>
            <a:ext cx="7596000" cy="76356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Продаваемые ниже номинала и бескупонны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выпускаются с очень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низкой ставкой купона, по ценам ниже номинала, но погашаются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по номинальной стои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9280" y="4165560"/>
            <a:ext cx="759600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Процентные доход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выпускаются когда предприятие реорганизуется из-з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финансовых затруд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9280" y="3554280"/>
            <a:ext cx="759600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беспеченные другими ценными бумагам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обеспечиваются акциями и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облигациями, находящимися в собственности эмит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9280" y="3154320"/>
            <a:ext cx="7596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 залогом имуществ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залог в виде недвижимого имущества или з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19280" y="2546280"/>
            <a:ext cx="759600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убординированны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востребованы после облигаций, обладающи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преимуществом в погаш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19280" y="1933560"/>
            <a:ext cx="759600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Необеспеченны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используются только финансово надежными компаниями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Конвертируемые облигации обычно являются необеспеч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500"/>
                            </p:stCondLst>
                            <p:childTnLst>
                              <p:par>
                                <p:cTn id="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500"/>
                            </p:stCondLst>
                            <p:childTnLst>
                              <p:par>
                                <p:cTn id="9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8500"/>
                            </p:stCondLst>
                            <p:childTnLst>
                              <p:par>
                                <p:cTn id="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 и недостатки долгосрочных долговых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79280" y="657360"/>
            <a:ext cx="8677440" cy="6048360"/>
            <a:chOff x="179280" y="657360"/>
            <a:chExt cx="8677440" cy="6048360"/>
          </a:xfrm>
        </p:grpSpPr>
        <p:sp>
          <p:nvSpPr>
            <p:cNvPr id="406" name=""/>
            <p:cNvSpPr/>
            <p:nvPr/>
          </p:nvSpPr>
          <p:spPr>
            <a:xfrm>
              <a:off x="179280" y="657360"/>
              <a:ext cx="8677440" cy="6048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187280" y="779400"/>
              <a:ext cx="6805800" cy="3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Долговые обязательств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95280" y="1521000"/>
            <a:ext cx="4176720" cy="4679640"/>
            <a:chOff x="395280" y="1521000"/>
            <a:chExt cx="4176720" cy="4679640"/>
          </a:xfrm>
        </p:grpSpPr>
        <p:sp>
          <p:nvSpPr>
            <p:cNvPr id="409" name=""/>
            <p:cNvSpPr/>
            <p:nvPr/>
          </p:nvSpPr>
          <p:spPr>
            <a:xfrm>
              <a:off x="395280" y="1521000"/>
              <a:ext cx="4176720" cy="4679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55640" y="1592280"/>
              <a:ext cx="27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ИМУ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427640" y="1521000"/>
            <a:ext cx="4176720" cy="4679640"/>
            <a:chOff x="4427640" y="1521000"/>
            <a:chExt cx="4176720" cy="4679640"/>
          </a:xfrm>
        </p:grpSpPr>
        <p:sp>
          <p:nvSpPr>
            <p:cNvPr id="412" name=""/>
            <p:cNvSpPr/>
            <p:nvPr/>
          </p:nvSpPr>
          <p:spPr>
            <a:xfrm>
              <a:off x="4427640" y="1521000"/>
              <a:ext cx="4176720" cy="4679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88000" y="1592280"/>
              <a:ext cx="27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ЕДОСТА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934920" y="2168640"/>
            <a:ext cx="309744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виденды, выплачиваемые акционерам, не облагаются налог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ржатели облигаций не участвуют в обеспечении роста доходов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говые обязательства погашаются более дешевой валютой в период инфля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лигация может помочь предприятию обеспечить финансовую стабильность, когда отсутствует возможность использовать краткосрочное кредит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67280" y="2168640"/>
            <a:ext cx="309708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числяемые проценты должны быть выплачены независимо от доходов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лговое обязательство должно быть погашено в установленные с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ждому долговому обязательству соответствует финансовый риск, который может повысить стоимость финанс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словия облигационного договора могут наложить ограничения на деятельность предприятия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язательства, превышающие финансовые возможности должника, могут возникнуть при ошибках в прогнозе будущих потоков дене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00"/>
                            </p:stCondLst>
                            <p:childTnLst>
                              <p:par>
                                <p:cTn id="9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4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6500"/>
                            </p:stCondLst>
                            <p:childTnLst>
                              <p:par>
                                <p:cTn id="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6280" y="1789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направления финансовой деятельности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0920" y="1052640"/>
            <a:ext cx="8713800" cy="5472000"/>
            <a:chOff x="250920" y="1052640"/>
            <a:chExt cx="8713800" cy="5472000"/>
          </a:xfrm>
        </p:grpSpPr>
        <p:sp>
          <p:nvSpPr>
            <p:cNvPr id="55" name=""/>
            <p:cNvSpPr/>
            <p:nvPr/>
          </p:nvSpPr>
          <p:spPr>
            <a:xfrm>
              <a:off x="250920" y="1052640"/>
              <a:ext cx="8713800" cy="54720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619280" y="1189080"/>
              <a:ext cx="6408720" cy="79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Финансовая деятельность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643280" y="2492280"/>
            <a:ext cx="187344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неж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то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187308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инанс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3933720"/>
            <a:ext cx="216072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ук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2492280"/>
            <a:ext cx="187308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ра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2492280"/>
            <a:ext cx="216036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звод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эконом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3933720"/>
            <a:ext cx="187308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н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3933720"/>
            <a:ext cx="187344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ера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300640"/>
            <a:ext cx="187344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истема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ера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5300640"/>
            <a:ext cx="187344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вести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комендации по финансированию за счет долговых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79280" y="657360"/>
            <a:ext cx="8677440" cy="6048360"/>
            <a:chOff x="179280" y="657360"/>
            <a:chExt cx="8677440" cy="6048360"/>
          </a:xfrm>
        </p:grpSpPr>
        <p:sp>
          <p:nvSpPr>
            <p:cNvPr id="419" name=""/>
            <p:cNvSpPr/>
            <p:nvPr/>
          </p:nvSpPr>
          <p:spPr>
            <a:xfrm>
              <a:off x="179280" y="657360"/>
              <a:ext cx="8677440" cy="6048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3640" y="800280"/>
              <a:ext cx="730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инансирование за счет долговых обязательств рекомендуется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следующих случаях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39640" y="1376280"/>
            <a:ext cx="81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. Если процентная ставка по долговому обязательству ниже, чем норма прибыли,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которую можно получить на заемных денежных средств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1844640"/>
            <a:ext cx="81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 Когда доход предприятия и прибыль стабильны, оно будет в состоянии погасить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проценты и основную сумму долга как в удачные, так и в неудачные г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2313000"/>
            <a:ext cx="81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 Если у предприятия имеется достаточная прибыль для погашения дол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9640" y="2584440"/>
            <a:ext cx="80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. При хорошем положении с ликвидностью и притоком денеж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9640" y="2852640"/>
            <a:ext cx="81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. Если величина отношения долговых обязательств к акционерному капиталу 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невысока и предприятие может справиться с дополнительными обязательств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9640" y="3340080"/>
            <a:ext cx="81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6. При невысоком уровне риска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9640" y="3608280"/>
            <a:ext cx="81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7. Когда ценны акций предприятия понизились, а значит, выпуск новых обыкновенных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акций в этот период нерентабе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4076640"/>
            <a:ext cx="81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8. Когда важно сохранить контроль над деятельностью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9640" y="4329000"/>
            <a:ext cx="81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9. Если предприятие обладает солидным опытом работы в данном виде бизн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1640" y="4581360"/>
            <a:ext cx="820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0. Если предполагаемый уровень инфляции обещает быть высоким и погашение 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долгового обязательства будет производиться более дешевой валю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1640" y="504972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 Когда рынок продукции предприятия растет и отсутствует конкурен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1640" y="5300640"/>
            <a:ext cx="820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2. Когда налоговая ставка высока и предприятие выигрывает за счет вычитания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выплат процентов из своих нал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1640" y="576900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3. Если ограничения облигационного контракта не обременительны для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6043680"/>
            <a:ext cx="820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4. Когда тенденции денежного рынка благоприятны и любые необходимые виды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финансирования доступ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4920" y="0"/>
            <a:ext cx="91789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функции финансового менеджер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907920"/>
            <a:ext cx="5759280" cy="64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 У  Н  К  Ц  И  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03640" y="1700280"/>
            <a:ext cx="3023640" cy="4897440"/>
            <a:chOff x="3203640" y="1700280"/>
            <a:chExt cx="3023640" cy="4897440"/>
          </a:xfrm>
        </p:grpSpPr>
        <p:sp>
          <p:nvSpPr>
            <p:cNvPr id="70" name=""/>
            <p:cNvSpPr/>
            <p:nvPr/>
          </p:nvSpPr>
          <p:spPr>
            <a:xfrm>
              <a:off x="3203640" y="2276640"/>
              <a:ext cx="3023640" cy="4321080"/>
            </a:xfrm>
            <a:custGeom>
              <a:avLst/>
              <a:gdLst>
                <a:gd name="textAreaLeft" fmla="*/ 147600 w 3023640"/>
                <a:gd name="textAreaRight" fmla="*/ 2876040 w 3023640"/>
                <a:gd name="textAreaTop" fmla="*/ 147600 h 4321080"/>
                <a:gd name="textAreaBottom" fmla="*/ 4173480 h 4321080"/>
              </a:gdLst>
              <a:ahLst/>
              <a:rect l="textAreaLeft" t="textAreaTop" r="textAreaRight" b="textAreaBottom"/>
              <a:pathLst>
                <a:path w="21600" h="30867">
                  <a:moveTo>
                    <a:pt x="3600" y="0"/>
                  </a:moveTo>
                  <a:arcTo wR="3600" hR="3600" stAng="16200000" swAng="-5400000"/>
                  <a:lnTo>
                    <a:pt x="0" y="27267"/>
                  </a:lnTo>
                  <a:arcTo wR="3600" hR="3600" stAng="10800000" swAng="-5400000"/>
                  <a:lnTo>
                    <a:pt x="18000" y="30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области планир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астие в общей плановой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работ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юджетирование в рамках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структурных подразделений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и по местам формирования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затрат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ценка эффективности затрат,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финансирование отдельных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мероприят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нализ экономических факторов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формирующих финансов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зультат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ланирование объемов продаж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и проведение соответствующей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ценовой полити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ценка приобретаемого или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реализуемого имуществ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66560" y="1700280"/>
              <a:ext cx="12974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08000" y="1700280"/>
            <a:ext cx="2952360" cy="4897440"/>
            <a:chOff x="108000" y="1700280"/>
            <a:chExt cx="2952360" cy="4897440"/>
          </a:xfrm>
        </p:grpSpPr>
        <p:sp>
          <p:nvSpPr>
            <p:cNvPr id="73" name=""/>
            <p:cNvSpPr/>
            <p:nvPr/>
          </p:nvSpPr>
          <p:spPr>
            <a:xfrm>
              <a:off x="108000" y="2276640"/>
              <a:ext cx="2952360" cy="4321080"/>
            </a:xfrm>
            <a:custGeom>
              <a:avLst/>
              <a:gdLst>
                <a:gd name="textAreaLeft" fmla="*/ 144000 w 2952360"/>
                <a:gd name="textAreaRight" fmla="*/ 2808360 w 2952360"/>
                <a:gd name="textAreaTop" fmla="*/ 144000 h 4321080"/>
                <a:gd name="textAreaBottom" fmla="*/ 4177080 h 4321080"/>
              </a:gdLst>
              <a:ahLst/>
              <a:rect l="textAreaLeft" t="textAreaTop" r="textAreaRight" b="textAreaBottom"/>
              <a:pathLst>
                <a:path w="21600" h="31613">
                  <a:moveTo>
                    <a:pt x="3600" y="0"/>
                  </a:moveTo>
                  <a:arcTo wR="3600" hR="3600" stAng="16200000" swAng="-5400000"/>
                  <a:lnTo>
                    <a:pt x="0" y="28013"/>
                  </a:lnTo>
                  <a:arcTo wR="3600" hR="3600" stAng="10800000" swAng="-5400000"/>
                  <a:lnTo>
                    <a:pt x="18000" y="316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области управления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денежными фон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гулирование и контроль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енежных операц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учение, хранение наличных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енег и ценных бумаг, выплата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личных денег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ведение банковских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ерац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ммерческое кредитование и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зыскание денежных средст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правление инвестиционным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ртфеле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10560" y="1700280"/>
              <a:ext cx="11084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70560" y="1700280"/>
            <a:ext cx="2594160" cy="4897440"/>
            <a:chOff x="6370560" y="1700280"/>
            <a:chExt cx="2594160" cy="4897440"/>
          </a:xfrm>
        </p:grpSpPr>
        <p:sp>
          <p:nvSpPr>
            <p:cNvPr id="76" name=""/>
            <p:cNvSpPr/>
            <p:nvPr/>
          </p:nvSpPr>
          <p:spPr>
            <a:xfrm>
              <a:off x="6370560" y="2276640"/>
              <a:ext cx="2594160" cy="4321080"/>
            </a:xfrm>
            <a:custGeom>
              <a:avLst/>
              <a:gdLst>
                <a:gd name="textAreaLeft" fmla="*/ 126360 w 2594160"/>
                <a:gd name="textAreaRight" fmla="*/ 2467800 w 2594160"/>
                <a:gd name="textAreaTop" fmla="*/ 126360 h 4321080"/>
                <a:gd name="textAreaBottom" fmla="*/ 4194720 h 4321080"/>
              </a:gdLst>
              <a:ahLst/>
              <a:rect l="textAreaLeft" t="textAreaTop" r="textAreaRight" b="textAreaBottom"/>
              <a:pathLst>
                <a:path w="21600" h="35977">
                  <a:moveTo>
                    <a:pt x="3600" y="0"/>
                  </a:moveTo>
                  <a:arcTo wR="3600" hR="3600" stAng="16200000" swAng="-5400000"/>
                  <a:lnTo>
                    <a:pt x="0" y="32377"/>
                  </a:lnTo>
                  <a:arcTo wR="3600" hR="3600" stAng="10800000" swAng="-5400000"/>
                  <a:lnTo>
                    <a:pt x="18000" y="359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управле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руктурой 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краткосроч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ых источников заем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редств, стоимости и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условий заимствова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долгосроч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источников заем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редств, стоимости и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условий заимствова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иски внутренних резер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в и направление 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пользования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11840" y="1700280"/>
              <a:ext cx="102456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>
            <a:hlinkClick r:id="rId3"/>
          </p:cNvPr>
          <p:cNvSpPr/>
          <p:nvPr/>
        </p:nvSpPr>
        <p:spPr>
          <a:xfrm>
            <a:off x="7812000" y="4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34920" y="0"/>
            <a:ext cx="91789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функции финансового менеджера  (продолжение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907920"/>
            <a:ext cx="5616360" cy="64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 У  Н  К  Ц  И  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76720" y="1700280"/>
            <a:ext cx="2590200" cy="4897440"/>
            <a:chOff x="3276720" y="1700280"/>
            <a:chExt cx="2590200" cy="4897440"/>
          </a:xfrm>
        </p:grpSpPr>
        <p:sp>
          <p:nvSpPr>
            <p:cNvPr id="83" name=""/>
            <p:cNvSpPr/>
            <p:nvPr/>
          </p:nvSpPr>
          <p:spPr>
            <a:xfrm>
              <a:off x="3276720" y="2276640"/>
              <a:ext cx="2590200" cy="4321080"/>
            </a:xfrm>
            <a:custGeom>
              <a:avLst/>
              <a:gdLst>
                <a:gd name="textAreaLeft" fmla="*/ 126360 w 2590200"/>
                <a:gd name="textAreaRight" fmla="*/ 2463840 w 2590200"/>
                <a:gd name="textAreaTop" fmla="*/ 126360 h 4321080"/>
                <a:gd name="textAreaBottom" fmla="*/ 4194720 h 4321080"/>
              </a:gdLst>
              <a:ahLst/>
              <a:rect l="textAreaLeft" t="textAreaTop" r="textAreaRight" b="textAreaBottom"/>
              <a:pathLst>
                <a:path w="21600" h="36032">
                  <a:moveTo>
                    <a:pt x="3600" y="0"/>
                  </a:moveTo>
                  <a:arcTo wR="3600" hR="3600" stAng="16200000" swAng="-5400000"/>
                  <a:lnTo>
                    <a:pt x="0" y="32432"/>
                  </a:lnTo>
                  <a:arcTo wR="3600" hR="3600" stAng="10800000" swAng="-5400000"/>
                  <a:lnTo>
                    <a:pt x="18000" y="360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реал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логовой полит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работка налоговой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ти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ланирование и перечисле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ие налогов и сбор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дготовка налоговой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четности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5800" y="1700280"/>
              <a:ext cx="111132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79280" y="1700280"/>
            <a:ext cx="2952360" cy="4897440"/>
            <a:chOff x="179280" y="1700280"/>
            <a:chExt cx="2952360" cy="4897440"/>
          </a:xfrm>
        </p:grpSpPr>
        <p:sp>
          <p:nvSpPr>
            <p:cNvPr id="86" name=""/>
            <p:cNvSpPr/>
            <p:nvPr/>
          </p:nvSpPr>
          <p:spPr>
            <a:xfrm>
              <a:off x="179280" y="2276640"/>
              <a:ext cx="2952360" cy="4321080"/>
            </a:xfrm>
            <a:custGeom>
              <a:avLst/>
              <a:gdLst>
                <a:gd name="textAreaLeft" fmla="*/ 144000 w 2952360"/>
                <a:gd name="textAreaRight" fmla="*/ 2808360 w 2952360"/>
                <a:gd name="textAreaTop" fmla="*/ 144000 h 4321080"/>
                <a:gd name="textAreaBottom" fmla="*/ 4177080 h 4321080"/>
              </a:gdLst>
              <a:ahLst/>
              <a:rect l="textAreaLeft" t="textAreaTop" r="textAreaRight" b="textAreaBottom"/>
              <a:pathLst>
                <a:path w="21600" h="31613">
                  <a:moveTo>
                    <a:pt x="3600" y="0"/>
                  </a:moveTo>
                  <a:arcTo wR="3600" hR="3600" stAng="16200000" swAng="-5400000"/>
                  <a:lnTo>
                    <a:pt x="0" y="28013"/>
                  </a:lnTo>
                  <a:arcTo wR="3600" hR="3600" stAng="10800000" swAng="-5400000"/>
                  <a:lnTo>
                    <a:pt x="18000" y="316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области учета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  и контро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ределение учетной полити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ет издержек производства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 обраще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нутренняя ревизия и контроль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готовка различных видов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четност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равнение фактических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зультатов с плановыми и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ормативными показателям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едставление руководству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формации о финансовых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зультатах деятельно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81840" y="1700280"/>
              <a:ext cx="11084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12000" y="1700280"/>
            <a:ext cx="3058560" cy="4897440"/>
            <a:chOff x="6012000" y="1700280"/>
            <a:chExt cx="3058560" cy="4897440"/>
          </a:xfrm>
        </p:grpSpPr>
        <p:sp>
          <p:nvSpPr>
            <p:cNvPr id="89" name=""/>
            <p:cNvSpPr/>
            <p:nvPr/>
          </p:nvSpPr>
          <p:spPr>
            <a:xfrm>
              <a:off x="6012000" y="2276640"/>
              <a:ext cx="3058560" cy="4321080"/>
            </a:xfrm>
            <a:custGeom>
              <a:avLst/>
              <a:gdLst>
                <a:gd name="textAreaLeft" fmla="*/ 149040 w 3058560"/>
                <a:gd name="textAreaRight" fmla="*/ 2909520 w 3058560"/>
                <a:gd name="textAreaTop" fmla="*/ 149040 h 4321080"/>
                <a:gd name="textAreaBottom" fmla="*/ 4172040 h 4321080"/>
              </a:gdLst>
              <a:ahLst/>
              <a:rect l="textAreaLeft" t="textAreaTop" r="textAreaRight" b="textAreaBottom"/>
              <a:pathLst>
                <a:path w="21600" h="30515">
                  <a:moveTo>
                    <a:pt x="3600" y="0"/>
                  </a:moveTo>
                  <a:arcTo wR="3600" hR="3600" stAng="16200000" swAng="-5400000"/>
                  <a:lnTo>
                    <a:pt x="0" y="26915"/>
                  </a:lnTo>
                  <a:arcTo wR="3600" hR="3600" stAng="10800000" swAng="-5400000"/>
                  <a:lnTo>
                    <a:pt x="18000" y="305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консалтинговой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салтинг для контрпартнер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салтинг руководителе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ятия по финансово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м вопросам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салтинг руководителе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 специалистов подразделени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 торговым и финансовы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ерациям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салтинг и повышение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валификации специалистов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ят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14480" y="1700280"/>
              <a:ext cx="120816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>
            <a:hlinkClick r:id="rId3"/>
          </p:cNvPr>
          <p:cNvSpPr/>
          <p:nvPr/>
        </p:nvSpPr>
        <p:spPr>
          <a:xfrm>
            <a:off x="7812000" y="90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34920" y="0"/>
            <a:ext cx="91789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функции финансового менеджера  (окончание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907920"/>
            <a:ext cx="5616360" cy="64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 У  Н  К  Ц  И  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4000" y="1700280"/>
            <a:ext cx="4752720" cy="4897440"/>
            <a:chOff x="324000" y="1700280"/>
            <a:chExt cx="4752720" cy="4897440"/>
          </a:xfrm>
        </p:grpSpPr>
        <p:sp>
          <p:nvSpPr>
            <p:cNvPr id="96" name=""/>
            <p:cNvSpPr/>
            <p:nvPr/>
          </p:nvSpPr>
          <p:spPr>
            <a:xfrm>
              <a:off x="324000" y="2276640"/>
              <a:ext cx="4752720" cy="432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минимизации риск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 защиты имущества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руктурирование риск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нализ конъюктуры фондового рын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работка планов превентивных мероприятий;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рмирование страховых фондов и резерв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еспечение внешнего страхова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сохранности имуществ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нализ инвестиционных проект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рмирование инвестиционного портфеля клиент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правление портфелем ценных бумаг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ивлечение внутренних и внешних источников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нансирования инвестиционной деятельност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еспечение связи с инвесторами, формирование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ивидендной политик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5280" y="1700280"/>
              <a:ext cx="178416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64000" y="1700280"/>
            <a:ext cx="3455640" cy="4897440"/>
            <a:chOff x="5364000" y="1700280"/>
            <a:chExt cx="3455640" cy="4897440"/>
          </a:xfrm>
        </p:grpSpPr>
        <p:sp>
          <p:nvSpPr>
            <p:cNvPr id="99" name=""/>
            <p:cNvSpPr/>
            <p:nvPr/>
          </p:nvSpPr>
          <p:spPr>
            <a:xfrm>
              <a:off x="5364000" y="2276640"/>
              <a:ext cx="3455640" cy="4321080"/>
            </a:xfrm>
            <a:custGeom>
              <a:avLst/>
              <a:gdLst>
                <a:gd name="textAreaLeft" fmla="*/ 168480 w 3455640"/>
                <a:gd name="textAreaRight" fmla="*/ 3287160 w 3455640"/>
                <a:gd name="textAreaTop" fmla="*/ 168480 h 4321080"/>
                <a:gd name="textAreaBottom" fmla="*/ 4152600 h 4321080"/>
              </a:gdLst>
              <a:ahLst/>
              <a:rect l="textAreaLeft" t="textAreaTop" r="textAreaRight" b="textAreaBottom"/>
              <a:pathLst>
                <a:path w="21600" h="27009">
                  <a:moveTo>
                    <a:pt x="3600" y="0"/>
                  </a:moveTo>
                  <a:arcTo wR="3600" hR="3600" stAng="16200000" swAng="-5400000"/>
                  <a:lnTo>
                    <a:pt x="0" y="23409"/>
                  </a:lnTo>
                  <a:arcTo wR="3600" hR="3600" stAng="10800000" swAng="-5400000"/>
                  <a:lnTo>
                    <a:pt x="18000" y="270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разработки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формационных систем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      управ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зучение современных информаци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нных систем управле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ценка предлагаемого программного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еспече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работка и использование инфор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ационных систем управле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работка методик эффективного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пользования информацион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исте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19040" y="1700280"/>
              <a:ext cx="136512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ема 2. Принципы организации финансового менеджмен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916280"/>
            <a:ext cx="8497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1. Сущность ф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ансового менеджмен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2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3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инансовый менеджмент как система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финансового механизма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133720"/>
            <a:ext cx="885960" cy="4457520"/>
          </a:xfrm>
          <a:custGeom>
            <a:avLst/>
            <a:gdLst>
              <a:gd name="textAreaLeft" fmla="*/ 43200 w 885960"/>
              <a:gd name="textAreaRight" fmla="*/ 842760 w 885960"/>
              <a:gd name="textAreaTop" fmla="*/ 43200 h 4457520"/>
              <a:gd name="textAreaBottom" fmla="*/ 4414320 h 4457520"/>
            </a:gdLst>
            <a:ahLst/>
            <a:rect l="textAreaLeft" t="textAreaTop" r="textAreaRight" b="textAreaBottom"/>
            <a:pathLst>
              <a:path w="21600" h="108640">
                <a:moveTo>
                  <a:pt x="3600" y="0"/>
                </a:moveTo>
                <a:arcTo wR="3600" hR="3600" stAng="16200000" swAng="-5400000"/>
                <a:lnTo>
                  <a:pt x="0" y="105040"/>
                </a:lnTo>
                <a:arcTo wR="3600" hR="3600" stAng="10800000" swAng="-5400000"/>
                <a:lnTo>
                  <a:pt x="18000" y="1086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 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  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  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 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  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  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Й  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765000"/>
            <a:ext cx="8136000" cy="1008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Финансовый менеджм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система знаний по эффективному управлению денежными фондами и финансовыми ресурсами предприятий для достижения стратегических целей и решения тактически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5373720"/>
            <a:ext cx="7762680" cy="1224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финансового менедж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805360"/>
            <a:ext cx="31687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распорядиться имеющимися финансовыми ресурс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управление актива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365720"/>
            <a:ext cx="7762680" cy="8380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 финансового менедж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4724280"/>
            <a:ext cx="748980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величение стоимости собственного капитала (размера акционерного капитал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068640"/>
            <a:ext cx="7764480" cy="11523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мет финансового менедж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3429000"/>
            <a:ext cx="7489800" cy="720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з, организация и осуществление целенаправленного процесса финансово-го регулирования деятельности предприятия, оптимизирующего финнансовые показатели, их структуру и пропор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2133720"/>
            <a:ext cx="7762680" cy="76176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иды финансового менедж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492280"/>
            <a:ext cx="3529080" cy="289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сударственный менедж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2492280"/>
            <a:ext cx="3240000" cy="312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неджмент пред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46040" y="130320"/>
            <a:ext cx="6858000" cy="403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щность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5805360"/>
            <a:ext cx="27370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привлечь необходимые финансовые 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управление пассива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628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кции финансового менеджмен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907920"/>
            <a:ext cx="2446560" cy="136872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спроизводстве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7920"/>
            <a:ext cx="2305080" cy="136872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рганиз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5013360"/>
            <a:ext cx="2374920" cy="136836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имулир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5013360"/>
            <a:ext cx="2305080" cy="136836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тр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3068640"/>
            <a:ext cx="2160720" cy="136836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инанс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2997360"/>
            <a:ext cx="2158920" cy="136836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2349360"/>
            <a:ext cx="3313080" cy="2448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 У Н К Ц 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11:40:40Z</dcterms:created>
  <dc:creator>Олег</dc:creator>
  <dc:description/>
  <dc:language>en-US</dc:language>
  <cp:lastModifiedBy>степан</cp:lastModifiedBy>
  <dcterms:modified xsi:type="dcterms:W3CDTF">2009-09-30T17:49:14Z</dcterms:modified>
  <cp:revision>28</cp:revision>
  <dc:subject/>
  <dc:title>Тема 1. Организация финансов предприятия в современных условиях </dc:title>
</cp:coreProperties>
</file>