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A72-2252-4809-8D0D-0BE24E96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F31-8D27-413F-99C5-368B762A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B07-F027-49EF-80A6-DCC28A60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58A-76AF-4001-845B-E81F566B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B6F4-389E-4086-ADB9-EBF8F178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A9CB-20DD-4318-BBAA-9C92857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1288-5191-4698-8E29-5C214FDB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B969-DEE3-461A-A221-F79BFF4C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B86E-A8DB-492B-8EEE-19D8B52E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85B0-F862-41F7-B9D2-607F97DC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F18-8FFB-4404-8B1A-38E917F6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15E-F81C-49EF-B54E-45B68A35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7EDE-8EFB-4457-9FE9-D6E52548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60BE-B370-45DE-968A-FB58D4D1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8C01-CA34-4751-9E79-BFD03BE5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4148-14E1-4ACC-9ED5-DAEC7ABF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9E42-F8A8-4240-A812-7A55DA69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51F-81F1-4A64-ABA5-05D9B566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CE0-6E79-4C98-ABF9-12A647B9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E1F-3156-47D6-AAE1-EBDBE387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1E5-FB8F-494D-8A21-2E0FCE4D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BC0-5C1F-4123-8D9D-4A601E0A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8DB-7CC0-49D5-AA0F-D3DC9204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C02-5963-409F-944B-A8AEA77C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945A-DB2A-4CE8-A07D-1E17E5BB48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D877-5854-451C-80A6-4EDBD1BF9B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Основы социально-культурного проектирования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4572000"/>
            <a:ext cx="8458200" cy="1981080"/>
          </a:xfrm>
          <a:prstGeom prst="wedgeRectCallout">
            <a:avLst>
              <a:gd name="adj1" fmla="val -35416"/>
              <a:gd name="adj2" fmla="val 573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609480"/>
            <a:ext cx="21337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71800" y="3049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 этика, философия профессии, ее методология. Ценности выражают отношение субъекта к объект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2590920"/>
            <a:ext cx="21337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е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8120" y="2209680"/>
            <a:ext cx="594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желаемые результаты, которые спецалист предвосхищает, исходя из своего понимания сути культуры, своей профессии, переживания сегодняшней социокультурной ситуации, видения в ней определенных пробл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48006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одних и тех же знаниях о культуре, в зависимости от ценностных ориентаций проектировщика, мы можем иметь программы с взаимно исключающей целевой установко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09480" y="304920"/>
            <a:ext cx="21337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ния и мет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304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редписания о целях и способах  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1295280"/>
            <a:ext cx="8305560" cy="11912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особии этой составляющей образовательного цикла соответствуют главы III, IV, V, VI, в которых описы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0" y="2514600"/>
            <a:ext cx="3048120" cy="2267280"/>
            <a:chOff x="0" y="2514600"/>
            <a:chExt cx="3048120" cy="2267280"/>
          </a:xfrm>
        </p:grpSpPr>
        <p:sp>
          <p:nvSpPr>
            <p:cNvPr id="441" name=""/>
            <p:cNvSpPr/>
            <p:nvPr/>
          </p:nvSpPr>
          <p:spPr>
            <a:xfrm>
              <a:off x="0" y="2514600"/>
              <a:ext cx="3048120" cy="2133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7440" y="2858400"/>
              <a:ext cx="21866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технология формирования региональных культурных программ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648320" y="2514600"/>
            <a:ext cx="3962160" cy="2209680"/>
            <a:chOff x="4648320" y="2514600"/>
            <a:chExt cx="3962160" cy="2209680"/>
          </a:xfrm>
        </p:grpSpPr>
        <p:sp>
          <p:nvSpPr>
            <p:cNvPr id="444" name=""/>
            <p:cNvSpPr/>
            <p:nvPr/>
          </p:nvSpPr>
          <p:spPr>
            <a:xfrm>
              <a:off x="4648320" y="2514600"/>
              <a:ext cx="3962160" cy="2209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00600" y="2819520"/>
              <a:ext cx="3657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методика формирования локальных проектов социально-культурной и социально-педагогической направленности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0880" y="4724280"/>
            <a:ext cx="3048120" cy="2133720"/>
            <a:chOff x="380880" y="4724280"/>
            <a:chExt cx="3048120" cy="2133720"/>
          </a:xfrm>
        </p:grpSpPr>
        <p:sp>
          <p:nvSpPr>
            <p:cNvPr id="447" name=""/>
            <p:cNvSpPr/>
            <p:nvPr/>
          </p:nvSpPr>
          <p:spPr>
            <a:xfrm>
              <a:off x="380880" y="4724280"/>
              <a:ext cx="3048120" cy="2133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8320" y="5068080"/>
              <a:ext cx="2186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возможности применения игровых методов в проектирован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733920" y="4724280"/>
            <a:ext cx="3047760" cy="2133720"/>
            <a:chOff x="3733920" y="4724280"/>
            <a:chExt cx="3047760" cy="2133720"/>
          </a:xfrm>
        </p:grpSpPr>
        <p:sp>
          <p:nvSpPr>
            <p:cNvPr id="450" name=""/>
            <p:cNvSpPr/>
            <p:nvPr/>
          </p:nvSpPr>
          <p:spPr>
            <a:xfrm>
              <a:off x="3733920" y="4724280"/>
              <a:ext cx="3047760" cy="2133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86200" y="4952880"/>
              <a:ext cx="2727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технология оформление и продвижения заявок на финансирование проектов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676520" y="457200"/>
            <a:ext cx="4876560" cy="1143000"/>
          </a:xfrm>
          <a:prstGeom prst="downArrowCallout">
            <a:avLst>
              <a:gd name="adj1" fmla="val 67005"/>
              <a:gd name="adj2" fmla="val 77724"/>
              <a:gd name="adj3" fmla="val 13630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30520" y="57168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циокультурное проектировани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0880" y="1676520"/>
            <a:ext cx="8305920" cy="451332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пецифическая технология, представляющая собой конструктивную, творческую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22e9"/>
                </a:solidFill>
                <a:latin typeface="Tahoma"/>
              </a:rPr>
              <a:t>Структурные элементы социокультурного проектир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проблем и выявление причин их возникнов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работка целей и задач, характеризующих желаемое состояние объек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работка путей и средств достижения поставленных ц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3049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Тема 2.Культура как область проект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190512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Предметный уровень культуры в системе социально-культурного проектирования (организация музейного дела, развитие краеведческой деятельности, охрана памятников истории и культур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Идеальный мир культуры в контексте социокультурного проект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09480" y="533520"/>
            <a:ext cx="8077320" cy="2043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хнология разработки социально-культурных проектов и программ предполагает предварительное определение границ проектирова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2743200"/>
            <a:ext cx="914400" cy="1523880"/>
          </a:xfrm>
          <a:prstGeom prst="downArrow">
            <a:avLst>
              <a:gd name="adj1" fmla="val 50000"/>
              <a:gd name="adj2" fmla="val 4166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38080" y="4800600"/>
            <a:ext cx="76201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одновременно являются и условиями его существ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09480" y="2209680"/>
            <a:ext cx="7848720" cy="155700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цесс «возделывания», «развития», «образования» человеческой природы и одновременно результат этого процесса, овеществленный 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895120" y="152280"/>
            <a:ext cx="2590920" cy="1981440"/>
            <a:chOff x="2895120" y="152280"/>
            <a:chExt cx="2590920" cy="1981440"/>
          </a:xfrm>
        </p:grpSpPr>
        <p:sp>
          <p:nvSpPr>
            <p:cNvPr id="462" name=""/>
            <p:cNvSpPr/>
            <p:nvPr/>
          </p:nvSpPr>
          <p:spPr>
            <a:xfrm rot="5400000">
              <a:off x="3199680" y="-152280"/>
              <a:ext cx="1981440" cy="2590920"/>
            </a:xfrm>
            <a:prstGeom prst="rightArrowCallout">
              <a:avLst>
                <a:gd name="adj1" fmla="val 32693"/>
                <a:gd name="adj2" fmla="val 32690"/>
                <a:gd name="adj3" fmla="val 16667"/>
                <a:gd name="adj4" fmla="val 6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71800" y="548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КУЛЬТУР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219320" y="5334120"/>
            <a:ext cx="1981080" cy="1191240"/>
          </a:xfrm>
          <a:prstGeom prst="rect">
            <a:avLst/>
          </a:prstGeom>
          <a:noFill/>
          <a:ln w="9360">
            <a:solidFill>
              <a:srgbClr val="49e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дукты материального и духовного произво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4191120"/>
            <a:ext cx="1752480" cy="916920"/>
          </a:xfrm>
          <a:prstGeom prst="rect">
            <a:avLst/>
          </a:prstGeom>
          <a:noFill/>
          <a:ln w="9360">
            <a:solidFill>
              <a:srgbClr val="49e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истема норм, цен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95480" y="4267080"/>
            <a:ext cx="2667240" cy="916920"/>
          </a:xfrm>
          <a:prstGeom prst="rect">
            <a:avLst/>
          </a:prstGeom>
          <a:noFill/>
          <a:ln w="9360">
            <a:solidFill>
              <a:srgbClr val="49e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тношение человека к себе, другому челове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43600" y="4343400"/>
            <a:ext cx="3048120" cy="642600"/>
          </a:xfrm>
          <a:prstGeom prst="rect">
            <a:avLst/>
          </a:prstGeom>
          <a:noFill/>
          <a:ln w="9360">
            <a:solidFill>
              <a:srgbClr val="49e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рода, общество, человечест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3400" y="5529240"/>
            <a:ext cx="4343400" cy="916920"/>
          </a:xfrm>
          <a:prstGeom prst="rect">
            <a:avLst/>
          </a:prstGeom>
          <a:noFill/>
          <a:ln w="9360">
            <a:solidFill>
              <a:srgbClr val="49e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ровеень личностного совершенства, развития творческих сил и способностей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218960" y="380988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209680" y="3886200"/>
            <a:ext cx="15264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629400" y="380988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886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657240" y="380988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57200" y="457200"/>
            <a:ext cx="82296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99ccff"/>
                </a:solidFill>
                <a:latin typeface="Tahoma"/>
              </a:rPr>
              <a:t>Культу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сотворенная человеком материальная и духовная среда его обитания, способ преобразования его природных задатков и возможностей, условие развития творческих способностей личности и гуманизации общ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е определение культуры фиксирует прежде всего процессуальную и результативную составляющие вне природного бытия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0880" y="228600"/>
            <a:ext cx="8534520" cy="265428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ть культуры проясняет ее понимание как специфической формы концентрации идеально-духовной энергии человека и человечества, особого качественного «измерения» всех сфер человеческой жизни, как совокупности “проектных” способов и результатов освоения и преобразования природы, общества и самого чело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143000" y="3124080"/>
            <a:ext cx="6705720" cy="3276720"/>
          </a:xfrm>
          <a:prstGeom prst="cloudCallout">
            <a:avLst>
              <a:gd name="adj1" fmla="val -44245"/>
              <a:gd name="adj2" fmla="val 58819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3505320"/>
            <a:ext cx="52578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оектность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как основополагающая характеристика культуры прослеживается на различных уровнях и “срезах” ее функционирования: процессуальном (как институциональном, так и неинституциональном), предметно-результативном, ценностно-нормативн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838080" y="457200"/>
            <a:ext cx="74678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ани и срезы культуры в контексте задач проектирования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1676520"/>
            <a:ext cx="84582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cc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Tahoma"/>
              </a:rPr>
              <a:t>Культура как процесс (и качество) человеческ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ы индивидуальной и общественной активности - в деятельности личност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циальные групп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ститу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ство в целом в различных сферах бытия и созн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85800" y="380880"/>
            <a:ext cx="815328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та деятельность включает в себ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изводство (или создание) ценност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адиц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рм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де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х освоение (или потребление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ран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щи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ансляция.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99ccff"/>
                </a:solidFill>
                <a:latin typeface="Tahoma"/>
              </a:rPr>
              <a:t>Она осуществляется как в институциональных, так и неинституциональных фор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4920" y="2286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Тема 1 . Сущность и особенности социально-культурного проектирования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67652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ность и функции проект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ды проект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а типа проектных стратег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ческие и методологические основания проектных технологий в социокультурной жизни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циально-культурная сфера как объект проектиро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проектирования и программирования в выработке стратегического разрешения социокультурных проб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457200" y="380880"/>
            <a:ext cx="83818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ность культурной деятельности заключается в ее “улучшающем” характере всех составляющих человеческого бытия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2362320"/>
            <a:ext cx="8458200" cy="284472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сшей формой культурной деятельности является искусство (в т.ч. и традиционное народное творчество), которое задает образец и “планку” культурной деятельности в ц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2e9"/>
                </a:solidFill>
                <a:latin typeface="Tahoma"/>
              </a:rPr>
              <a:t>Особенностью культур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как процесса человеческой деятельности заключается в том, что культура здесь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тветствен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не столько за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что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сколько за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ка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920" y="457200"/>
            <a:ext cx="85341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ff"/>
                </a:solidFill>
                <a:latin typeface="Tahoma"/>
              </a:rPr>
              <a:t>Культу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– это целостное единство, взаимосвязанное, взаимозависимое существование ее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официальных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неофициальных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пластов (течений), их смысловое взаимодействие и взаимодополнени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3200400"/>
            <a:ext cx="4038480" cy="314172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2e9"/>
                </a:solidFill>
                <a:latin typeface="Tahoma"/>
              </a:rPr>
              <a:t>Институциональный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представлен культурными ценностями и нормами, охраняемыми системой социальных институтов и государственной идеологией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3352680"/>
            <a:ext cx="3733920" cy="247896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22e9"/>
                </a:solidFill>
                <a:latin typeface="Tahoma"/>
              </a:rPr>
              <a:t>Неинституциональны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ункционирует в различных вида и формах общественной само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285640" y="2438280"/>
            <a:ext cx="3049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553080" y="2286000"/>
            <a:ext cx="685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5800" y="533520"/>
            <a:ext cx="8153280" cy="5785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тественное и свободное развитие неинституциональных пластов культуры – это ведущий условие саморегуляции и саморазвития культуры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гообразие неинституционального пласта социально-культурной жизни выражается в виде множества организационных и содержательных форм самодеятельности граждан, которое обеспечивается юридически гарантированным правом свободно создавать «снизу» любые организационные структуры  независимо от их идеологической направл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762120" y="685800"/>
            <a:ext cx="7924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держивающие механизмы и санкции 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официально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государственной культур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1676520"/>
            <a:ext cx="7696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андартизация и регламентация, подавление и блокирование социальных инициати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3352680"/>
            <a:ext cx="77724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ождает экстремизм  протестные формы повед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38080" y="4191120"/>
            <a:ext cx="7696440" cy="1923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ориентирует социальную активность на антикультурные антиобщественные, порой и противозаконные формы поведения (алкоголизм, наркомания, нетрадиционные образы жизни, преступность и т.п.), что в конечном счете ведет к кризису культуры как целостной системы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2514600"/>
            <a:ext cx="762120" cy="7621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57200" y="1905120"/>
            <a:ext cx="3657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ициа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институциональная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19051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фициальная (неинституциональная или «альтернативной», «параллельная», «вторая», «другая»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304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Tahoma"/>
              </a:rPr>
              <a:t>КУЛЬ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514600" y="99072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638680" y="9907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4038480"/>
            <a:ext cx="6172200" cy="2286000"/>
          </a:xfrm>
          <a:prstGeom prst="upArrowCallout">
            <a:avLst>
              <a:gd name="adj1" fmla="val 37078"/>
              <a:gd name="adj2" fmla="val 97225"/>
              <a:gd name="adj3" fmla="val 25208"/>
              <a:gd name="adj4" fmla="val 6666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38280" y="510552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границе двух миров культуры обнаруживаются новые возможности и перспективы развития культурной жиз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762120" y="304920"/>
            <a:ext cx="81532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контексте проблем социокультурного проектирования культура на процессуальном уровне будет рассматриваться как определенная система ценностей и качество человеческой деятельности в различных сферах социальной практики и общественного созна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в искусстве (или в сфере художественной культуры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в политике (в сфере политической культуры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9ccff"/>
                </a:solidFill>
                <a:latin typeface="Tahoma"/>
              </a:rPr>
              <a:t>экологии (экологической культуры) и т.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57200" y="304920"/>
            <a:ext cx="82296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Анализ данного среза культуры позволяет выйти на решение двух основополагающих пробле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а) определить приоритетные области проектной деятельности (и соответствующие им виды социально-культурной активности личностей, групп, социальных институтов в сфере художественной, экологической, политической, духовно-нравственной культуры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б) выявить социальную базу проектных решений, т.е. приоритетные категории и социальные группы населения, которые могут рассматриваться в качестве реальной или потенциальной аудитории проек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0880" y="380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ahoma"/>
              </a:rPr>
              <a:t>Проектные решения на этом уровне анализа феномена культуры предполагают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1447920"/>
            <a:ext cx="83818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иск оптимальных механизмов регулирования социально-культурных процессов на уровне личности социальной группы, этнокультурной общности, региона, общества в целом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0880" y="2590920"/>
            <a:ext cx="8305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здание условий оптимизации становления и развития различных субъектов культуры (самодеятельных групп, объединений, клубов, ассоциаций, движений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3733920"/>
            <a:ext cx="8001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работку методологических оснований государственной культурной политик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" y="4800600"/>
            <a:ext cx="8458200" cy="1739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держку приоритетных направлений и видов культурной деятельности, имеющих общественную и личностную значимость, способствующих развитию художественной, духовно-нравственной, исторической, экологической культуры личности, созданию духовно насыщенного "культурного пространства" как естественной среды становления и развития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90720" y="457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Tahoma"/>
              </a:rPr>
              <a:t>2. Материальный уровень культуры</a:t>
            </a:r>
            <a:r>
              <a:rPr b="0" lang="en-US" sz="2400" spc="-1" strike="noStrike">
                <a:solidFill>
                  <a:srgbClr val="99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447920"/>
            <a:ext cx="845820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Материальный уровень культу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предметов (продуктов) культурной деятельности - материальных носителей и выразителей духовной сущности - ценностей, идей, символов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одукты культурной дея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опредмеченное воплощение (видение) идеала, овеществленный процесс человеческого стремления к совершенству, его “застывший” результ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8600" y="228600"/>
            <a:ext cx="8686800" cy="61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ahoma"/>
              </a:rPr>
              <a:t>В контексте социально-культурного проектирования предметный уровень культуры оказывается решающим в процессе разработки и реализации программ, связанны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9e1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9e125"/>
                </a:solidFill>
                <a:latin typeface="Tahoma"/>
              </a:rPr>
              <a:t>организация музейного дел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реставрация, строительство, музеефикация объектов историко-культурного знач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9e1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9e125"/>
                </a:solidFill>
                <a:latin typeface="Tahoma"/>
              </a:rPr>
              <a:t>развитие краеведческой деятель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включая фиксацию источников, которым грозит утрата (в том числе и личные документы, воспоминания, микротопонимика), обеспечение сохранности культурно-исторического ландшафта, передачу всего комплекса знаний поколениям, вступающим в жизн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9e12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9e125"/>
                </a:solidFill>
                <a:latin typeface="Tahoma"/>
              </a:rPr>
              <a:t>сохранение памятников истории и культур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поиск, комплектование, документирование, изучение, реставрация и хранение продуктов культурного творчества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14400" y="3200400"/>
            <a:ext cx="7238880" cy="1618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ающий” характер, “культивирование” всех составляющих человеческого бытия, в способности выводить человека за свои пределы в форме целеполагания, конструирования идеального образа человека и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457200"/>
            <a:ext cx="380988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мысл культур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75248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ывод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" y="9144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льтуру можно представить и ка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окупность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арактерных для социальной общности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ценностей, норм, смыслов, идеал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зафиксированных в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текстах культуры 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еданиях, обычаях, мифах, легендах, тради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95480"/>
            <a:ext cx="815364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Ценностно-ориентационный, духовный уровень культуры определя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зненные ценности и идеалы (как личностные, так и общественные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циальные ориентации и стандарты поведения, индивидуальное самоопределение личности (ее понимание смысла жизни, представление о чести и достоинстве и т.д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762120" y="53352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ahoma"/>
              </a:rPr>
              <a:t>Ценностно-ориентационный, духовный уровень культу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еспечи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олидация человеческих сообщест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ый 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 этом уровне культура содержит не только "генную" информацию, обеспечивающую самотождественность и целостность социума, но и своеобразную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иммунную матрицу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которая позволяет субъекту идентифицировать себя с определенной системой ценностей и одновременно распознать образ и элементы других культу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енностное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разоформлени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культуры вызывает кризис идентичности и духовно дезориентирует челове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28600" y="304920"/>
            <a:ext cx="29718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ективная  (проектная) деятель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304920"/>
            <a:ext cx="58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носится к разряду инновационной, творческой деятельности, ибо она предполагает преобразование реальности, строится на базе соответствующей технологии, которую можно унифицировать, освоить и усовершенств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523880" y="2971800"/>
            <a:ext cx="72392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способу (методу) проектиро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434340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илософско-теоретическое проектирование - конструирование моделей мира и человека на основе рационального мыш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19520" y="4114800"/>
            <a:ext cx="358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уховно-ценностное проектирование - создание в рамках религиозно-этических систем идеала, воплощающего представление конкретной культуры о человеческом совершенст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441972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удожественное проектирование “второй реальности” с помощью образа, знака, символа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676520" y="3581280"/>
            <a:ext cx="76176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3505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0" y="3581280"/>
            <a:ext cx="5335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86000" y="228600"/>
            <a:ext cx="45720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По объекту проектиро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1600200"/>
            <a:ext cx="2819520" cy="375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e125"/>
                </a:solidFill>
                <a:latin typeface="Tahoma"/>
              </a:rPr>
              <a:t>социально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создание моделей общественных явлений, социальных институтов, новых форм социального устройства и общественной жизни, разработка систем управления, законов и т.д.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895480"/>
            <a:ext cx="2895840" cy="3143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9e125"/>
                </a:solidFill>
                <a:latin typeface="Tahoma"/>
              </a:rPr>
              <a:t>педагогическо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оздание моделей и образов идеального человека в рамках этических и педагогических систем, самопроектирование личностью своего развит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1371600"/>
            <a:ext cx="2286000" cy="1923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e125"/>
                </a:solidFill>
                <a:latin typeface="Tahoma"/>
              </a:rPr>
              <a:t>инженерно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проектирование “второй природы” из материала “первой”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971800" y="8380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9144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05720" y="83808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80880"/>
            <a:ext cx="807732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омбинация различных способов проектирования в соотношении с теми или иными составляющими объектной области дает нам множество вариантов проектной деятельности - в виде специализированных технолог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2286000"/>
            <a:ext cx="3505320" cy="1557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интез художественного и технического проек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438280"/>
            <a:ext cx="1600200" cy="609840"/>
          </a:xfrm>
          <a:prstGeom prst="rightArrow">
            <a:avLst>
              <a:gd name="adj1" fmla="val 50000"/>
              <a:gd name="adj2" fmla="val 65599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2514600"/>
            <a:ext cx="2666880" cy="82548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хнология дизай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4419720"/>
            <a:ext cx="3581280" cy="2288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единение различных элементов социального, духовно-ценностного и педагогического проект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5105520"/>
            <a:ext cx="1600200" cy="609480"/>
          </a:xfrm>
          <a:prstGeom prst="rightArrow">
            <a:avLst>
              <a:gd name="adj1" fmla="val 50000"/>
              <a:gd name="adj2" fmla="val 65638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24480" y="5181480"/>
            <a:ext cx="2362320" cy="45972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деолог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762120" y="457200"/>
            <a:ext cx="731520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циально-культурное проектирован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91120" y="1295280"/>
            <a:ext cx="685800" cy="1067040"/>
          </a:xfrm>
          <a:prstGeom prst="downArrow">
            <a:avLst>
              <a:gd name="adj1" fmla="val 50000"/>
              <a:gd name="adj2" fmla="val 3889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2590920"/>
            <a:ext cx="7391160" cy="155700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ровоззренческая и технологическая основа целого ряда профессий социально-культурной, социально-педагогической и культурологической направл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990720" y="380880"/>
            <a:ext cx="716256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нова любой профессии социально-культурной сфе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2057400"/>
            <a:ext cx="3809880" cy="703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пособность подготовить и провести культурную акц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00600" y="2133720"/>
            <a:ext cx="3657600" cy="1618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варительно обосновав ее идею (замысел), определив цели и задачи, предполагаемые средства их реш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441972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роприятие, акция, программа будут эффективными лишь в том, случа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124080" y="12952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15000" y="1295280"/>
            <a:ext cx="533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962520" y="4648320"/>
            <a:ext cx="2286000" cy="1295280"/>
            <a:chOff x="3962520" y="4648320"/>
            <a:chExt cx="2286000" cy="1295280"/>
          </a:xfrm>
        </p:grpSpPr>
        <p:sp>
          <p:nvSpPr>
            <p:cNvPr id="424" name=""/>
            <p:cNvSpPr/>
            <p:nvPr/>
          </p:nvSpPr>
          <p:spPr>
            <a:xfrm>
              <a:off x="3962520" y="4648320"/>
              <a:ext cx="2286000" cy="1295280"/>
            </a:xfrm>
            <a:prstGeom prst="rightArrow">
              <a:avLst>
                <a:gd name="adj1" fmla="val 50000"/>
                <a:gd name="adj2" fmla="val 4412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15160" y="51055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ЕС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400800" y="441972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деальный замысел - предваряющий действие проек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33520" y="380880"/>
            <a:ext cx="800100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пешность деятельности специалиста социально-культурной сферы во многом зависит о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2743200"/>
            <a:ext cx="7848720" cy="265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епени овладения им технологией социально-культурного проектирования содержание которой составляет компетентный анализ конкретной ситуации, разработка и реализация проектов и программ, оптимизирующих основные составляющие человеческой жизнедеятельност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16002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77120" y="1600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8T08:23:31Z</dcterms:created>
  <dc:creator>1</dc:creator>
  <dc:description/>
  <dc:language>en-US</dc:language>
  <cp:lastModifiedBy>c400's Windows XP PC</cp:lastModifiedBy>
  <dcterms:modified xsi:type="dcterms:W3CDTF">2013-07-28T13:37:5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