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7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54.png" ContentType="image/png"/>
  <Override PartName="/ppt/media/image108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77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110.png" ContentType="image/png"/>
  <Override PartName="/ppt/media/image27.wmf" ContentType="image/x-wmf"/>
  <Override PartName="/ppt/media/image92.wmf" ContentType="image/x-wmf"/>
  <Override PartName="/ppt/media/image29.wmf" ContentType="image/x-wmf"/>
  <Override PartName="/ppt/media/image94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80.wmf" ContentType="image/x-wmf"/>
  <Override PartName="/ppt/media/image57.wmf" ContentType="image/x-wmf"/>
  <Override PartName="/ppt/media/image75.wmf" ContentType="image/x-wmf"/>
  <Override PartName="/ppt/media/image76.wmf" ContentType="image/x-wmf"/>
  <Override PartName="/ppt/media/image78.wmf" ContentType="image/x-wmf"/>
  <Override PartName="/ppt/media/image79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02.wmf" ContentType="image/x-wmf"/>
  <Override PartName="/ppt/media/image95.wmf" ContentType="image/x-wmf"/>
  <Override PartName="/ppt/media/image103.wmf" ContentType="image/x-wmf"/>
  <Override PartName="/ppt/media/image96.wmf" ContentType="image/x-wmf"/>
  <Override PartName="/ppt/media/image126.wmf" ContentType="image/x-wmf"/>
  <Override PartName="/ppt/media/image114.wmf" ContentType="image/x-wmf"/>
  <Override PartName="/ppt/media/image70.wmf" ContentType="image/x-wmf"/>
  <Override PartName="/ppt/media/image125.wmf" ContentType="image/x-wmf"/>
  <Override PartName="/ppt/media/image113.wmf" ContentType="image/x-wmf"/>
  <Override PartName="/ppt/media/image124.wmf" ContentType="image/x-wmf"/>
  <Override PartName="/ppt/media/image112.wmf" ContentType="image/x-wmf"/>
  <Override PartName="/ppt/media/image123.wmf" ContentType="image/x-wmf"/>
  <Override PartName="/ppt/media/image89.wmf" ContentType="image/x-wmf"/>
  <Override PartName="/ppt/media/image11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71.wmf" ContentType="image/x-wmf"/>
  <Override PartName="/ppt/media/image74.wmf" ContentType="image/x-wmf"/>
  <Override PartName="/ppt/media/image73.wmf" ContentType="image/x-wmf"/>
  <Override PartName="/ppt/media/image20.wmf" ContentType="image/x-wmf"/>
  <Override PartName="/ppt/media/image117.wmf" ContentType="image/x-wmf"/>
  <Override PartName="/ppt/media/image72.wmf" ContentType="image/x-wmf"/>
  <Override PartName="/ppt/media/image101.png" ContentType="image/png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190-8ED7-479F-8DDF-BF8EED38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9D1-2328-4CB8-B6DA-63C3D918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B2A-CB66-4750-82C5-671F9633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5D9-D291-46B6-8842-19E28C20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D37D-136D-4A7D-B0E9-4D4EF318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0AB-E3A2-4242-A19F-17A426D1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E343-331F-4360-B3DF-5FE7B20E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B2D1-B015-46E8-AAE3-A703CEFA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7A8F-3AA4-4040-AFC9-6CD611E2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92A7-1F61-486F-A3F9-BDE99DDA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EEA3-7B96-457D-9CDE-D5D95E3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B8D-3127-4140-B526-C622994D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75E-3360-437E-8C65-AB62390B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D373-89A5-4C00-8D7D-BDE46563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258B-BD0B-4D9F-9520-4ABD23C4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FB4-D2CF-4544-AC8A-740578B4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7D58-83DE-4227-BC5F-4471AACF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1204-9B0D-4699-A94A-22E2B844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3BC-2BE7-4136-B09E-A72B5AE3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8D7-76F4-44A6-B7A6-35E3838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C87-9B1A-4346-B57D-17A243A6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AF2-5CE0-446F-B02C-B3E0DD43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765-D445-4B02-9518-09E3FF6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D92-19FF-44B7-A52E-D5410478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925-6EDE-4457-972F-AF48B77A40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8B1F-267D-4C52-9143-D8EFEA68BA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7.wmf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0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1.png"/><Relationship Id="rId3" Type="http://schemas.openxmlformats.org/officeDocument/2006/relationships/image" Target="../media/image10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4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5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07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08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4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09.wmf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1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2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21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22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12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124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125.wmf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126.wmf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7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8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9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0.wmf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1.wmf"/><Relationship Id="rId26" Type="http://schemas.openxmlformats.org/officeDocument/2006/relationships/oleObject" Target="../embeddings/oleObject12.bin"/><Relationship Id="rId27" Type="http://schemas.openxmlformats.org/officeDocument/2006/relationships/image" Target="../media/image12.wmf"/><Relationship Id="rId28" Type="http://schemas.openxmlformats.org/officeDocument/2006/relationships/oleObject" Target="../embeddings/oleObject13.bin"/><Relationship Id="rId29" Type="http://schemas.openxmlformats.org/officeDocument/2006/relationships/image" Target="../media/image13.wmf"/><Relationship Id="rId30" Type="http://schemas.openxmlformats.org/officeDocument/2006/relationships/oleObject" Target="../embeddings/oleObject14.bin"/><Relationship Id="rId31" Type="http://schemas.openxmlformats.org/officeDocument/2006/relationships/image" Target="../media/image14.wmf"/><Relationship Id="rId32" Type="http://schemas.openxmlformats.org/officeDocument/2006/relationships/oleObject" Target="../embeddings/oleObject15.bin"/><Relationship Id="rId33" Type="http://schemas.openxmlformats.org/officeDocument/2006/relationships/image" Target="../media/image15.wmf"/><Relationship Id="rId34" Type="http://schemas.openxmlformats.org/officeDocument/2006/relationships/oleObject" Target="../embeddings/oleObject16.bin"/><Relationship Id="rId35" Type="http://schemas.openxmlformats.org/officeDocument/2006/relationships/image" Target="../media/image16.wmf"/><Relationship Id="rId36" Type="http://schemas.openxmlformats.org/officeDocument/2006/relationships/oleObject" Target="../embeddings/oleObject17.bin"/><Relationship Id="rId37" Type="http://schemas.openxmlformats.org/officeDocument/2006/relationships/image" Target="../media/image17.wmf"/><Relationship Id="rId38" Type="http://schemas.openxmlformats.org/officeDocument/2006/relationships/oleObject" Target="../embeddings/oleObject18.bin"/><Relationship Id="rId39" Type="http://schemas.openxmlformats.org/officeDocument/2006/relationships/image" Target="../media/image18.wmf"/><Relationship Id="rId4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7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6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3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4.wmf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image" Target="../media/image7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5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6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87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ДИНАМИКА ТВЕРДОГО ТЕЛА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920" y="327024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ЕКЦИЯ 7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ВИЖЕНИЕ ТЕЛА  ВОКРУГ НЕПОДВИЖНОЙ ТОЧКИ. СЛУЧАЙ ЭЙЛЕРА (ПРОДОЛЖЕНИЕ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5219640" y="1628640"/>
            <a:ext cx="3744720" cy="2952000"/>
            <a:chOff x="5219640" y="1628640"/>
            <a:chExt cx="3744720" cy="2952000"/>
          </a:xfrm>
        </p:grpSpPr>
        <p:grpSp>
          <p:nvGrpSpPr>
            <p:cNvPr id="381" name=""/>
            <p:cNvGrpSpPr/>
            <p:nvPr/>
          </p:nvGrpSpPr>
          <p:grpSpPr>
            <a:xfrm>
              <a:off x="5219640" y="1628640"/>
              <a:ext cx="3744720" cy="2952000"/>
              <a:chOff x="5219640" y="1628640"/>
              <a:chExt cx="3744720" cy="2952000"/>
            </a:xfrm>
          </p:grpSpPr>
          <p:pic>
            <p:nvPicPr>
              <p:cNvPr id="382" name="" descr=""/>
              <p:cNvPicPr/>
              <p:nvPr/>
            </p:nvPicPr>
            <p:blipFill>
              <a:blip r:embed="rId1"/>
              <a:srcRect l="9331" t="10354" r="52866" b="72117"/>
              <a:stretch/>
            </p:blipFill>
            <p:spPr>
              <a:xfrm>
                <a:off x="5219640" y="1628640"/>
                <a:ext cx="3744720" cy="295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5758920" y="2942640"/>
                <a:ext cx="2277720" cy="817200"/>
              </a:xfrm>
              <a:custGeom>
                <a:avLst/>
                <a:gdLst/>
                <a:ahLst/>
                <a:rect l="l" t="t" r="r" b="b"/>
                <a:pathLst>
                  <a:path w="1545" h="490">
                    <a:moveTo>
                      <a:pt x="0" y="0"/>
                    </a:moveTo>
                    <a:cubicBezTo>
                      <a:pt x="7" y="13"/>
                      <a:pt x="13" y="43"/>
                      <a:pt x="42" y="74"/>
                    </a:cubicBezTo>
                    <a:cubicBezTo>
                      <a:pt x="71" y="105"/>
                      <a:pt x="123" y="153"/>
                      <a:pt x="173" y="185"/>
                    </a:cubicBezTo>
                    <a:cubicBezTo>
                      <a:pt x="223" y="217"/>
                      <a:pt x="267" y="234"/>
                      <a:pt x="343" y="264"/>
                    </a:cubicBezTo>
                    <a:cubicBezTo>
                      <a:pt x="419" y="294"/>
                      <a:pt x="545" y="338"/>
                      <a:pt x="631" y="365"/>
                    </a:cubicBezTo>
                    <a:cubicBezTo>
                      <a:pt x="717" y="392"/>
                      <a:pt x="779" y="406"/>
                      <a:pt x="859" y="425"/>
                    </a:cubicBezTo>
                    <a:cubicBezTo>
                      <a:pt x="939" y="444"/>
                      <a:pt x="1037" y="470"/>
                      <a:pt x="1111" y="480"/>
                    </a:cubicBezTo>
                    <a:cubicBezTo>
                      <a:pt x="1185" y="490"/>
                      <a:pt x="1251" y="486"/>
                      <a:pt x="1305" y="485"/>
                    </a:cubicBezTo>
                    <a:cubicBezTo>
                      <a:pt x="1359" y="484"/>
                      <a:pt x="1395" y="482"/>
                      <a:pt x="1435" y="476"/>
                    </a:cubicBezTo>
                    <a:cubicBezTo>
                      <a:pt x="1475" y="470"/>
                      <a:pt x="1522" y="453"/>
                      <a:pt x="1545" y="447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61040" y="3661920"/>
                <a:ext cx="67680" cy="14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>
                <a:off x="7655040" y="3742920"/>
                <a:ext cx="133920" cy="248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021360" y="2590920"/>
                <a:ext cx="2001600" cy="1545840"/>
              </a:xfrm>
              <a:custGeom>
                <a:avLst/>
                <a:gdLst/>
                <a:ahLst/>
                <a:rect l="l" t="t" r="r" b="b"/>
                <a:pathLst>
                  <a:path w="1358" h="927">
                    <a:moveTo>
                      <a:pt x="0" y="920"/>
                    </a:moveTo>
                    <a:cubicBezTo>
                      <a:pt x="75" y="923"/>
                      <a:pt x="151" y="927"/>
                      <a:pt x="227" y="920"/>
                    </a:cubicBezTo>
                    <a:cubicBezTo>
                      <a:pt x="303" y="913"/>
                      <a:pt x="371" y="898"/>
                      <a:pt x="454" y="875"/>
                    </a:cubicBezTo>
                    <a:cubicBezTo>
                      <a:pt x="537" y="852"/>
                      <a:pt x="643" y="816"/>
                      <a:pt x="726" y="784"/>
                    </a:cubicBezTo>
                    <a:cubicBezTo>
                      <a:pt x="809" y="752"/>
                      <a:pt x="888" y="723"/>
                      <a:pt x="955" y="684"/>
                    </a:cubicBezTo>
                    <a:cubicBezTo>
                      <a:pt x="1022" y="645"/>
                      <a:pt x="1072" y="612"/>
                      <a:pt x="1130" y="552"/>
                    </a:cubicBezTo>
                    <a:cubicBezTo>
                      <a:pt x="1188" y="492"/>
                      <a:pt x="1268" y="389"/>
                      <a:pt x="1305" y="322"/>
                    </a:cubicBezTo>
                    <a:cubicBezTo>
                      <a:pt x="1342" y="255"/>
                      <a:pt x="1348" y="191"/>
                      <a:pt x="1353" y="149"/>
                    </a:cubicBezTo>
                    <a:cubicBezTo>
                      <a:pt x="1358" y="107"/>
                      <a:pt x="1346" y="97"/>
                      <a:pt x="1336" y="72"/>
                    </a:cubicBezTo>
                    <a:cubicBezTo>
                      <a:pt x="1326" y="47"/>
                      <a:pt x="1304" y="15"/>
                      <a:pt x="1295" y="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6823440" y="3953880"/>
                <a:ext cx="133920" cy="59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693560" y="3427560"/>
                <a:ext cx="65880" cy="75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514120" y="2951280"/>
              <a:ext cx="1908720" cy="1181880"/>
            </a:xfrm>
            <a:custGeom>
              <a:avLst/>
              <a:gdLst/>
              <a:ahLst/>
              <a:rect l="l" t="t" r="r" b="b"/>
              <a:pathLst>
                <a:path w="1179" h="636">
                  <a:moveTo>
                    <a:pt x="156" y="0"/>
                  </a:moveTo>
                  <a:lnTo>
                    <a:pt x="90" y="60"/>
                  </a:lnTo>
                  <a:lnTo>
                    <a:pt x="45" y="151"/>
                  </a:lnTo>
                  <a:lnTo>
                    <a:pt x="0" y="287"/>
                  </a:lnTo>
                  <a:lnTo>
                    <a:pt x="0" y="378"/>
                  </a:lnTo>
                  <a:lnTo>
                    <a:pt x="74" y="473"/>
                  </a:lnTo>
                  <a:lnTo>
                    <a:pt x="226" y="605"/>
                  </a:lnTo>
                  <a:lnTo>
                    <a:pt x="319" y="629"/>
                  </a:lnTo>
                  <a:lnTo>
                    <a:pt x="357" y="634"/>
                  </a:lnTo>
                  <a:lnTo>
                    <a:pt x="458" y="636"/>
                  </a:lnTo>
                  <a:lnTo>
                    <a:pt x="588" y="615"/>
                  </a:lnTo>
                  <a:lnTo>
                    <a:pt x="725" y="605"/>
                  </a:lnTo>
                  <a:lnTo>
                    <a:pt x="861" y="559"/>
                  </a:lnTo>
                  <a:lnTo>
                    <a:pt x="1041" y="476"/>
                  </a:lnTo>
                  <a:lnTo>
                    <a:pt x="1179" y="423"/>
                  </a:lnTo>
                  <a:lnTo>
                    <a:pt x="950" y="389"/>
                  </a:lnTo>
                  <a:lnTo>
                    <a:pt x="772" y="348"/>
                  </a:lnTo>
                  <a:lnTo>
                    <a:pt x="638" y="303"/>
                  </a:lnTo>
                  <a:lnTo>
                    <a:pt x="403" y="212"/>
                  </a:lnTo>
                  <a:lnTo>
                    <a:pt x="272" y="151"/>
                  </a:lnTo>
                  <a:lnTo>
                    <a:pt x="181" y="6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9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23200" y="2603880"/>
              <a:ext cx="837000" cy="1166760"/>
            </a:xfrm>
            <a:custGeom>
              <a:avLst/>
              <a:gdLst/>
              <a:ahLst/>
              <a:rect l="l" t="t" r="r" b="b"/>
              <a:pathLst>
                <a:path w="517" h="628">
                  <a:moveTo>
                    <a:pt x="0" y="628"/>
                  </a:moveTo>
                  <a:lnTo>
                    <a:pt x="73" y="574"/>
                  </a:lnTo>
                  <a:lnTo>
                    <a:pt x="215" y="432"/>
                  </a:lnTo>
                  <a:lnTo>
                    <a:pt x="317" y="311"/>
                  </a:lnTo>
                  <a:lnTo>
                    <a:pt x="363" y="175"/>
                  </a:lnTo>
                  <a:lnTo>
                    <a:pt x="376" y="121"/>
                  </a:lnTo>
                  <a:lnTo>
                    <a:pt x="342" y="49"/>
                  </a:lnTo>
                  <a:lnTo>
                    <a:pt x="328" y="0"/>
                  </a:lnTo>
                  <a:lnTo>
                    <a:pt x="412" y="58"/>
                  </a:lnTo>
                  <a:lnTo>
                    <a:pt x="499" y="175"/>
                  </a:lnTo>
                  <a:lnTo>
                    <a:pt x="517" y="262"/>
                  </a:lnTo>
                  <a:lnTo>
                    <a:pt x="499" y="401"/>
                  </a:lnTo>
                  <a:lnTo>
                    <a:pt x="453" y="478"/>
                  </a:lnTo>
                  <a:lnTo>
                    <a:pt x="408" y="538"/>
                  </a:lnTo>
                  <a:lnTo>
                    <a:pt x="363" y="583"/>
                  </a:lnTo>
                  <a:lnTo>
                    <a:pt x="292" y="607"/>
                  </a:lnTo>
                  <a:lnTo>
                    <a:pt x="253" y="607"/>
                  </a:lnTo>
                  <a:lnTo>
                    <a:pt x="177" y="605"/>
                  </a:lnTo>
                  <a:lnTo>
                    <a:pt x="95" y="612"/>
                  </a:lnTo>
                  <a:lnTo>
                    <a:pt x="0" y="628"/>
                  </a:lnTo>
                  <a:close/>
                </a:path>
              </a:pathLst>
            </a:custGeom>
            <a:solidFill>
              <a:srgbClr val="99cc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9. Интегрирование уравнений Эйлера (случай </a:t>
            </a: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2</a:t>
            </a: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11280" y="3789360"/>
          <a:ext cx="280512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789360"/>
                    <a:ext cx="28051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7159680" y="32767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cubicBezTo>
                  <a:pt x="2" y="3"/>
                  <a:pt x="7" y="0"/>
                  <a:pt x="7" y="0"/>
                </a:cubicBezTo>
                <a:cubicBezTo>
                  <a:pt x="7" y="0"/>
                  <a:pt x="2" y="3"/>
                  <a:pt x="0" y="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5640" y="1465200"/>
            <a:ext cx="2791080" cy="86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360" y="5661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еде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619280" y="5661000"/>
          <a:ext cx="116028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5661000"/>
                    <a:ext cx="11602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3059280" y="5689440"/>
          <a:ext cx="211932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5689440"/>
                    <a:ext cx="21193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"/>
          <p:cNvSpPr/>
          <p:nvPr/>
        </p:nvSpPr>
        <p:spPr>
          <a:xfrm>
            <a:off x="5239800" y="566100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ционарное вращение вокруг ос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9640" y="1484280"/>
          <a:ext cx="2762280" cy="876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1484280"/>
                    <a:ext cx="27622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24000" y="2276640"/>
          <a:ext cx="5018040" cy="787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4000" y="2276640"/>
                    <a:ext cx="50180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1859040" y="2852640"/>
          <a:ext cx="3120840" cy="1214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59040" y="2852640"/>
                    <a:ext cx="312084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611280" y="3787920"/>
            <a:ext cx="2881080" cy="86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000680" y="4653000"/>
          <a:ext cx="2587320" cy="876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00680" y="4653000"/>
                    <a:ext cx="2587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2541240" y="4890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налоги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7178760" y="1628640"/>
          <a:ext cx="1930320" cy="436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78760" y="1628640"/>
                    <a:ext cx="1930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922560" y="4651200"/>
            <a:ext cx="2881440" cy="8654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5651640" y="1413000"/>
            <a:ext cx="3457440" cy="2473200"/>
            <a:chOff x="5651640" y="1413000"/>
            <a:chExt cx="3457440" cy="2473200"/>
          </a:xfrm>
        </p:grpSpPr>
        <p:grpSp>
          <p:nvGrpSpPr>
            <p:cNvPr id="416" name=""/>
            <p:cNvGrpSpPr/>
            <p:nvPr/>
          </p:nvGrpSpPr>
          <p:grpSpPr>
            <a:xfrm>
              <a:off x="5651640" y="1413000"/>
              <a:ext cx="3457440" cy="2473200"/>
              <a:chOff x="5651640" y="1413000"/>
              <a:chExt cx="3457440" cy="2473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"/>
              <a:srcRect l="9331" t="10354" r="52866" b="72117"/>
              <a:stretch/>
            </p:blipFill>
            <p:spPr>
              <a:xfrm>
                <a:off x="5651640" y="1413000"/>
                <a:ext cx="3457440" cy="247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149520" y="2513880"/>
                <a:ext cx="2102760" cy="684360"/>
              </a:xfrm>
              <a:custGeom>
                <a:avLst/>
                <a:gdLst/>
                <a:ahLst/>
                <a:rect l="l" t="t" r="r" b="b"/>
                <a:pathLst>
                  <a:path w="1545" h="490">
                    <a:moveTo>
                      <a:pt x="0" y="0"/>
                    </a:moveTo>
                    <a:cubicBezTo>
                      <a:pt x="7" y="13"/>
                      <a:pt x="13" y="43"/>
                      <a:pt x="42" y="74"/>
                    </a:cubicBezTo>
                    <a:cubicBezTo>
                      <a:pt x="71" y="105"/>
                      <a:pt x="123" y="153"/>
                      <a:pt x="173" y="185"/>
                    </a:cubicBezTo>
                    <a:cubicBezTo>
                      <a:pt x="223" y="217"/>
                      <a:pt x="267" y="234"/>
                      <a:pt x="343" y="264"/>
                    </a:cubicBezTo>
                    <a:cubicBezTo>
                      <a:pt x="419" y="294"/>
                      <a:pt x="545" y="338"/>
                      <a:pt x="631" y="365"/>
                    </a:cubicBezTo>
                    <a:cubicBezTo>
                      <a:pt x="717" y="392"/>
                      <a:pt x="779" y="406"/>
                      <a:pt x="859" y="425"/>
                    </a:cubicBezTo>
                    <a:cubicBezTo>
                      <a:pt x="939" y="444"/>
                      <a:pt x="1037" y="470"/>
                      <a:pt x="1111" y="480"/>
                    </a:cubicBezTo>
                    <a:cubicBezTo>
                      <a:pt x="1185" y="490"/>
                      <a:pt x="1251" y="486"/>
                      <a:pt x="1305" y="485"/>
                    </a:cubicBezTo>
                    <a:cubicBezTo>
                      <a:pt x="1359" y="484"/>
                      <a:pt x="1395" y="482"/>
                      <a:pt x="1435" y="476"/>
                    </a:cubicBezTo>
                    <a:cubicBezTo>
                      <a:pt x="1475" y="470"/>
                      <a:pt x="1522" y="453"/>
                      <a:pt x="1545" y="447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51560" y="3116160"/>
                <a:ext cx="62640" cy="1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7899840" y="3184560"/>
                <a:ext cx="123480" cy="208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91800" y="2219040"/>
                <a:ext cx="1848240" cy="1294920"/>
              </a:xfrm>
              <a:custGeom>
                <a:avLst/>
                <a:gdLst/>
                <a:ahLst/>
                <a:rect l="l" t="t" r="r" b="b"/>
                <a:pathLst>
                  <a:path w="1358" h="927">
                    <a:moveTo>
                      <a:pt x="0" y="920"/>
                    </a:moveTo>
                    <a:cubicBezTo>
                      <a:pt x="75" y="923"/>
                      <a:pt x="151" y="927"/>
                      <a:pt x="227" y="920"/>
                    </a:cubicBezTo>
                    <a:cubicBezTo>
                      <a:pt x="303" y="913"/>
                      <a:pt x="371" y="898"/>
                      <a:pt x="454" y="875"/>
                    </a:cubicBezTo>
                    <a:cubicBezTo>
                      <a:pt x="537" y="852"/>
                      <a:pt x="643" y="816"/>
                      <a:pt x="726" y="784"/>
                    </a:cubicBezTo>
                    <a:cubicBezTo>
                      <a:pt x="809" y="752"/>
                      <a:pt x="888" y="723"/>
                      <a:pt x="955" y="684"/>
                    </a:cubicBezTo>
                    <a:cubicBezTo>
                      <a:pt x="1022" y="645"/>
                      <a:pt x="1072" y="612"/>
                      <a:pt x="1130" y="552"/>
                    </a:cubicBezTo>
                    <a:cubicBezTo>
                      <a:pt x="1188" y="492"/>
                      <a:pt x="1268" y="389"/>
                      <a:pt x="1305" y="322"/>
                    </a:cubicBezTo>
                    <a:cubicBezTo>
                      <a:pt x="1342" y="255"/>
                      <a:pt x="1348" y="191"/>
                      <a:pt x="1353" y="149"/>
                    </a:cubicBezTo>
                    <a:cubicBezTo>
                      <a:pt x="1358" y="107"/>
                      <a:pt x="1346" y="97"/>
                      <a:pt x="1336" y="72"/>
                    </a:cubicBezTo>
                    <a:cubicBezTo>
                      <a:pt x="1326" y="47"/>
                      <a:pt x="1304" y="15"/>
                      <a:pt x="1295" y="0"/>
                    </a:cubicBezTo>
                  </a:path>
                </a:pathLst>
              </a:custGeom>
              <a:noFill/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131960" y="3360600"/>
                <a:ext cx="123480" cy="50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935840" y="2919960"/>
                <a:ext cx="60840" cy="63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6372360" y="3141720"/>
              <a:ext cx="1871640" cy="466560"/>
            </a:xfrm>
            <a:custGeom>
              <a:avLst/>
              <a:gdLst/>
              <a:ahLst/>
              <a:rect l="l" t="t" r="r" b="b"/>
              <a:pathLst>
                <a:path w="1179" h="294">
                  <a:moveTo>
                    <a:pt x="61" y="236"/>
                  </a:moveTo>
                  <a:lnTo>
                    <a:pt x="232" y="234"/>
                  </a:lnTo>
                  <a:lnTo>
                    <a:pt x="421" y="183"/>
                  </a:lnTo>
                  <a:lnTo>
                    <a:pt x="590" y="136"/>
                  </a:lnTo>
                  <a:lnTo>
                    <a:pt x="771" y="45"/>
                  </a:lnTo>
                  <a:lnTo>
                    <a:pt x="816" y="45"/>
                  </a:lnTo>
                  <a:lnTo>
                    <a:pt x="875" y="39"/>
                  </a:lnTo>
                  <a:lnTo>
                    <a:pt x="998" y="45"/>
                  </a:lnTo>
                  <a:lnTo>
                    <a:pt x="1098" y="27"/>
                  </a:lnTo>
                  <a:lnTo>
                    <a:pt x="1179" y="0"/>
                  </a:lnTo>
                  <a:lnTo>
                    <a:pt x="998" y="136"/>
                  </a:lnTo>
                  <a:lnTo>
                    <a:pt x="771" y="226"/>
                  </a:lnTo>
                  <a:lnTo>
                    <a:pt x="544" y="272"/>
                  </a:lnTo>
                  <a:lnTo>
                    <a:pt x="364" y="294"/>
                  </a:lnTo>
                  <a:lnTo>
                    <a:pt x="181" y="272"/>
                  </a:lnTo>
                  <a:lnTo>
                    <a:pt x="0" y="226"/>
                  </a:lnTo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56360" y="2060640"/>
              <a:ext cx="2087640" cy="1152360"/>
            </a:xfrm>
            <a:custGeom>
              <a:avLst/>
              <a:gdLst/>
              <a:ahLst/>
              <a:rect l="l" t="t" r="r" b="b"/>
              <a:pathLst>
                <a:path w="1315" h="726">
                  <a:moveTo>
                    <a:pt x="0" y="272"/>
                  </a:moveTo>
                  <a:lnTo>
                    <a:pt x="125" y="185"/>
                  </a:lnTo>
                  <a:lnTo>
                    <a:pt x="288" y="113"/>
                  </a:lnTo>
                  <a:lnTo>
                    <a:pt x="454" y="46"/>
                  </a:lnTo>
                  <a:lnTo>
                    <a:pt x="680" y="0"/>
                  </a:lnTo>
                  <a:lnTo>
                    <a:pt x="862" y="0"/>
                  </a:lnTo>
                  <a:lnTo>
                    <a:pt x="1095" y="41"/>
                  </a:lnTo>
                  <a:lnTo>
                    <a:pt x="1225" y="91"/>
                  </a:lnTo>
                  <a:lnTo>
                    <a:pt x="1265" y="116"/>
                  </a:lnTo>
                  <a:lnTo>
                    <a:pt x="1315" y="227"/>
                  </a:lnTo>
                  <a:lnTo>
                    <a:pt x="1263" y="387"/>
                  </a:lnTo>
                  <a:lnTo>
                    <a:pt x="1145" y="548"/>
                  </a:lnTo>
                  <a:lnTo>
                    <a:pt x="1035" y="636"/>
                  </a:lnTo>
                  <a:lnTo>
                    <a:pt x="952" y="726"/>
                  </a:lnTo>
                  <a:lnTo>
                    <a:pt x="771" y="681"/>
                  </a:lnTo>
                  <a:lnTo>
                    <a:pt x="533" y="603"/>
                  </a:lnTo>
                  <a:lnTo>
                    <a:pt x="267" y="504"/>
                  </a:lnTo>
                  <a:lnTo>
                    <a:pt x="91" y="408"/>
                  </a:lnTo>
                  <a:lnTo>
                    <a:pt x="22" y="32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10. Интегрирование уравнений Эйлера в общем виде (случай </a:t>
            </a: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3</a:t>
            </a: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50920" y="4208400"/>
          <a:ext cx="881388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208400"/>
                    <a:ext cx="88138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7159680" y="32767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cubicBezTo>
                  <a:pt x="2" y="3"/>
                  <a:pt x="7" y="0"/>
                  <a:pt x="7" y="0"/>
                </a:cubicBezTo>
                <a:cubicBezTo>
                  <a:pt x="7" y="0"/>
                  <a:pt x="2" y="3"/>
                  <a:pt x="0" y="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68360" y="1916280"/>
          <a:ext cx="5641920" cy="96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1916280"/>
                    <a:ext cx="564192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95280" y="2781360"/>
          <a:ext cx="3100320" cy="94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2781360"/>
                    <a:ext cx="3100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3632040" y="2924280"/>
          <a:ext cx="2163960" cy="6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2040" y="2924280"/>
                    <a:ext cx="216396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3560760" y="2852640"/>
            <a:ext cx="2232000" cy="792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4000" y="4208400"/>
            <a:ext cx="8712000" cy="7923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83840" y="15066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чай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2649600" y="1484280"/>
          <a:ext cx="1828800" cy="425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49600" y="1484280"/>
                    <a:ext cx="18288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1187640" y="5681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еде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2700360" y="5661000"/>
          <a:ext cx="1116000" cy="425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00360" y="5661000"/>
                    <a:ext cx="11160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4888080" y="5661000"/>
          <a:ext cx="2074680" cy="35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888080" y="5661000"/>
                    <a:ext cx="20746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482560" y="6157800"/>
            <a:ext cx="38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ционарное вращение вокруг ос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rcRect l="8764" t="22928" r="56302" b="51913"/>
          <a:stretch/>
        </p:blipFill>
        <p:spPr>
          <a:xfrm>
            <a:off x="6313320" y="1413000"/>
            <a:ext cx="2795760" cy="30240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268360" y="414180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г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чает четверти полной поло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того как будет описана полная полодия векто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рнется на угол           Если               -рационально, то герплодия замкн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rcRect l="19079" t="52803" r="56032" b="28842"/>
          <a:stretch/>
        </p:blipFill>
        <p:spPr>
          <a:xfrm>
            <a:off x="324000" y="3141720"/>
            <a:ext cx="1949400" cy="21589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rcRect l="55423" t="53691" r="19689" b="29730"/>
          <a:stretch/>
        </p:blipFill>
        <p:spPr>
          <a:xfrm>
            <a:off x="7416720" y="5129280"/>
            <a:ext cx="1727280" cy="172872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11. О герполодиях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3156120" y="4705200"/>
          <a:ext cx="4032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6120" y="4705200"/>
                    <a:ext cx="4032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042920" y="4005360"/>
          <a:ext cx="249480" cy="23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2920" y="4005360"/>
                    <a:ext cx="249480" cy="2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1042920" y="1484280"/>
          <a:ext cx="3570480" cy="87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1484280"/>
                    <a:ext cx="35704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324000" y="24210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тационарных вращений герполодия совпадает с точкой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87000" y="2787480"/>
            <a:ext cx="4497840" cy="425520"/>
            <a:chOff x="387000" y="2787480"/>
            <a:chExt cx="4497840" cy="425520"/>
          </a:xfrm>
        </p:grpSpPr>
        <p:sp>
          <p:nvSpPr>
            <p:cNvPr id="460" name=""/>
            <p:cNvSpPr/>
            <p:nvPr/>
          </p:nvSpPr>
          <p:spPr>
            <a:xfrm>
              <a:off x="387000" y="2795400"/>
              <a:ext cx="33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 общем случае                      п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61" name=""/>
            <p:cNvGraphicFramePr/>
            <p:nvPr/>
          </p:nvGraphicFramePr>
          <p:xfrm>
            <a:off x="2050920" y="2801880"/>
            <a:ext cx="1160640" cy="314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050920" y="2801880"/>
                      <a:ext cx="116064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3" name=""/>
            <p:cNvGraphicFramePr/>
            <p:nvPr/>
          </p:nvGraphicFramePr>
          <p:xfrm>
            <a:off x="3746520" y="2787480"/>
            <a:ext cx="1138320" cy="425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746520" y="2787480"/>
                      <a:ext cx="11383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65" name=""/>
          <p:cNvGraphicFramePr/>
          <p:nvPr/>
        </p:nvGraphicFramePr>
        <p:xfrm>
          <a:off x="1908000" y="3213000"/>
          <a:ext cx="2008440" cy="493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908000" y="3213000"/>
                    <a:ext cx="20084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2556000" y="3305160"/>
            <a:ext cx="41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меняется периодично и достигает минимума и максимума; им отве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3635280" y="3832200"/>
          <a:ext cx="669960" cy="405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635280" y="3832200"/>
                    <a:ext cx="66996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 flipH="1">
            <a:off x="1080000" y="4152960"/>
            <a:ext cx="427680" cy="42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80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8033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267080" y="4724280"/>
          <a:ext cx="581040" cy="312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67080" y="4724280"/>
                    <a:ext cx="58104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387000" y="5308560"/>
            <a:ext cx="4497840" cy="425520"/>
            <a:chOff x="387000" y="5308560"/>
            <a:chExt cx="4497840" cy="425520"/>
          </a:xfrm>
        </p:grpSpPr>
        <p:sp>
          <p:nvSpPr>
            <p:cNvPr id="474" name=""/>
            <p:cNvSpPr/>
            <p:nvPr/>
          </p:nvSpPr>
          <p:spPr>
            <a:xfrm>
              <a:off x="387000" y="5316480"/>
              <a:ext cx="33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В общем случае                      пр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5" name=""/>
            <p:cNvGraphicFramePr/>
            <p:nvPr/>
          </p:nvGraphicFramePr>
          <p:xfrm>
            <a:off x="2050920" y="5322960"/>
            <a:ext cx="1160640" cy="314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2050920" y="5322960"/>
                      <a:ext cx="1160640" cy="31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3746520" y="5308560"/>
            <a:ext cx="1138320" cy="4255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746520" y="5308560"/>
                      <a:ext cx="1138320" cy="4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9" name=""/>
          <p:cNvSpPr/>
          <p:nvPr/>
        </p:nvSpPr>
        <p:spPr>
          <a:xfrm>
            <a:off x="395280" y="5589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ждой из полодий 1-4 соответствует герполодия, являющая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иралью, навивающейся на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Эта спираль бесконечно много раз обходит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Однако ее общая длина конечна, так как она равна длине соответствующей дуги поло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rcRect l="54587" t="37036" r="9331" b="41618"/>
          <a:stretch/>
        </p:blipFill>
        <p:spPr>
          <a:xfrm>
            <a:off x="6407280" y="1484280"/>
            <a:ext cx="2736720" cy="243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Arial Black"/>
              </a:rPr>
              <a:t>12. Определение ориентации тела в абсолютном пространстве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33520" y="1628640"/>
          <a:ext cx="2770200" cy="4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28640"/>
                    <a:ext cx="27702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550800" y="2060640"/>
          <a:ext cx="2792520" cy="42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00" y="2060640"/>
                    <a:ext cx="27925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3635280" y="1843200"/>
          <a:ext cx="2679840" cy="765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35280" y="1843200"/>
                    <a:ext cx="2679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609480" y="2421000"/>
          <a:ext cx="2233800" cy="40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2421000"/>
                    <a:ext cx="22338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912960" y="3738600"/>
          <a:ext cx="1652400" cy="358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912960" y="3738600"/>
                    <a:ext cx="165240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890640" y="3090960"/>
          <a:ext cx="1785960" cy="360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90640" y="3090960"/>
                    <a:ext cx="1785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846000" y="3429000"/>
          <a:ext cx="1809720" cy="358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46000" y="3429000"/>
                    <a:ext cx="1809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476360" y="4005360"/>
          <a:ext cx="1695600" cy="806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476360" y="4005360"/>
                    <a:ext cx="1695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684360" y="314172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280" y="34513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564000" y="1843200"/>
            <a:ext cx="3024000" cy="86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700360" y="321300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427640" y="4005360"/>
          <a:ext cx="2279520" cy="782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427640" y="4005360"/>
                    <a:ext cx="2279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214200" y="1622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1080" y="20541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1080" y="2414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7640" y="42418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(1),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140360" y="3141720"/>
          <a:ext cx="2276280" cy="693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140360" y="3141720"/>
                    <a:ext cx="22762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3486240" y="4221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27640" y="4005360"/>
            <a:ext cx="2305080" cy="8650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56560" y="4025880"/>
            <a:ext cx="21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У для нах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7740720" y="4365720"/>
          <a:ext cx="601560" cy="4474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7740720" y="4365720"/>
                    <a:ext cx="601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250920" y="5013360"/>
          <a:ext cx="1603440" cy="4474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250920" y="5013360"/>
                    <a:ext cx="16034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1909080" y="503388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иодичны с периодо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640400" y="5051520"/>
          <a:ext cx="1803240" cy="358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4640400" y="5051520"/>
                    <a:ext cx="18032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373080" y="50324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иодичны с периодом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468360" y="5300640"/>
          <a:ext cx="5429160" cy="8492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68360" y="5300640"/>
                    <a:ext cx="5429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376200" y="6165720"/>
            <a:ext cx="837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число              не рационально, то твердое тело никогда не возвратится к св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воначальной ориентации в абсолютном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628640" y="6199200"/>
          <a:ext cx="668520" cy="3128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1628640" y="6199200"/>
                    <a:ext cx="66852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300720" y="5516640"/>
          <a:ext cx="2479680" cy="35712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6300720" y="5516640"/>
                    <a:ext cx="24796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5436720" y="270828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гол в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78880" y="27068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гол ну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995640" y="2420640"/>
            <a:ext cx="7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5580000" y="2349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71640" y="314172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гол прец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51280" y="342900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1. Напоминание: эллипсоид инерции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58920" y="1628640"/>
            <a:ext cx="7304040" cy="2193480"/>
            <a:chOff x="1258920" y="1628640"/>
            <a:chExt cx="7304040" cy="2193480"/>
          </a:xfrm>
        </p:grpSpPr>
        <p:sp>
          <p:nvSpPr>
            <p:cNvPr id="94" name=""/>
            <p:cNvSpPr/>
            <p:nvPr/>
          </p:nvSpPr>
          <p:spPr>
            <a:xfrm>
              <a:off x="6443640" y="2708280"/>
              <a:ext cx="18003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443640" y="177300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290920" y="2925720"/>
              <a:ext cx="7189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3922200" y="2276640"/>
              <a:ext cx="3891240" cy="1545480"/>
              <a:chOff x="3922200" y="2276640"/>
              <a:chExt cx="3891240" cy="1545480"/>
            </a:xfrm>
          </p:grpSpPr>
          <p:sp>
            <p:nvSpPr>
              <p:cNvPr id="98" name=""/>
              <p:cNvSpPr/>
              <p:nvPr/>
            </p:nvSpPr>
            <p:spPr>
              <a:xfrm>
                <a:off x="5075280" y="2285280"/>
                <a:ext cx="2737080" cy="101016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723280" y="2276640"/>
                <a:ext cx="1440720" cy="154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5164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516461"/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3922200" y="2382120"/>
                <a:ext cx="3891240" cy="70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987" y="31"/>
                    </a:moveTo>
                    <a:arcTo wR="10800" hR="10800" stAng="-5658926" swAng="56589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987" y="31"/>
                    </a:moveTo>
                    <a:arcTo wR="10800" hR="10800" stAng="-5658926" swAng="5658926"/>
                  </a:path>
                </a:pathLst>
              </a:custGeom>
              <a:noFill/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5710320" y="2276640"/>
              <a:ext cx="733320" cy="792000"/>
            </a:xfrm>
            <a:custGeom>
              <a:avLst/>
              <a:gdLst/>
              <a:ahLst/>
              <a:rect l="l" t="t" r="r" b="b"/>
              <a:pathLst>
                <a:path w="462" h="499">
                  <a:moveTo>
                    <a:pt x="462" y="0"/>
                  </a:moveTo>
                  <a:cubicBezTo>
                    <a:pt x="414" y="10"/>
                    <a:pt x="334" y="23"/>
                    <a:pt x="281" y="46"/>
                  </a:cubicBezTo>
                  <a:cubicBezTo>
                    <a:pt x="228" y="69"/>
                    <a:pt x="183" y="98"/>
                    <a:pt x="145" y="136"/>
                  </a:cubicBezTo>
                  <a:cubicBezTo>
                    <a:pt x="107" y="174"/>
                    <a:pt x="77" y="227"/>
                    <a:pt x="54" y="272"/>
                  </a:cubicBezTo>
                  <a:cubicBezTo>
                    <a:pt x="31" y="317"/>
                    <a:pt x="16" y="371"/>
                    <a:pt x="8" y="409"/>
                  </a:cubicBezTo>
                  <a:cubicBezTo>
                    <a:pt x="0" y="447"/>
                    <a:pt x="7" y="442"/>
                    <a:pt x="8" y="499"/>
                  </a:cubicBezTo>
                  <a:cubicBezTo>
                    <a:pt x="91" y="461"/>
                    <a:pt x="369" y="336"/>
                    <a:pt x="462" y="272"/>
                  </a:cubicBezTo>
                  <a:cubicBezTo>
                    <a:pt x="452" y="170"/>
                    <a:pt x="459" y="51"/>
                    <a:pt x="462" y="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32480" y="2276640"/>
              <a:ext cx="1382760" cy="473040"/>
            </a:xfrm>
            <a:custGeom>
              <a:avLst/>
              <a:gdLst/>
              <a:ahLst/>
              <a:rect l="l" t="t" r="r" b="b"/>
              <a:pathLst>
                <a:path w="871" h="298">
                  <a:moveTo>
                    <a:pt x="7" y="0"/>
                  </a:moveTo>
                  <a:cubicBezTo>
                    <a:pt x="90" y="10"/>
                    <a:pt x="178" y="1"/>
                    <a:pt x="276" y="16"/>
                  </a:cubicBezTo>
                  <a:cubicBezTo>
                    <a:pt x="374" y="31"/>
                    <a:pt x="517" y="66"/>
                    <a:pt x="597" y="91"/>
                  </a:cubicBezTo>
                  <a:cubicBezTo>
                    <a:pt x="677" y="116"/>
                    <a:pt x="710" y="134"/>
                    <a:pt x="756" y="167"/>
                  </a:cubicBezTo>
                  <a:cubicBezTo>
                    <a:pt x="802" y="200"/>
                    <a:pt x="855" y="250"/>
                    <a:pt x="871" y="291"/>
                  </a:cubicBezTo>
                  <a:cubicBezTo>
                    <a:pt x="740" y="295"/>
                    <a:pt x="164" y="298"/>
                    <a:pt x="4" y="285"/>
                  </a:cubicBezTo>
                  <a:cubicBezTo>
                    <a:pt x="0" y="195"/>
                    <a:pt x="4" y="61"/>
                    <a:pt x="7" y="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11760" y="2724120"/>
              <a:ext cx="2108160" cy="376200"/>
            </a:xfrm>
            <a:custGeom>
              <a:avLst/>
              <a:gdLst/>
              <a:ahLst/>
              <a:rect l="l" t="t" r="r" b="b"/>
              <a:pathLst>
                <a:path w="1328" h="237">
                  <a:moveTo>
                    <a:pt x="467" y="0"/>
                  </a:moveTo>
                  <a:cubicBezTo>
                    <a:pt x="682" y="9"/>
                    <a:pt x="1219" y="6"/>
                    <a:pt x="1328" y="9"/>
                  </a:cubicBezTo>
                  <a:cubicBezTo>
                    <a:pt x="1277" y="70"/>
                    <a:pt x="1232" y="100"/>
                    <a:pt x="1141" y="127"/>
                  </a:cubicBezTo>
                  <a:cubicBezTo>
                    <a:pt x="1050" y="156"/>
                    <a:pt x="916" y="169"/>
                    <a:pt x="781" y="185"/>
                  </a:cubicBezTo>
                  <a:cubicBezTo>
                    <a:pt x="646" y="201"/>
                    <a:pt x="460" y="215"/>
                    <a:pt x="330" y="221"/>
                  </a:cubicBezTo>
                  <a:cubicBezTo>
                    <a:pt x="200" y="227"/>
                    <a:pt x="106" y="237"/>
                    <a:pt x="0" y="224"/>
                  </a:cubicBezTo>
                  <a:cubicBezTo>
                    <a:pt x="63" y="192"/>
                    <a:pt x="266" y="93"/>
                    <a:pt x="467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920" y="2349360"/>
              <a:ext cx="2663640" cy="863640"/>
            </a:xfrm>
            <a:prstGeom prst="cube">
              <a:avLst>
                <a:gd name="adj" fmla="val 5675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2627280" y="17733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5280" y="2781360"/>
              <a:ext cx="5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736280" y="3046320"/>
              <a:ext cx="5749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1762200" y="3429000"/>
            <a:ext cx="225360" cy="249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62200" y="3429000"/>
                      <a:ext cx="22536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5146560" y="3284640"/>
            <a:ext cx="225720" cy="249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46560" y="3284640"/>
                      <a:ext cx="22572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4200480" y="2614680"/>
            <a:ext cx="247680" cy="293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00480" y="2614680"/>
                      <a:ext cx="24768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8315280" y="2637000"/>
            <a:ext cx="247680" cy="293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315280" y="2637000"/>
                      <a:ext cx="247680" cy="29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6" name=""/>
            <p:cNvGraphicFramePr/>
            <p:nvPr/>
          </p:nvGraphicFramePr>
          <p:xfrm>
            <a:off x="6515280" y="1628640"/>
            <a:ext cx="203040" cy="225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15280" y="1628640"/>
                      <a:ext cx="20304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2698920" y="1628640"/>
            <a:ext cx="203040" cy="225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698920" y="1628640"/>
                      <a:ext cx="203040" cy="2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0" name=""/>
          <p:cNvGraphicFramePr/>
          <p:nvPr/>
        </p:nvGraphicFramePr>
        <p:xfrm>
          <a:off x="878040" y="2854440"/>
          <a:ext cx="334800" cy="31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878040" y="2854440"/>
                    <a:ext cx="33480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166760" y="2349360"/>
          <a:ext cx="358920" cy="316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166760" y="2349360"/>
                    <a:ext cx="3589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957320" y="2494080"/>
          <a:ext cx="357120" cy="315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957320" y="2494080"/>
                    <a:ext cx="35712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66720" y="4149720"/>
          <a:ext cx="2032200" cy="495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720" y="4149720"/>
                    <a:ext cx="2032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22160" y="3673440"/>
          <a:ext cx="2051280" cy="49536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22160" y="3673440"/>
                    <a:ext cx="2051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11280" y="4653000"/>
          <a:ext cx="2050920" cy="4953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611280" y="4653000"/>
                    <a:ext cx="20509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059280" y="4221000"/>
          <a:ext cx="1158840" cy="3146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059280" y="4221000"/>
                    <a:ext cx="115884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724360" y="3716280"/>
          <a:ext cx="2195640" cy="4078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724360" y="3716280"/>
                    <a:ext cx="21956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740720" y="2276640"/>
          <a:ext cx="314280" cy="40788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7740720" y="2276640"/>
                    <a:ext cx="314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527880" y="1916280"/>
          <a:ext cx="291960" cy="40788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>
                    <a:off x="6527880" y="1916280"/>
                    <a:ext cx="291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435640" y="2708280"/>
          <a:ext cx="291960" cy="40788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5435640" y="2708280"/>
                    <a:ext cx="291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148360" y="4221000"/>
          <a:ext cx="3457440" cy="747720"/>
        </p:xfrm>
        <a:graphic>
          <a:graphicData uri="http://schemas.openxmlformats.org/presentationml/2006/ole">
            <p:oleObj r:id="rId38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5148360" y="4221000"/>
                    <a:ext cx="345744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31520" y="5154480"/>
            <a:ext cx="78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ий вид эллипсоида инерции «похож» на форму однородного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" y="5659560"/>
            <a:ext cx="844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геометрической интерпретации вращения ТТ удобно мысленно заменить его («вырезать из него») соответствующий эллипсоид инер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2. Геометрическая интерпретация Пуанс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916360" y="1484280"/>
          <a:ext cx="219528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484280"/>
                    <a:ext cx="2195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rcRect l="8764" t="22928" r="56302" b="51913"/>
          <a:stretch/>
        </p:blipFill>
        <p:spPr>
          <a:xfrm>
            <a:off x="6172200" y="1557360"/>
            <a:ext cx="2795760" cy="302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992920" y="162864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ллипсоид ине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198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48200" y="2225520"/>
            <a:ext cx="11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центр в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2492280"/>
            <a:ext cx="936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59480" y="392580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скость Пуан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800" y="147780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ллипсоид ине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812960"/>
          <a:ext cx="268200" cy="27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1812960"/>
                    <a:ext cx="26820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4840" y="1773360"/>
            <a:ext cx="54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точка пересечения ЭИ с мгновенной осью вра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50920" y="2349360"/>
            <a:ext cx="5616360" cy="642600"/>
            <a:chOff x="250920" y="2349360"/>
            <a:chExt cx="5616360" cy="642600"/>
          </a:xfrm>
        </p:grpSpPr>
        <p:graphicFrame>
          <p:nvGraphicFramePr>
            <p:cNvPr id="160" name=""/>
            <p:cNvGraphicFramePr/>
            <p:nvPr/>
          </p:nvGraphicFramePr>
          <p:xfrm>
            <a:off x="3346560" y="2422440"/>
            <a:ext cx="268200" cy="247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46560" y="2422440"/>
                      <a:ext cx="268200" cy="24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250920" y="2349360"/>
              <a:ext cx="56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) Величина угловой скорости        пропорциональна длине радиуса-вектора точки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относительно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"/>
          <p:cNvGraphicFramePr/>
          <p:nvPr/>
        </p:nvGraphicFramePr>
        <p:xfrm>
          <a:off x="611280" y="2924280"/>
          <a:ext cx="4613040" cy="47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1280" y="2924280"/>
                    <a:ext cx="461304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95280" y="3284640"/>
          <a:ext cx="5330880" cy="974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5280" y="3284640"/>
                    <a:ext cx="533088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16080" y="4156200"/>
            <a:ext cx="30319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Плоскость          перпендикулярна кинетическому моменту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41320" y="4238640"/>
          <a:ext cx="185760" cy="250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41320" y="4238640"/>
                    <a:ext cx="185760" cy="2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132000" y="3933720"/>
          <a:ext cx="3511800" cy="1322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32000" y="3933720"/>
                    <a:ext cx="351180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50920" y="522936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Прое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радиуса-вектор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на направление кинетического момент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есть величина постоя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482920" y="5589720"/>
          <a:ext cx="5398920" cy="83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82920" y="5589720"/>
                    <a:ext cx="53989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 flipV="1">
            <a:off x="6443640" y="357336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20" y="2060640"/>
            <a:ext cx="33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ходит чере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касается Э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4800" y="2144880"/>
          <a:ext cx="246240" cy="2505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34800" y="2144880"/>
                    <a:ext cx="246240" cy="25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3. Геометрическая интерпретация Пуанс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8764" t="22928" r="56302" b="51913"/>
          <a:stretch/>
        </p:blipFill>
        <p:spPr>
          <a:xfrm>
            <a:off x="6156360" y="1916280"/>
            <a:ext cx="2795400" cy="30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140360" y="3573360"/>
          <a:ext cx="1298520" cy="4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3573360"/>
                    <a:ext cx="12985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68360" y="1557360"/>
            <a:ext cx="65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ллипсоид инерции для неподвижной точки катится без скольжения (А) по плоскости, неподвижной в пространстве (Б); эта плоскость перпендикулярна кинетическому моменту (В); угловая скорость тела пропорциональна длине радиуса-вектора точки касания (Г), а по направлению с ним совпадает (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01788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А) точка Р лежит на мгновенной оси вращения, и поэтому ее скорость равна ну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" y="359424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Б) Следствие (2), (3), и того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280" y="399888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В) Следствие 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1557360"/>
            <a:ext cx="6408720" cy="1511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2920" y="39988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Г) Следствие 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6360" y="436572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Д) по постро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8360" y="4653000"/>
            <a:ext cx="6048360" cy="1191240"/>
            <a:chOff x="468360" y="4653000"/>
            <a:chExt cx="6048360" cy="1191240"/>
          </a:xfrm>
        </p:grpSpPr>
        <p:graphicFrame>
          <p:nvGraphicFramePr>
            <p:cNvPr id="191" name=""/>
            <p:cNvGraphicFramePr/>
            <p:nvPr/>
          </p:nvGraphicFramePr>
          <p:xfrm>
            <a:off x="4429080" y="5302080"/>
            <a:ext cx="247680" cy="24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29080" y="5302080"/>
                      <a:ext cx="247680" cy="24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468360" y="4653000"/>
              <a:ext cx="604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и движении тела точка Р на эллипсоиде инерции вычерчивает кривую, которая называется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олодией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ответствующая кривая на плоскости      называется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ерполодией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 flipV="1">
            <a:off x="8101080" y="4149360"/>
            <a:ext cx="216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80800" y="5013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ерполо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6880" y="436572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ло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516720" y="3645000"/>
            <a:ext cx="5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58388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эллипсоид инерции есть эллипсоид вращения, то полодия и герполодия представляют собой окру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4. Интегрирование уравнений Эйлера в общем виде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1989000"/>
          <a:ext cx="274320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89000"/>
                    <a:ext cx="27432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971640" y="2421000"/>
          <a:ext cx="24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421000"/>
                    <a:ext cx="24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348080" y="1628640"/>
          <a:ext cx="4795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8080" y="1628640"/>
                    <a:ext cx="4795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437000" y="2421000"/>
          <a:ext cx="4707000" cy="78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37000" y="2421000"/>
                    <a:ext cx="47070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547640" y="1557360"/>
          <a:ext cx="1160640" cy="31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1557360"/>
                    <a:ext cx="11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476360" y="1484280"/>
            <a:ext cx="12952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206064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1700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22766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062000" y="2852640"/>
          <a:ext cx="2141640" cy="45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2000" y="2852640"/>
                    <a:ext cx="214164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900000" y="3429000"/>
          <a:ext cx="8007480" cy="741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00000" y="3429000"/>
                    <a:ext cx="8007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55640" y="3284640"/>
            <a:ext cx="820908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66400" y="55515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чай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409840" y="5529240"/>
          <a:ext cx="187488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09840" y="5529240"/>
                    <a:ext cx="1874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422440" y="5929200"/>
          <a:ext cx="1830600" cy="42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22440" y="5929200"/>
                    <a:ext cx="18306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584440" y="5145120"/>
          <a:ext cx="1138320" cy="425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84440" y="5145120"/>
                    <a:ext cx="11383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73120" y="4437000"/>
          <a:ext cx="5916600" cy="428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3120" y="4437000"/>
                    <a:ext cx="5916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39640" y="4797360"/>
          <a:ext cx="59835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640" y="4797360"/>
                    <a:ext cx="59835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7093080" y="4581360"/>
          <a:ext cx="1852560" cy="425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93080" y="4581360"/>
                    <a:ext cx="18525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588000" y="4508640"/>
            <a:ext cx="216000" cy="57600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20000" y="4581360"/>
            <a:ext cx="194472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583884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64440" y="582444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24920" y="5838840"/>
            <a:ext cx="73080" cy="73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093080" y="6021360"/>
          <a:ext cx="536400" cy="291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93080" y="6021360"/>
                    <a:ext cx="53640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216480" y="6010200"/>
          <a:ext cx="560520" cy="314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216480" y="6010200"/>
                    <a:ext cx="5605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028000" y="6021360"/>
          <a:ext cx="515880" cy="291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8028000" y="6021360"/>
                    <a:ext cx="5158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8604360" y="5445000"/>
          <a:ext cx="401400" cy="42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8604360" y="5445000"/>
                    <a:ext cx="4014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172520" y="59500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чай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8360" y="51674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лучай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5400000">
            <a:off x="6768000" y="5336280"/>
            <a:ext cx="216000" cy="86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5400000">
            <a:off x="7676280" y="533160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566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13280" y="5394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40640" y="536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65800" y="5367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5. Интегрирование уравнений Эйлера (случай 1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03640" y="1482840"/>
            <a:ext cx="3672000" cy="2522520"/>
            <a:chOff x="5003640" y="1482840"/>
            <a:chExt cx="3672000" cy="252252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rcRect l="9331" t="10354" r="52866" b="72117"/>
            <a:stretch/>
          </p:blipFill>
          <p:spPr>
            <a:xfrm>
              <a:off x="5003640" y="1482840"/>
              <a:ext cx="367200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32480" y="2605680"/>
              <a:ext cx="2233440" cy="698040"/>
            </a:xfrm>
            <a:custGeom>
              <a:avLst/>
              <a:gdLst/>
              <a:ahLst/>
              <a:rect l="l" t="t" r="r" b="b"/>
              <a:pathLst>
                <a:path w="1545" h="490">
                  <a:moveTo>
                    <a:pt x="0" y="0"/>
                  </a:moveTo>
                  <a:cubicBezTo>
                    <a:pt x="7" y="13"/>
                    <a:pt x="13" y="43"/>
                    <a:pt x="42" y="74"/>
                  </a:cubicBezTo>
                  <a:cubicBezTo>
                    <a:pt x="71" y="105"/>
                    <a:pt x="123" y="153"/>
                    <a:pt x="173" y="185"/>
                  </a:cubicBezTo>
                  <a:cubicBezTo>
                    <a:pt x="223" y="217"/>
                    <a:pt x="267" y="234"/>
                    <a:pt x="343" y="264"/>
                  </a:cubicBezTo>
                  <a:cubicBezTo>
                    <a:pt x="419" y="294"/>
                    <a:pt x="545" y="338"/>
                    <a:pt x="631" y="365"/>
                  </a:cubicBezTo>
                  <a:cubicBezTo>
                    <a:pt x="717" y="392"/>
                    <a:pt x="779" y="406"/>
                    <a:pt x="859" y="425"/>
                  </a:cubicBezTo>
                  <a:cubicBezTo>
                    <a:pt x="939" y="444"/>
                    <a:pt x="1037" y="470"/>
                    <a:pt x="1111" y="480"/>
                  </a:cubicBezTo>
                  <a:cubicBezTo>
                    <a:pt x="1185" y="490"/>
                    <a:pt x="1251" y="486"/>
                    <a:pt x="1305" y="485"/>
                  </a:cubicBezTo>
                  <a:cubicBezTo>
                    <a:pt x="1359" y="484"/>
                    <a:pt x="1395" y="482"/>
                    <a:pt x="1435" y="476"/>
                  </a:cubicBezTo>
                  <a:cubicBezTo>
                    <a:pt x="1475" y="470"/>
                    <a:pt x="1522" y="453"/>
                    <a:pt x="1545" y="447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09040" y="3219840"/>
              <a:ext cx="6624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7391520" y="3289320"/>
              <a:ext cx="131400" cy="21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89880" y="2305080"/>
              <a:ext cx="1962720" cy="1320840"/>
            </a:xfrm>
            <a:custGeom>
              <a:avLst/>
              <a:gdLst/>
              <a:ahLst/>
              <a:rect l="l" t="t" r="r" b="b"/>
              <a:pathLst>
                <a:path w="1358" h="927">
                  <a:moveTo>
                    <a:pt x="0" y="920"/>
                  </a:moveTo>
                  <a:cubicBezTo>
                    <a:pt x="75" y="923"/>
                    <a:pt x="151" y="927"/>
                    <a:pt x="227" y="920"/>
                  </a:cubicBezTo>
                  <a:cubicBezTo>
                    <a:pt x="303" y="913"/>
                    <a:pt x="371" y="898"/>
                    <a:pt x="454" y="875"/>
                  </a:cubicBezTo>
                  <a:cubicBezTo>
                    <a:pt x="537" y="852"/>
                    <a:pt x="643" y="816"/>
                    <a:pt x="726" y="784"/>
                  </a:cubicBezTo>
                  <a:cubicBezTo>
                    <a:pt x="809" y="752"/>
                    <a:pt x="888" y="723"/>
                    <a:pt x="955" y="684"/>
                  </a:cubicBezTo>
                  <a:cubicBezTo>
                    <a:pt x="1022" y="645"/>
                    <a:pt x="1072" y="612"/>
                    <a:pt x="1130" y="552"/>
                  </a:cubicBezTo>
                  <a:cubicBezTo>
                    <a:pt x="1188" y="492"/>
                    <a:pt x="1268" y="389"/>
                    <a:pt x="1305" y="322"/>
                  </a:cubicBezTo>
                  <a:cubicBezTo>
                    <a:pt x="1342" y="255"/>
                    <a:pt x="1348" y="191"/>
                    <a:pt x="1353" y="149"/>
                  </a:cubicBezTo>
                  <a:cubicBezTo>
                    <a:pt x="1358" y="107"/>
                    <a:pt x="1346" y="97"/>
                    <a:pt x="1336" y="72"/>
                  </a:cubicBezTo>
                  <a:cubicBezTo>
                    <a:pt x="1326" y="47"/>
                    <a:pt x="1304" y="15"/>
                    <a:pt x="1295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576120" y="3469320"/>
              <a:ext cx="131400" cy="5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429320" y="3020400"/>
              <a:ext cx="64800" cy="64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684360" y="1557360"/>
          <a:ext cx="2966760" cy="83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557360"/>
                    <a:ext cx="29667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755640" y="2276640"/>
          <a:ext cx="289872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2276640"/>
                    <a:ext cx="289872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519120" y="323388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дии лежат в плоск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627280" y="3213000"/>
          <a:ext cx="2141640" cy="922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27280" y="3213000"/>
                    <a:ext cx="21416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611280" y="3068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92200" y="4116240"/>
            <a:ext cx="811080" cy="642600"/>
            <a:chOff x="592200" y="4116240"/>
            <a:chExt cx="811080" cy="642600"/>
          </a:xfrm>
        </p:grpSpPr>
        <p:sp>
          <p:nvSpPr>
            <p:cNvPr id="272" name=""/>
            <p:cNvSpPr/>
            <p:nvPr/>
          </p:nvSpPr>
          <p:spPr>
            <a:xfrm>
              <a:off x="592200" y="4116240"/>
              <a:ext cx="81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Ур-е дл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116000" y="4454280"/>
            <a:ext cx="223920" cy="293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116000" y="4454280"/>
                      <a:ext cx="22392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5" name=""/>
          <p:cNvGraphicFramePr/>
          <p:nvPr/>
        </p:nvGraphicFramePr>
        <p:xfrm>
          <a:off x="1403280" y="4797360"/>
          <a:ext cx="5488200" cy="992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03280" y="4797360"/>
                    <a:ext cx="54882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411280" y="4292640"/>
          <a:ext cx="2141640" cy="45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11280" y="4292640"/>
                    <a:ext cx="2141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763640" y="5765760"/>
          <a:ext cx="5040360" cy="831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63640" y="5765760"/>
                    <a:ext cx="504036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13637" t="38946" r="47715" b="40475"/>
          <a:stretch/>
        </p:blipFill>
        <p:spPr>
          <a:xfrm>
            <a:off x="468360" y="4365720"/>
            <a:ext cx="2556000" cy="20444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6. Интегрирование уравнений Эйлера (случай 1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003640" y="1482840"/>
            <a:ext cx="3672000" cy="2522520"/>
            <a:chOff x="5003640" y="1482840"/>
            <a:chExt cx="3672000" cy="2522520"/>
          </a:xfrm>
        </p:grpSpPr>
        <p:pic>
          <p:nvPicPr>
            <p:cNvPr id="284" name="" descr=""/>
            <p:cNvPicPr/>
            <p:nvPr/>
          </p:nvPicPr>
          <p:blipFill>
            <a:blip r:embed="rId2"/>
            <a:srcRect l="9331" t="10354" r="52866" b="72117"/>
            <a:stretch/>
          </p:blipFill>
          <p:spPr>
            <a:xfrm>
              <a:off x="5003640" y="1482840"/>
              <a:ext cx="367200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532480" y="2605680"/>
              <a:ext cx="2233440" cy="698040"/>
            </a:xfrm>
            <a:custGeom>
              <a:avLst/>
              <a:gdLst/>
              <a:ahLst/>
              <a:rect l="l" t="t" r="r" b="b"/>
              <a:pathLst>
                <a:path w="1545" h="490">
                  <a:moveTo>
                    <a:pt x="0" y="0"/>
                  </a:moveTo>
                  <a:cubicBezTo>
                    <a:pt x="7" y="13"/>
                    <a:pt x="13" y="43"/>
                    <a:pt x="42" y="74"/>
                  </a:cubicBezTo>
                  <a:cubicBezTo>
                    <a:pt x="71" y="105"/>
                    <a:pt x="123" y="153"/>
                    <a:pt x="173" y="185"/>
                  </a:cubicBezTo>
                  <a:cubicBezTo>
                    <a:pt x="223" y="217"/>
                    <a:pt x="267" y="234"/>
                    <a:pt x="343" y="264"/>
                  </a:cubicBezTo>
                  <a:cubicBezTo>
                    <a:pt x="419" y="294"/>
                    <a:pt x="545" y="338"/>
                    <a:pt x="631" y="365"/>
                  </a:cubicBezTo>
                  <a:cubicBezTo>
                    <a:pt x="717" y="392"/>
                    <a:pt x="779" y="406"/>
                    <a:pt x="859" y="425"/>
                  </a:cubicBezTo>
                  <a:cubicBezTo>
                    <a:pt x="939" y="444"/>
                    <a:pt x="1037" y="470"/>
                    <a:pt x="1111" y="480"/>
                  </a:cubicBezTo>
                  <a:cubicBezTo>
                    <a:pt x="1185" y="490"/>
                    <a:pt x="1251" y="486"/>
                    <a:pt x="1305" y="485"/>
                  </a:cubicBezTo>
                  <a:cubicBezTo>
                    <a:pt x="1359" y="484"/>
                    <a:pt x="1395" y="482"/>
                    <a:pt x="1435" y="476"/>
                  </a:cubicBezTo>
                  <a:cubicBezTo>
                    <a:pt x="1475" y="470"/>
                    <a:pt x="1522" y="453"/>
                    <a:pt x="1545" y="447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09040" y="3219840"/>
              <a:ext cx="66240" cy="1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391520" y="3289320"/>
              <a:ext cx="131400" cy="21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89880" y="2305080"/>
              <a:ext cx="1962720" cy="1320840"/>
            </a:xfrm>
            <a:custGeom>
              <a:avLst/>
              <a:gdLst/>
              <a:ahLst/>
              <a:rect l="l" t="t" r="r" b="b"/>
              <a:pathLst>
                <a:path w="1358" h="927">
                  <a:moveTo>
                    <a:pt x="0" y="920"/>
                  </a:moveTo>
                  <a:cubicBezTo>
                    <a:pt x="75" y="923"/>
                    <a:pt x="151" y="927"/>
                    <a:pt x="227" y="920"/>
                  </a:cubicBezTo>
                  <a:cubicBezTo>
                    <a:pt x="303" y="913"/>
                    <a:pt x="371" y="898"/>
                    <a:pt x="454" y="875"/>
                  </a:cubicBezTo>
                  <a:cubicBezTo>
                    <a:pt x="537" y="852"/>
                    <a:pt x="643" y="816"/>
                    <a:pt x="726" y="784"/>
                  </a:cubicBezTo>
                  <a:cubicBezTo>
                    <a:pt x="809" y="752"/>
                    <a:pt x="888" y="723"/>
                    <a:pt x="955" y="684"/>
                  </a:cubicBezTo>
                  <a:cubicBezTo>
                    <a:pt x="1022" y="645"/>
                    <a:pt x="1072" y="612"/>
                    <a:pt x="1130" y="552"/>
                  </a:cubicBezTo>
                  <a:cubicBezTo>
                    <a:pt x="1188" y="492"/>
                    <a:pt x="1268" y="389"/>
                    <a:pt x="1305" y="322"/>
                  </a:cubicBezTo>
                  <a:cubicBezTo>
                    <a:pt x="1342" y="255"/>
                    <a:pt x="1348" y="191"/>
                    <a:pt x="1353" y="149"/>
                  </a:cubicBezTo>
                  <a:cubicBezTo>
                    <a:pt x="1358" y="107"/>
                    <a:pt x="1346" y="97"/>
                    <a:pt x="1336" y="72"/>
                  </a:cubicBezTo>
                  <a:cubicBezTo>
                    <a:pt x="1326" y="47"/>
                    <a:pt x="1304" y="15"/>
                    <a:pt x="1295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76120" y="3469320"/>
              <a:ext cx="131400" cy="50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429320" y="3020400"/>
              <a:ext cx="64800" cy="64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1" name=""/>
          <p:cNvGraphicFramePr/>
          <p:nvPr/>
        </p:nvGraphicFramePr>
        <p:xfrm>
          <a:off x="684360" y="1700280"/>
          <a:ext cx="189684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00280"/>
                    <a:ext cx="189684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934240" y="4005360"/>
          <a:ext cx="249696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34240" y="4005360"/>
                    <a:ext cx="2496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630600" y="4869000"/>
          <a:ext cx="254304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0600" y="4869000"/>
                    <a:ext cx="25430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510240" y="4869000"/>
          <a:ext cx="2454480" cy="92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0240" y="4869000"/>
                    <a:ext cx="24544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7664400" y="422100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10040" y="428616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одия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59320" y="4005360"/>
            <a:ext cx="5400360" cy="1871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203640" y="1773360"/>
          <a:ext cx="2119320" cy="80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1773360"/>
                    <a:ext cx="2119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11280" y="2637000"/>
          <a:ext cx="3348000" cy="80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2637000"/>
                    <a:ext cx="33480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140360" y="2637000"/>
          <a:ext cx="102708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0360" y="2637000"/>
                    <a:ext cx="10270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826920" y="3500280"/>
          <a:ext cx="2455920" cy="809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3500280"/>
                    <a:ext cx="24559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4373280" y="6165720"/>
            <a:ext cx="40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учай 1 : движение неустойч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7. Интегрирование уравнений Эйлера (случай </a:t>
            </a: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2</a:t>
            </a: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2" name=""/>
          <p:cNvSpPr/>
          <p:nvPr/>
        </p:nvSpPr>
        <p:spPr>
          <a:xfrm>
            <a:off x="7159680" y="32767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cubicBezTo>
                  <a:pt x="2" y="3"/>
                  <a:pt x="7" y="0"/>
                  <a:pt x="7" y="0"/>
                </a:cubicBezTo>
                <a:cubicBezTo>
                  <a:pt x="7" y="0"/>
                  <a:pt x="2" y="3"/>
                  <a:pt x="0" y="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55640" y="4508640"/>
          <a:ext cx="244944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508640"/>
                    <a:ext cx="24494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4788000" y="3429000"/>
          <a:ext cx="31003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3429000"/>
                    <a:ext cx="31003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170760" y="4387680"/>
          <a:ext cx="2163600" cy="69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4387680"/>
                    <a:ext cx="216360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39640" y="1484280"/>
          <a:ext cx="1874880" cy="4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1484280"/>
                    <a:ext cx="18748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826920" y="1844640"/>
          <a:ext cx="8007480" cy="74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1844640"/>
                    <a:ext cx="80074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2268360" y="2565360"/>
          <a:ext cx="2186280" cy="96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2565360"/>
                    <a:ext cx="218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92920" y="27748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292720" y="2637000"/>
          <a:ext cx="3255840" cy="69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92720" y="2637000"/>
                    <a:ext cx="325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971640" y="3481560"/>
          <a:ext cx="2854080" cy="92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3481560"/>
                    <a:ext cx="2854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067280" y="4365720"/>
          <a:ext cx="690480" cy="76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67280" y="4365720"/>
                    <a:ext cx="6904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084720" y="4408560"/>
            <a:ext cx="2374920" cy="647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39640" y="4879800"/>
          <a:ext cx="4057920" cy="854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9640" y="4879800"/>
                    <a:ext cx="40579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4768200" y="514980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эллиптический интеграл первог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39640" y="5734080"/>
          <a:ext cx="2073240" cy="449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5734080"/>
                    <a:ext cx="20732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3850560" y="5734080"/>
            <a:ext cx="47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ный эллиптический интеграл первог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99640" y="515772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61960" y="6237360"/>
          <a:ext cx="3700440" cy="449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61960" y="6237360"/>
                    <a:ext cx="37004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621320" y="6237360"/>
          <a:ext cx="645840" cy="44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621320" y="6237360"/>
                    <a:ext cx="64584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5272560" y="62578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иодична с перио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778880" y="6216480"/>
          <a:ext cx="825480" cy="4492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78880" y="6216480"/>
                    <a:ext cx="825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68360" y="14922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ункция, являющаяся результатом обращения эллиптического интеграла первого рода, называется амплитудой и обозна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8. Интегрирование уравнений Эйлера (случай </a:t>
            </a:r>
            <a:r>
              <a:rPr b="0" lang="en-US" sz="3600" spc="-1" strike="noStrike">
                <a:solidFill>
                  <a:srgbClr val="999900"/>
                </a:solidFill>
                <a:latin typeface="Arial Black"/>
              </a:rPr>
              <a:t>2</a:t>
            </a:r>
            <a:r>
              <a:rPr b="0" lang="ru-RU" sz="3600" spc="-1" strike="noStrike">
                <a:solidFill>
                  <a:srgbClr val="99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"/>
          <p:cNvSpPr/>
          <p:nvPr/>
        </p:nvSpPr>
        <p:spPr>
          <a:xfrm>
            <a:off x="7159680" y="327672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5"/>
                </a:moveTo>
                <a:cubicBezTo>
                  <a:pt x="2" y="3"/>
                  <a:pt x="7" y="0"/>
                  <a:pt x="7" y="0"/>
                </a:cubicBezTo>
                <a:cubicBezTo>
                  <a:pt x="7" y="0"/>
                  <a:pt x="2" y="3"/>
                  <a:pt x="0" y="5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4572000" y="6002280"/>
          <a:ext cx="73512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6002280"/>
                    <a:ext cx="73512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516960" y="2082960"/>
            <a:ext cx="84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 эллиптический синус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эллиптический косинус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определяю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403280" y="2421000"/>
          <a:ext cx="568980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421000"/>
                    <a:ext cx="5689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469080" y="2774880"/>
            <a:ext cx="33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ериодичны с периодом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5"/>
          <a:srcRect l="9912" t="10354" r="50581" b="69057"/>
          <a:stretch/>
        </p:blipFill>
        <p:spPr>
          <a:xfrm>
            <a:off x="324000" y="3954600"/>
            <a:ext cx="3743280" cy="2930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89680" y="323388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я дельта амплитуды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пределяе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724360" y="3141720"/>
          <a:ext cx="3013200" cy="51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3141720"/>
                    <a:ext cx="30132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611280" y="36450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которые полезные форм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003640" y="3645000"/>
          <a:ext cx="2141640" cy="45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3640" y="3645000"/>
                    <a:ext cx="2141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4932360" y="4437000"/>
          <a:ext cx="2633760" cy="70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32360" y="4437000"/>
                    <a:ext cx="26337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932360" y="5157720"/>
          <a:ext cx="2811600" cy="70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32360" y="5157720"/>
                    <a:ext cx="28116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3781440" y="60022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867280" y="1744560"/>
          <a:ext cx="1003320" cy="451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867280" y="1744560"/>
                    <a:ext cx="100332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7161120" y="5931000"/>
          <a:ext cx="1982880" cy="450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161120" y="5931000"/>
                    <a:ext cx="1982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435640" y="5931000"/>
          <a:ext cx="1515960" cy="450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435640" y="5931000"/>
                    <a:ext cx="15159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7128000" y="6291360"/>
          <a:ext cx="2049480" cy="450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128000" y="6291360"/>
                    <a:ext cx="20494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5479920" y="6291360"/>
          <a:ext cx="1425600" cy="4507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479920" y="6291360"/>
                    <a:ext cx="142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003640" y="4076640"/>
          <a:ext cx="2454480" cy="451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003640" y="4076640"/>
                    <a:ext cx="2454480" cy="4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05:57:56Z</dcterms:created>
  <dc:creator>Andrey Egorov</dc:creator>
  <dc:description/>
  <dc:language>en-US</dc:language>
  <cp:lastModifiedBy>niimm</cp:lastModifiedBy>
  <dcterms:modified xsi:type="dcterms:W3CDTF">2008-04-01T20:33:17Z</dcterms:modified>
  <cp:revision>84</cp:revision>
  <dc:subject/>
  <dc:title>СТАТИКА</dc:title>
</cp:coreProperties>
</file>