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3D7-5729-4D46-8C60-18A3FA44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48D-EEEE-4721-963C-F1DD6D59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44F-F755-4CF9-A334-157EAA02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B9F-4276-4AF5-8D32-DDB387A8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FF1-AB78-4C94-B790-4BB7D8B8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807-4D43-4E6B-A616-5C70CF1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464-A4EB-45A8-8147-5C5A9596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EBB-98E1-4364-8755-68D2B659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D18-C098-41A6-B6A0-A502DCBF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41A-4DD7-4657-BFCC-FE45630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C57-9146-4860-B16A-DDC3DCA0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834-8F59-4C6F-AAE8-A3728CCA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CF89-7FAF-4FCD-89AE-697F6119A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новы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Сертификат» в переводе с латыни означает «сделано верн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нципы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онодательная основа сертификации. (Законы РФ «О сертификации продукции и услуг», «О защите прав потребителе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крытость системы сертифик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армонизация правил и рекомендаций по сертификации с международными нормами и правил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крытость и закрытость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бязательная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одтверждение уполномоченным на то органом соответствия продукции обязательным требованиям, установленным зоконодатель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а государственного контроля за безопасностью продук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«Сертификация в законодательно регулируемой сфер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одательная база сертификации в Р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оны, вводящие обязательную сертификаци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 РФ по вопросам сертификац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оны, устанавливающие ответствен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одательная б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 РФ  «О стандартизации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 РФ « О сертификации продуктов и услуг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 РФ « Об обеспечении единства измерений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ы, вводящие обязательную сертификацию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защите прав потреби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охране тру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оруж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свя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информации, информатизации и защите информ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пожарной безопас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безопасности дорожного движения и др; (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 РФ по вопросам сертифик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утверждениях перечней продукции и услуг, подлежащих обязательной сертификации ( От 13.08.97 №101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проведении обязательной сертификации рабочих мест, средств производства ( От 06.09.94 № 48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порядке разработки производства и утилизации средств самозащиты (От  3.04.93 № 41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ления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перечне товаров текстильной и легкой промышленности, подлежащих обязательной сертификации(От 01.07.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сертификации средств защиты информации (От 26.06.95 №60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мерах по защите потребительского рынка РФ от от проникновения некачественных товаров (От 12.07.96 №79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ругие постановления. Всего более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ы, устанавливающие ответственнос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ражданско-правовую 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ражданский кодекс РФ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РФ «О защите прав потребителей»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ругие закон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ы, устанавливающие ответствен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иминистративну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декс РСФСР о б административных правонарушениях, ст. 17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он РФ « О защите прав потребителе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угие зако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ы, устанавливающие ответствен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головную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головный кодекс РФ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. 23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обектам сертификации относятся продукция, услуги, работы, системы качества, персонал, рабочие места и п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ертификации продукции, услуг и иных объектов (далее - продукция) участвую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вая, вторая, третья сторо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водится в соответствии с Законом РФ по инициативе заявителей (изготовителей, продавцов, исполнителей) в целях подтверждения продукции (услуг) требованиям стандартов, технических условий, рецептур и других документов, определяемых заявите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ы систем добровольной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 стоимостной оценки автотранспортных средств (СЕРТОЦАТ), разработанная Министерством автомобильного транспорта Р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 сертификации экологического агропроизводства (ЭКОНива), разработанная АОЗТ «ЭкоНив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угие сис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равнительная характеристика обязательной и добровольной сертиф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 проводится на условиях договора между заявителем и органом по сертифик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 продукции, подлежащей обязательной сертификации, не может заменить обязательную сертифик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 в условиях развитой рыночной экономики повышает конкурентоспособность проду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бъекты или участники обязательной сертифика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готовители продукции и исполнители услуг (первая сторо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азчики – продавцы (первая либо вторая сторо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гранизации, представляющие третью сторону – органы по сертификации, испытательные лаборатории (центры), специально уполномоченные федеральные органы исполнительной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готовители (продавцы, исполнители) обязан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ализовывать продукцию, исполнять услугу только при наличии сертификата или декларации о соответств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еспечивать соответствие реализуемой продукции требованиям НД , и маркирование ее знаком соответст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азывать в сопроводительной техдокументации  сведения о сертификате или декларации о соответствии и НД, которым она должна соответствовать, и доводить эту информацию до потреб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готовители (продавцы, исполнители) обязан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еспечивать безпрепятственное выполнение своих полномочий  должностными лицами ОС и должностными лицами, осуществляющими контроль за сертифицированной продукцией (услугой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останавливать или прекращать реализацию продукции, если она не отвечает требованиям НД, после истечения срока действия сертификата, в случае приостановки его действия  или отмены решением ОС, по истечении срока действия декларации о соответствии, по истечении срока годности или срока службы продук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вещать ОС о тех изменениях, которые влияют на характеристики, проверяемые при сертифик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рган по сертификации выполняет функ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ртифицирует продукцию (услугу), выдает сертификат и лицензии на применение знака соответст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уществляет инспекционный контроль за сертифицированной продукци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останавливает либо отменяет действие выданных сертифика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ляет заявителю необходимую ин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ккредитованные испытательные лабора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уществляют испытания конкретной продукции или конкретные виды испытаний и выдают протоколы для целей сертифик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сут отвественность за соответствие проведенных  сертифицированных испытаний, за достоверность и объективность результа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нтральные органы систем сертификации (ЦОС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обязанности ЦОСа вход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рганизация, координация работы и устаравление правил процедуры в возглавляемой системе сертифик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смотрение апелляций заявителей по поводу действия ОС,  испытательных лабораторий (ИЛ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кредитованная ИЛ -сертификационный центр, например, Российский центр испытаний и сертификации «Ростест-Москва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иально уполномоченный федеральный орган исполнительной власти в области сертификации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сстандар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ует и реализует государственную политику в области сертифик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одит государственную регистрацию систем сертификации и знаков соответств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убликовывает официальную информацию о действующих в России системах сертификации и знаках соответств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товит в установленном порядке предложения о присоединении к международным системам сертифик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ставляет в установленном порядке РФ в  международных организациях по вопросам серт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ясн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ор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и вторая стороны – участвующие сторо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сторона отражает интересы поставщ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ая сторона отражает интересы покуп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ья сторона –лицо или орган, признаваемые независимыми от участвующих сторон в рассматриваемом вопросе (ИС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ЭК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лавный участник работ по сертификации - экспер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лицо, аттестованное на право проведения одного иди нескольких видов работ в области сертифик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его знаний, опыта, личных качеств, т.е. компетентности, зависят объективность и достоверность решения о возможности выдачи сертифика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ординация работ в области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водится в форме соглашения, в котором регламентируются выбор системы сертификации, объекты сертификации, выбор аккредитующего органа и п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деральный орган может: проводить сертификацию вне системы ГОСТ Р по своим правилам с выдачей соответствующих сертификатов и знаков соответствия; входить в систему ГОСТ Р и осуществлять деятельность в полном соответствии с ее правил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едеральный орган ГОСКОМСВЯЗ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уществляет сертификацию средсв связи на право их исполь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ртификация проводится в ИЛ, аккредитованных Госстандар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компетенцию комитета входит сертификация продукции: информационно-вычислительных систем, автоматизированных систем и сетей, программных средств для компьютеров, баз и банков данн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авовая основа сертификации средств связи «Закон о связ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частники добровольной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 осуществляется органами по добровольной сертификации, входящими в систему добровольной серт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а м.б. Образована любым юридическим лицом, зарегистрирововавшем данную систему и знак соответствия в специально уполномоченном федеральном органе исполнительной власти в области сертификации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ом по добровольной сертификации м.б. юридическое лицо, образовавшее систему добровольной серт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рган по добровольной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станавливает правила проведения работ в системе сертифик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рядок оплаты работ и определяет участников системы добровольной сертифик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уществляет сертификацию продукции, выдает сертификаты, а также на условиях договора с заявителем предоставляет ему право на применение знака соответст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останавливает либо отменяет действие выданных сертифика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тификация проду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процедура подтверждения соответствия, посредством которой независимая от изготовителя (продавца, исполнителя) и потребителя (покупателя) организация удостоверяет в письменной форме, что продукция соответствует установленным требованиям. (Закон РФ «О сертификации продукции и услуг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истема сертификации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вокупность участников сертификации, осуществляющих сертификацию по правилам, установленным в этой систе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авила по проведению сертификации 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циональный (федеральный), региональный и международный уров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РФ системы сертификации создаются Госстандартом Россиии, Минздравоохранения, Госкомитетом РФ по связи и информат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тификат соответ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документ, выданный по правилам системы сертификации для подтверждения соответствия сертифицированной продукции установленным требованиям (Закон РФ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тверждение соответствия проводится посредством не только сертификата, но и декларации о соответств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ларация соответ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документ, в котором изготовитель (продавец, исполнитель) удостоверяет, что поставляемая (продаваемая) им продукция соответствует установленным требованиям (Закон РФ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чни продукции, соответствие которой может быть подтвеждено декларацией о соответствии, утверждаются постановлением Правительства Р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кларация имеет юридическую силу наравне с сертифика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к соответ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зарегистрированный в установленном порядке знак, которым по правилам данной системы сертификации подтверждается соответствие маркированной им продукции установленным требованиям (ЗАКОН РФ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и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действие портебителям в компетентном выборе продук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щита потребителя от недобросовестности изготовителя (продавца, исполнител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нтроль безопасности продукции (услуги, работы) для окружающей среды, жизни, здоровья и имуще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тверждение показателей качества продукции, заявленных изготовител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деятельности организаций на едином товарном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07:39:40Z</dcterms:created>
  <dc:creator>astu</dc:creator>
  <dc:description/>
  <dc:language>en-US</dc:language>
  <cp:lastModifiedBy>astu</cp:lastModifiedBy>
  <dcterms:modified xsi:type="dcterms:W3CDTF">2001-06-27T05:13:48Z</dcterms:modified>
  <cp:revision>6</cp:revision>
  <dc:subject/>
  <dc:title>Основы сертификации</dc:title>
</cp:coreProperties>
</file>