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462-404C-49AE-B899-E7BC3455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96D-576F-49B5-A8B0-A4B2CBA3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C44-2F73-4108-A5B9-09A20E86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CD0-02F3-4A4B-B6CB-9F8064CC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06A2-F93D-48ED-93DF-005F8428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36A-EEAE-43D6-B0DA-B50DBDDB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338-5231-4561-B366-80B4CF25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603-4D47-4D53-A79A-376A3358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434-6F98-458C-AEA0-47D12B47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027-C22F-4E1F-A562-B4F3368C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E7D-5F83-4C2F-BE53-21D03BFE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9FD-0711-45FD-8487-DD073BF3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8B69-3170-48DC-8A29-2D47D1B80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сновы сертифик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Сертификат» в переводе с латыни означает «сделано верн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инципы сертифик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конодательная основа сертификации. (Законы РФ «О сертификации продукции и услуг», «О защите прав потребителей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крытость системы сертифик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армонизация правил и рекомендаций по сертификации с международными нормами и правил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крытость и закрытость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бязательная сертиф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подтверждение уполномоченным на то органом соответствия продукции обязательным требованиям, установленным зоконодательств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орма государственного контроля за безопасностью продук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«Сертификация в законодательно регулируемой сфер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онодательная база сертификации в Р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коны, вводящие обязательную сертификацию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тановления Правительства РФ по вопросам сертификац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коны, устанавливающие ответствен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онодательная б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он РФ  «О стандартизации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он РФ « О сертификации продуктов и услуг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он РФ « Об обеспечении единства измерений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оны, вводящие обязательную сертификацию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 защите прав потребител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 охране тру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 оруж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 свя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 информации, информатизации и защите информац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 пожарной безопас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 безопасности дорожного движения и др; (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ления правительства РФ по вопросам сертификац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 утверждениях перечней продукции и услуг, подлежащих обязательной сертификации ( От 13.08.97 №101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 проведении обязательной сертификации рабочих мест, средств производства ( От 06.09.94 № 48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 порядке разработки производства и утилизации средств самозащиты (От  3.04.93 № 41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ления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 перечне товаров текстильной и легкой промышленности, подлежащих обязательной сертификации(От 01.07.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 сертификации средств защиты информации (От 26.06.95 №60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 мерах по защите потребительского рынка РФ от от проникновения некачественных товаров (От 12.07.96 №79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ругие постановления. Всего более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оны, устанавливающие ответственност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ражданско-правовую 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ражданский кодекс РФ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кон РФ «О защите прав потребителей»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ругие закон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оны, устанавливающие ответствен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диминистративну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декс РСФСР о б административных правонарушениях, ст. 17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кон РФ « О защите прав потребителей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ругие зако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оны, устанавливающие ответствен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головную 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головный кодекс РФ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. 238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сновные понятия сертифик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 обектам сертификации относятся продукция, услуги, работы, системы качества, персонал, рабочие места и п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сертификации продукции, услуг и иных объектов (далее - продукция) участвую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вая, вторая, третья сторо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обровольная сертиф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водится в соответствии с Законом РФ по инициативе заявителей (изготовителей, продавцов, исполнителей) в целях подтверждения продукции (услуг) требованиям стандартов, технических условий, рецептур и других документов, определяемых заявител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имеры систем добровольной сертифик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стема стоимостной оценки автотранспортных средств (СЕРТОЦАТ), разработанная Министерством автомобильного транспорта Р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стема сертификации экологического агропроизводства (ЭКОНива), разработанная АОЗТ «ЭкоНива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ругие сис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равнительная характеристика обязательной и добровольной сертифик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бровольная сертификация проводится на условиях договора между заявителем и органом по сертифик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бровольная сертификация продукции, подлежащей обязательной сертификации, не может заменить обязательную сертифик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бровольная сертификация в условиях развитой рыночной экономики повышает конкурентоспособность проду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убъекты или участники обязательной сертификаци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готовители продукции и исполнители услуг (первая сторон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казчики – продавцы (первая либо вторая сторон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гранизации, представляющие третью сторону – органы по сертификации, испытательные лаборатории (центры), специально уполномоченные федеральные органы исполнительной вл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зготовители (продавцы, исполнители) обязан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ализовывать продукцию, исполнять услугу только при наличии сертификата или декларации о соответств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еспечивать соответствие реализуемой продукции требованиям НД , и маркирование ее знаком соответств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казывать в сопроводительной техдокументации  сведения о сертификате или декларации о соответствии и НД, которым она должна соответствовать, и доводить эту информацию до потребите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зготовители (продавцы, исполнители) обязан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еспечивать безпрепятственное выполнение своих полномочий  должностными лицами ОС и должностными лицами, осуществляющими контроль за сертифицированной продукцией (услугой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останавливать или прекращать реализацию продукции, если она не отвечает требованиям НД, после истечения срока действия сертификата, в случае приостановки его действия  или отмены решением ОС, по истечении срока действия декларации о соответствии, по истечении срока годности или срока службы продук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вещать ОС о тех изменениях, которые влияют на характеристики, проверяемые при сертифик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рган по сертификации выполняет функци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ртифицирует продукцию (услугу), выдает сертификат и лицензии на применение знака соответств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уществляет инспекционный контроль за сертифицированной продукци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останавливает либо отменяет действие выданных сертифика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ставляет заявителю необходимую ин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Аккредитованные испытательные лаборато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уществляют испытания конкретной продукции или конкретные виды испытаний и выдают протоколы для целей сертифик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сут отвественность за соответствие проведенных  сертифицированных испытаний, за достоверность и объективность результа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ентральные органы систем сертификации (ЦОС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обязанности ЦОСа входи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рганизация, координация работы и устаравление правил процедуры в возглавляемой системе сертификац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смотрение апелляций заявителей по поводу действия ОС,  испытательных лабораторий (ИЛ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ккредитованная ИЛ -сертификационный центр, например, Российский центр испытаний и сертификации «Ростест-Москва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ециально уполномоченный федеральный орган исполнительной власти в области сертификации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осстандарт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ует и реализует государственную политику в области сертифик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одит государственную регистрацию систем сертификации и знаков соответств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убликовывает официальную информацию о действующих в России системах сертификации и знаках соответств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товит в установленном порядке предложения о присоединении к международным системам сертифик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ставляет в установленном порядке РФ в  международных организациях по вопросам сертифик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ясн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ор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ая и вторая стороны – участвующие сторо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ая сторона отражает интересы поставщи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ая сторона отражает интересы покупате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ья сторона –лицо или орган, признаваемые независимыми от участвующих сторон в рассматриваемом вопросе (ИС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МЭК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лавный участник работ по сертификации - экспер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лицо, аттестованное на право проведения одного иди нескольких видов работ в области сертифик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его знаний, опыта, личных качеств, т.е. компетентности, зависят объективность и достоверность решения о возможности выдачи сертифика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оординация работ в области сертифик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водится в форме соглашения, в котором регламентируются выбор системы сертификации, объекты сертификации, выбор аккредитующего органа и п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едеральный орган может: проводить сертификацию вне системы ГОСТ Р по своим правилам с выдачей соответствующих сертификатов и знаков соответствия; входить в систему ГОСТ Р и осуществлять деятельность в полном соответствии с ее правил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Федеральный орган ГОСКОМСВЯЗ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уществляет сертификацию средсв связи на право их использ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ртификация проводится в ИЛ, аккредитованных Госстандарт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компетенцию комитета входит сертификация продукции: информационно-вычислительных систем, автоматизированных систем и сетей, программных средств для компьютеров, баз и банков данн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авовая основа сертификации средств связи «Закон о связи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частники добровольной сертифик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бровольная сертификация осуществляется органами по добровольной сертификации, входящими в систему добровольной сертифик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стема м.б. Образована любым юридическим лицом, зарегистрирововавшем данную систему и знак соответствия в специально уполномоченном федеральном органе исполнительной власти в области сертификации в установленном поряд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ом по добровольной сертификации м.б. юридическое лицо, образовавшее систему добровольной сертифик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рган по добровольной сертифик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станавливает правила проведения работ в системе сертификац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рядок оплаты работ и определяет участников системы добровольной сертификац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уществляет сертификацию продукции, выдает сертификаты, а также на условиях договора с заявителем предоставляет ему право на применение знака соответств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останавливает либо отменяет действие выданных сертифика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ртификация проду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процедура подтверждения соответствия, посредством которой независимая от изготовителя (продавца, исполнителя) и потребителя (покупателя) организация удостоверяет в письменной форме, что продукция соответствует установленным требованиям. (Закон РФ «О сертификации продукции и услуг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истема сертификации 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вокупность участников сертификации, осуществляющих сертификацию по правилам, установленным в этой систем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авила по проведению сертификации в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циональный (федеральный), региональный и международный уров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РФ системы сертификации создаются Госстандартом Россиии, Минздравоохранения, Госкомитетом РФ по связи и информат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ртификат соответст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документ, выданный по правилам системы сертификации для подтверждения соответствия сертифицированной продукции установленным требованиям (Закон РФ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тверждение соответствия проводится посредством не только сертификата, но и декларации о соответств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кларация соответст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документ, в котором изготовитель (продавец, исполнитель) удостоверяет, что поставляемая (продаваемая) им продукция соответствует установленным требованиям (Закон РФ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чни продукции, соответствие которой может быть подтвеждено декларацией о соответствии, утверждаются постановлением Правительства Р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кларация имеет юридическую силу наравне с сертификат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к соответст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зарегистрированный в установленном порядке знак, которым по правилам данной системы сертификации подтверждается соответствие маркированной им продукции установленным требованиям (ЗАКОН РФ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ели сертифик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действие портебителям в компетентном выборе продукц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щита потребителя от недобросовестности изготовителя (продавца, исполнителя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нтроль безопасности продукции (услуги, работы) для окружающей среды, жизни, здоровья и имуще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тверждение показателей качества продукции, заявленных изготовител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здание условий для деятельности организаций на едином товарном рын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07:39:40Z</dcterms:created>
  <dc:creator>astu</dc:creator>
  <dc:description/>
  <dc:language>en-US</dc:language>
  <cp:lastModifiedBy>astu</cp:lastModifiedBy>
  <dcterms:modified xsi:type="dcterms:W3CDTF">2001-06-27T05:13:48Z</dcterms:modified>
  <cp:revision>6</cp:revision>
  <dc:subject/>
  <dc:title>Основы сертификации</dc:title>
</cp:coreProperties>
</file>