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19.gif" ContentType="image/gif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A9E-2061-4721-8E68-DC548D81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933-9BEB-408B-87B8-F398F15D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9EA7-0D67-4771-AD85-256E8AC7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1D72-FF6D-4771-8D38-B5470F93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E275-C218-4320-B869-D93F5E56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994D-E082-461E-ABEB-B26084CB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5C9F-1EBF-4474-BB92-3BDFD53F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8888-9A3B-4E9C-B95B-7AB21B01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B861-231D-4C07-A2A0-C81073EC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CD51-8B03-43A7-AFA1-9DFA79D6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A75C-0EE6-48A7-A67B-2084ACE7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382-3EF2-45D6-870D-6147061C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220C-AFC9-458E-B418-B4DF18DD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91CB-59BA-47F5-8FB3-6AEE8BD4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573A-C44A-42DC-B25E-D0F1F068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29C7-D94B-49DF-B891-4E733AF45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C3BB-8589-4A5B-8B90-AB987FC8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D036-5F2A-4943-B218-02DDB219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B3EC-05A6-49D4-BA02-33091084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77C2-279D-4EA0-A51B-0069BD7F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D544-2B9B-4205-AB5A-CF323157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954A-11C1-4F11-8752-7C07CC19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98B-5430-42AD-84B8-82C8D44B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5A685-4FAF-4BDA-B223-78E6F072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0453-81D4-4950-9C40-82BA536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F070-9AE9-445B-9269-1AF1B714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F452-2DA6-400A-996F-B6D354CC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6F885-F752-4D17-A2D0-B6CB1CF2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3A86-1AD6-4804-AFEA-A56E23B9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98CB-85D4-4D75-B1E8-B64DC5B0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00C77-0EA8-4716-9E75-D9267A0FA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8FE7E-36D7-4BAB-B7FF-939E668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F0B5C-D7DF-40CD-98C4-B62CFBFF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4830-EF2B-4DB8-8CC6-42C854CD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B678A-2949-4939-8784-49776FB8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FF66-C55B-4757-BB59-A820496F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98C9-CF6E-47B9-8CFF-EE719489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54259-E59D-47FF-93E5-1D469897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8ED5E-0B14-429C-96D4-D465C89A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B1CA-476A-4240-8A95-9BFCFD4C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84497-06DD-4953-9172-404E8640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1DDD9-03AC-4482-AB14-62CB4BBB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51206-1FFE-4F8D-A4FA-6FC5D308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4F34E-52C5-4A00-9D8E-7CBE34EE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3D3-3A10-4962-9B9E-5414C4A1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28E4-8A38-419E-8B05-B176F564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E8A84-A1DB-4419-B44D-3B29633A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C1DC6-85A9-47E9-A516-F79FA130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B9F5A-FF70-42AB-9718-CA701D7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FFEA-84FF-4857-BEA0-4A8E737D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DAA38-9057-481E-86DF-1CFB3EC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0558-23CB-4DE2-89D6-C7E3B3E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7A088-6127-41A7-A10F-06E30266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8DCEB-3894-469D-B448-A6991BA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0891C-E020-467F-9585-8361FAA7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036-D930-4CB3-86CC-FC62386F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95E3-B182-43B0-89E9-D23191B5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655-2AE8-44D8-956D-AC04C0C8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65E-CD0A-4C9C-BF79-575770DC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A92-7D15-4BA2-9E72-63B26600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E437-B4C2-42E4-81BF-1C595BC6EFB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5F78-F2CE-4C50-89AD-1D9CB4DB04B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0907-CB9C-463F-A45F-2C0924564F6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48B2-47BB-4741-8B12-53EBE81DA03C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FA01-A2CF-41EA-94BD-4953DD6BFC0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5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4091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486864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                                        </a:t>
            </a: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Выполнила: ст. 3077 гр. ОМФ Шантиева Г. Е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                                               </a:t>
            </a: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Проверила: Положаева И. В.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rebuchet MS"/>
              </a:rPr>
              <a:t>Караганда 2014 год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-648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469800" y="1914480"/>
            <a:ext cx="84852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229600" cy="884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19_36"/>
          <p:cNvPicPr/>
          <p:nvPr/>
        </p:nvPicPr>
        <p:blipFill>
          <a:blip r:embed="rId2"/>
          <a:stretch/>
        </p:blipFill>
        <p:spPr>
          <a:xfrm>
            <a:off x="996840" y="2370240"/>
            <a:ext cx="615960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pravostoronnyaya-segmentarnaya-pnevmoniya-0003291891-preview"/>
          <p:cNvPicPr/>
          <p:nvPr/>
        </p:nvPicPr>
        <p:blipFill>
          <a:blip r:embed="rId1"/>
          <a:stretch/>
        </p:blipFill>
        <p:spPr>
          <a:xfrm>
            <a:off x="1116000" y="1125360"/>
            <a:ext cx="6551640" cy="5732640"/>
          </a:xfrm>
          <a:prstGeom prst="rect">
            <a:avLst/>
          </a:prstGeom>
          <a:ln w="0">
            <a:noFill/>
          </a:ln>
        </p:spPr>
      </p:pic>
      <p:pic>
        <p:nvPicPr>
          <p:cNvPr id="239" name="Заголовок 3" descr=""/>
          <p:cNvPicPr/>
          <p:nvPr/>
        </p:nvPicPr>
        <p:blipFill>
          <a:blip r:embed="rId2"/>
          <a:stretch/>
        </p:blipFill>
        <p:spPr>
          <a:xfrm>
            <a:off x="225360" y="291960"/>
            <a:ext cx="74804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241" name="Заголовок 1"/>
          <p:cNvSpPr/>
          <p:nvPr/>
        </p:nvSpPr>
        <p:spPr>
          <a:xfrm>
            <a:off x="250920" y="1052640"/>
            <a:ext cx="82296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арная пневмония (Рneumonia segmentalis) появляется на участках легочных тканей, ограниченных пределами легочного сегмент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поэтому пневмонический инфильтрат на рентгенограмме представлен более четкой формой (соответствующей проекции больного сегмента), чем при очаговой пневмони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егментарная пневмония развивается у детей с предрасположенностью к гиперерическим реакциям, с нормальной реактив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285840" y="285840"/>
            <a:ext cx="8643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Arial"/>
              </a:rPr>
              <a:t>Бронхоскоп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нхоскопия  являются методом выбора местной санационной терапии детей с легочными формами ОГДП. Тем не менее, при периферической локализации гнойно-деструктивных полостей и наличии фибринозных спаек между висцеральным и париетальным листками, возможна чрезторакальная санация одиночных блокированных абсцессов лег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       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C:\Documents and Settings\Admin\Рабочий стол\Новая папка\6.htm26.gif"/>
          <p:cNvPicPr/>
          <p:nvPr/>
        </p:nvPicPr>
        <p:blipFill>
          <a:blip r:embed="rId1"/>
          <a:stretch/>
        </p:blipFill>
        <p:spPr>
          <a:xfrm>
            <a:off x="1403280" y="1052640"/>
            <a:ext cx="5878440" cy="5572080"/>
          </a:xfrm>
          <a:prstGeom prst="rect">
            <a:avLst/>
          </a:prstGeom>
          <a:ln w="0">
            <a:noFill/>
          </a:ln>
        </p:spPr>
      </p:pic>
      <p:pic>
        <p:nvPicPr>
          <p:cNvPr id="244" name="Заголовок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242560" cy="7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Admin\Рабочий стол\Новая папка\груд0042.jpg"/>
          <p:cNvPicPr/>
          <p:nvPr/>
        </p:nvPicPr>
        <p:blipFill>
          <a:blip r:embed="rId1"/>
          <a:stretch/>
        </p:blipFill>
        <p:spPr>
          <a:xfrm>
            <a:off x="857160" y="1095480"/>
            <a:ext cx="7143840" cy="52070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2"/>
          <p:cNvSpPr/>
          <p:nvPr/>
        </p:nvSpPr>
        <p:spPr>
          <a:xfrm>
            <a:off x="324000" y="26028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Компьютерная томограф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Rectangle 10" descr=""/>
          <p:cNvPicPr/>
          <p:nvPr/>
        </p:nvPicPr>
        <p:blipFill>
          <a:blip r:embed="rId1"/>
          <a:stretch/>
        </p:blipFill>
        <p:spPr>
          <a:xfrm>
            <a:off x="749160" y="66600"/>
            <a:ext cx="7285320" cy="12812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179280" y="1989000"/>
            <a:ext cx="8785440" cy="463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13f9a"/>
                </a:solidFill>
                <a:latin typeface="Trebuchet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ён анализ эффективности фибробронхоскопии (ФБС) при острой и затяжной пневмонии у 90 детей группой сравнения были 40 детей, которым ФБС не проводилась. В этой группе не смотря на комплексную терапию, бронхообструктивный синдром сохранялся более длительно, в среднем на 2-3 дня. Результаты исследования дают основания рекомендовать включать ФБС в комплекс лечения острых и затяжных пневмоний у дете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5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методы рентгенографии,   бронхоскопия, КТ дает нам информации о развивающей болезни так как сейчас данный дифференцированный диагностика используется обширно и с помощью этого ставят правильные диагнозы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5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Ткаченко А.К. Название: Пневмонии у новорожденных Издательство: Минск Год: 2004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Белова И.Б. Малодозовая цифровая рентгенография в диагностике неспецифических пневмоний в общейлечебной сети/ И.Б. Белова, Е.С.Бычкова, В.А.Аболмасов, В.М.Китае в//Медицинская визуализация.-2000.-№4.-С.63-68.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Габуния Р.И. Компьютерная томография в клинической практике/Р.И.Габуния, И.И.Колесникова.-Москва.-1995.-С.53-131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5638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Определение пневмонии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Этиология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Рентгенодиагностика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Острый пневмония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Бронхоскопия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Заключение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rebuchet MS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633240" y="0"/>
            <a:ext cx="85172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28760" y="285840"/>
            <a:ext cx="709596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Пневмо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евмония – это острое инфекционное воспаление тканей легких. Заболеваемость пневмонией у детей составляет примерно 4-12 случаев на 1000 детей в возрасте от 1 месяца до 14 лет. У детей пневмония имеет свои этиологические, патогенетические и терапевтические особенност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42920" y="214200"/>
            <a:ext cx="885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b13f9a"/>
                </a:solidFill>
                <a:latin typeface="Arial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этиологические аспекты пневмонии значительно отличаются от таковых у взрослых. В частности, у детей, заболеваемость атипичной пневмонией значительно выше, чем у взрослых. Такие типы воспаления легких, как микоплазменная и хламидийная пневмония (возбудителями этих болезней являются микробы микоплазмы и хламидии) встречаются гораздо чаще у детей нежели у взрослых. Заболеваемость вирусной пневмонией также выше у детей. Между тем у новорожденных и детей первого года жизни основными возбудителями пневмонии являются пневмококк и гемофильная палочка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68360" y="0"/>
            <a:ext cx="7343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Рентгенодиагностика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тгенодиагностика крупозных или фокальных пневмоний в дошкольном и школьном возрасте облегчается типичной картиной однородного уплотнения величиной от субсегмента до долевого поражения с вовлечением плевры на пораженном участке. При ликвидации П. в последнюю очередь исчезает перисциссуральное уплотнение. На участке после исчезновения пневмонического уплотнения в течение 5—10 дней сохраняется измененный сосудистый рисунок и полоска уплотненной плевр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D:\Users\КГМУ\Desktop\Острой пневмщнии.jpg"/>
          <p:cNvPicPr/>
          <p:nvPr/>
        </p:nvPicPr>
        <p:blipFill>
          <a:blip r:embed="rId1"/>
          <a:stretch/>
        </p:blipFill>
        <p:spPr>
          <a:xfrm>
            <a:off x="741240" y="1357200"/>
            <a:ext cx="6423120" cy="5024520"/>
          </a:xfrm>
          <a:prstGeom prst="rect">
            <a:avLst/>
          </a:prstGeom>
          <a:ln w="0">
            <a:noFill/>
          </a:ln>
        </p:spPr>
      </p:pic>
      <p:pic>
        <p:nvPicPr>
          <p:cNvPr id="228" name="Rectangle 7" descr=""/>
          <p:cNvPicPr/>
          <p:nvPr/>
        </p:nvPicPr>
        <p:blipFill>
          <a:blip r:embed="rId2"/>
          <a:stretch/>
        </p:blipFill>
        <p:spPr>
          <a:xfrm>
            <a:off x="317520" y="-6480"/>
            <a:ext cx="8521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285840" y="214200"/>
            <a:ext cx="75992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Рентгенограмма легких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исследование (при поступлении в стационар): сливная инфильтрация легочной ткани с более интенсивной тенью слева в нижнем медиальном отделе;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исследование (через 2 дня) затемнение усилилось – тотальная левосторонняя пневмония, плащевидный плеврит (рис. 1, 2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Admin\Рабочий стол\Новая папка\Абсцедирующая.jpg"/>
          <p:cNvPicPr/>
          <p:nvPr/>
        </p:nvPicPr>
        <p:blipFill>
          <a:blip r:embed="rId1"/>
          <a:stretch/>
        </p:blipFill>
        <p:spPr>
          <a:xfrm>
            <a:off x="755640" y="1197000"/>
            <a:ext cx="7197840" cy="4948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285840" y="2858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Абсцедирующая пневмония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:\Users\КГМУ\Desktop\hlamidiynye-pnevmonii-u-detey.jpg"/>
          <p:cNvPicPr/>
          <p:nvPr/>
        </p:nvPicPr>
        <p:blipFill>
          <a:blip r:embed="rId1"/>
          <a:stretch/>
        </p:blipFill>
        <p:spPr>
          <a:xfrm>
            <a:off x="611280" y="1197000"/>
            <a:ext cx="7181640" cy="5021280"/>
          </a:xfrm>
          <a:prstGeom prst="rect">
            <a:avLst/>
          </a:prstGeom>
          <a:ln w="0">
            <a:noFill/>
          </a:ln>
        </p:spPr>
      </p:pic>
      <p:pic>
        <p:nvPicPr>
          <p:cNvPr id="233" name="Заголовок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82425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5:28:14Z</dcterms:created>
  <dc:creator>Фоора</dc:creator>
  <dc:description/>
  <dc:language>en-US</dc:language>
  <cp:lastModifiedBy>RePack by SPecialiST</cp:lastModifiedBy>
  <dcterms:modified xsi:type="dcterms:W3CDTF">2014-10-02T15:21:26Z</dcterms:modified>
  <cp:revision>34</cp:revision>
  <dc:subject/>
  <dc:title>Карагандинский Госудаственный Медицинский Университет  кафедра патологической физиологии  СРС Тема: «Патофизиология инфекционного процесса»</dc:title>
</cp:coreProperties>
</file>