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19.gif" ContentType="image/gif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528-3BCA-440B-8CF5-93E01ACB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93E0-8C12-48A5-8DD1-7227E435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4F0-0595-477A-A218-D9FC9655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60C-8438-4A5C-9CC2-52DA3F49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D4DC-AE21-4D73-AD3B-394A6D00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C1C2-8E6A-4A7C-A571-8B870626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ADED-2623-47EC-BBF5-31AD7BC3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3731-A1CA-40C4-9632-76B37441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4D24-70AC-4E68-B093-41B5DF2E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7733-CFE9-4623-8EEB-56E579CA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EDAE-C029-48DC-B75B-93436958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672-FACD-42CE-A680-8BEAC652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34B4-6CD6-4CD6-8C87-21849246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21B7-6D63-4BEB-83FB-4B146550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E7DD-2EA6-4F9C-BEFE-F6F4EA17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AC6E-F76B-41CD-AF73-41128B7D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A12C-A8B3-41FC-A0B2-8E687885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C964-030A-47E1-AEAD-7228E81B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F11F4-6A82-4F01-ADD2-DC696B4D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6F6DF-ED1C-43BA-9A8D-CF301CB7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F3FFE-B983-4583-8CFA-6F7321CE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FD9EC-294A-4AB9-886A-7FDC1E2C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CC3B-2333-4137-BB12-DE4F1867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80038-7732-4C20-A29E-36A3EECC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6A7E1-C279-4060-9538-87758026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26044-4A64-4BA8-BF56-1519C304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0C6B4-644A-4D31-B19A-6BB16200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0C527-ABD5-43F4-97BE-612D008D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D045A-446A-4E45-9947-A3934E92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8A621-CB45-4CAD-9E15-F400247A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0E1EF-8679-4690-8A62-674FE6EE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C587B-D019-4BD9-A572-8D70F9B0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96EC5-E953-433C-BF3E-E3ED0D9D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C44-E230-4214-B472-81C0A22D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6FA1E-ADC7-46B7-AA01-2C0931EE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DDB47-253D-47AB-8029-806590EC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3A43D-CB67-444F-9ACA-01A52BD7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51ADC-C801-46B5-B489-487CA24E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ADB65-30A9-4541-8459-46C6A415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0D1B3-10D2-4EB6-967C-247C3EEC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F7A95-A0B0-43CA-9A64-CF8172B7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B9E8B-CB77-43CC-9A25-0FD11601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6E799-FB13-4A15-B0AF-474CCFF0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96B32-EA6F-4B55-80A1-58301E7D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CDAD-C0BD-4CDA-A69A-76A7EAEE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0F488-3BB6-485C-893E-00672A8B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9F463-DD26-4FD8-8F63-C9204422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77CCC-1AE3-495A-82A7-630236E5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DD64C-7E09-4323-B9B4-A4EE1A8A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7D8A4-06D4-4866-9408-4AEFD27E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A74E6-B027-4459-B942-973D5F3D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EC999-DA1C-4C3F-886E-055EF17B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DE566-580E-484B-8548-C3F806C6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526BE-633B-4C66-A35F-340C3A76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766F3-3701-4645-8309-CEC54BBF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CC1-38A8-454C-AB0F-4FA6644A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F5207-E52E-4322-851B-67862B81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764-90DD-45D5-9311-7436B9AB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608-1873-46C5-9466-29FBAA29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016F-89BF-44FC-AA77-ED529C04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324B-097F-4158-BDEB-468F2822ECA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BE0D-58B0-4359-841F-B83AD70768C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018A-8B87-4C70-BE33-570E4471B7E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0C27-57EB-40EF-A439-DF057BD9113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F2C5-F167-4BA7-BD3D-1397B92A1B5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5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4091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0" y="486864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rebuchet MS"/>
              </a:rPr>
              <a:t>                                        </a:t>
            </a:r>
            <a:r>
              <a:rPr b="0" lang="ru-RU" sz="2300" spc="-1" strike="noStrike">
                <a:solidFill>
                  <a:srgbClr val="ffffff"/>
                </a:solidFill>
                <a:latin typeface="Trebuchet MS"/>
              </a:rPr>
              <a:t>Выполнила: ст. 3077 гр. ОМФ Шантиева Г. Е.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rebuchet MS"/>
              </a:rPr>
              <a:t>                                               </a:t>
            </a:r>
            <a:r>
              <a:rPr b="0" lang="ru-RU" sz="2300" spc="-1" strike="noStrike">
                <a:solidFill>
                  <a:srgbClr val="ffffff"/>
                </a:solidFill>
                <a:latin typeface="Trebuchet MS"/>
              </a:rPr>
              <a:t>Проверила: Положаева И. В.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rebuchet MS"/>
              </a:rPr>
              <a:t>Караганда 2014 год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-648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35" name="Заголовок 1" descr=""/>
          <p:cNvPicPr/>
          <p:nvPr/>
        </p:nvPicPr>
        <p:blipFill>
          <a:blip r:embed="rId2"/>
          <a:stretch/>
        </p:blipFill>
        <p:spPr>
          <a:xfrm>
            <a:off x="469800" y="1914480"/>
            <a:ext cx="84852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69800" y="334800"/>
            <a:ext cx="8229600" cy="884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19_36"/>
          <p:cNvPicPr/>
          <p:nvPr/>
        </p:nvPicPr>
        <p:blipFill>
          <a:blip r:embed="rId2"/>
          <a:stretch/>
        </p:blipFill>
        <p:spPr>
          <a:xfrm>
            <a:off x="996840" y="2370240"/>
            <a:ext cx="615960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pravostoronnyaya-segmentarnaya-pnevmoniya-0003291891-preview"/>
          <p:cNvPicPr/>
          <p:nvPr/>
        </p:nvPicPr>
        <p:blipFill>
          <a:blip r:embed="rId1"/>
          <a:stretch/>
        </p:blipFill>
        <p:spPr>
          <a:xfrm>
            <a:off x="1116000" y="1125360"/>
            <a:ext cx="6551640" cy="5732640"/>
          </a:xfrm>
          <a:prstGeom prst="rect">
            <a:avLst/>
          </a:prstGeom>
          <a:ln w="0">
            <a:noFill/>
          </a:ln>
        </p:spPr>
      </p:pic>
      <p:pic>
        <p:nvPicPr>
          <p:cNvPr id="239" name="Заголовок 3" descr=""/>
          <p:cNvPicPr/>
          <p:nvPr/>
        </p:nvPicPr>
        <p:blipFill>
          <a:blip r:embed="rId2"/>
          <a:stretch/>
        </p:blipFill>
        <p:spPr>
          <a:xfrm>
            <a:off x="225360" y="291960"/>
            <a:ext cx="74804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242560" cy="957240"/>
          </a:xfrm>
          <a:prstGeom prst="rect">
            <a:avLst/>
          </a:prstGeom>
          <a:ln w="0">
            <a:noFill/>
          </a:ln>
        </p:spPr>
      </p:pic>
      <p:sp>
        <p:nvSpPr>
          <p:cNvPr id="241" name="Заголовок 1"/>
          <p:cNvSpPr/>
          <p:nvPr/>
        </p:nvSpPr>
        <p:spPr>
          <a:xfrm>
            <a:off x="250920" y="1052640"/>
            <a:ext cx="82296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арная пневмония (Рneumonia segmentalis) появляется на участках легочных тканей, ограниченных пределами легочного сегмент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поэтому пневмонический инфильтрат на рентгенограмме представлен более четкой формой (соответствующей проекции больного сегмента), чем при очаговой пневмони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сегментарная пневмония развивается у детей с предрасположенностью к гиперерическим реакциям, с нормальной реактивност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285840" y="285840"/>
            <a:ext cx="8643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Arial"/>
              </a:rPr>
              <a:t>Бронхоскоп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оскопия  являются методом выбора местной санационной терапии детей с легочными формами ОГДП. Тем не менее, при периферической локализации гнойно-деструктивных полостей и наличии фибринозных спаек между висцеральным и париетальным листками, возможна чрезторакальная санация одиночных блокированных абсцессов легк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       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Documents and Settings\Admin\Рабочий стол\Новая папка\6.htm26.gif"/>
          <p:cNvPicPr/>
          <p:nvPr/>
        </p:nvPicPr>
        <p:blipFill>
          <a:blip r:embed="rId1"/>
          <a:stretch/>
        </p:blipFill>
        <p:spPr>
          <a:xfrm>
            <a:off x="1403280" y="1052640"/>
            <a:ext cx="5878440" cy="5572080"/>
          </a:xfrm>
          <a:prstGeom prst="rect">
            <a:avLst/>
          </a:prstGeom>
          <a:ln w="0">
            <a:noFill/>
          </a:ln>
        </p:spPr>
      </p:pic>
      <p:pic>
        <p:nvPicPr>
          <p:cNvPr id="244" name="Заголовок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824256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Admin\Рабочий стол\Новая папка\груд0042.jpg"/>
          <p:cNvPicPr/>
          <p:nvPr/>
        </p:nvPicPr>
        <p:blipFill>
          <a:blip r:embed="rId1"/>
          <a:stretch/>
        </p:blipFill>
        <p:spPr>
          <a:xfrm>
            <a:off x="857160" y="1095480"/>
            <a:ext cx="7143840" cy="52070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2"/>
          <p:cNvSpPr/>
          <p:nvPr/>
        </p:nvSpPr>
        <p:spPr>
          <a:xfrm>
            <a:off x="324000" y="260280"/>
            <a:ext cx="77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Компьютерная томограф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10" descr=""/>
          <p:cNvPicPr/>
          <p:nvPr/>
        </p:nvPicPr>
        <p:blipFill>
          <a:blip r:embed="rId1"/>
          <a:stretch/>
        </p:blipFill>
        <p:spPr>
          <a:xfrm>
            <a:off x="749160" y="66600"/>
            <a:ext cx="7285320" cy="12812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79280" y="1989000"/>
            <a:ext cx="8785440" cy="46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ён анализ эффективности фибробронхоскопии (ФБС) при острой и затяжной пневмонии у 90 детей группой сравнения были 40 детей, которым ФБС не проводилась. В этой группе не смотря на комплексную терапию, бронхообструктивный синдром сохранялся более длительно, в среднем на 2-3 дня. Результаты исследования дают основания рекомендовать включать ФБС в комплекс лечения острых и затяжных пневмоний у дете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5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методы рентгенографии,   бронхоскопия, КТ дает нам информации о развивающей болезни так как сейчас данный дифференцированный диагностика используется обширно и с помощью этого ставят правильные диагнозы!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5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Ткаченко А.К. Название: Пневмонии у новорожденных Издательство: Минск Год: 2004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Белова И.Б. Малодозовая цифровая рентгенография в диагностике неспецифических пневмоний в общейлечебной сети/ И.Б. Белова, Е.С.Бычкова, В.А.Аболмасов, В.М.Китае в//Медицинская визуализация.-2000.-№4.-С.63-68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Габуния Р.И. Компьютерная томография в клинической практике/Р.И.Габуния, И.И.Колесникова.-Москва.-1995.-С.53-131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5638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Определение пневмонии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Этиология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Рентгенодиагностика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Острый пневмония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Бронхоскопия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Заключение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Литература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33240" y="0"/>
            <a:ext cx="85172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428760" y="285840"/>
            <a:ext cx="709596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32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Пневмо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ония – это острое инфекционное воспаление тканей легких. Заболеваемость пневмонией у детей составляет примерно 4-12 случаев на 1000 детей в возрасте от 1 месяца до 14 лет. У детей пневмония имеет свои этиологические, патогенетические и терапевтические особенност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142920" y="214200"/>
            <a:ext cx="885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b13f9a"/>
                </a:solidFill>
                <a:latin typeface="Arial"/>
              </a:rPr>
              <a:t>Этиолог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этиологические аспекты пневмонии значительно отличаются от таковых у взрослых. В частности, у детей, заболеваемость атипичной пневмонией значительно выше, чем у взрослых. Такие типы воспаления легких, как микоплазменная и хламидийная пневмония (возбудителями этих болезней являются микробы микоплазмы и хламидии) встречаются гораздо чаще у детей нежели у взрослых. Заболеваемость вирусной пневмонией также выше у детей. Между тем у новорожденных и детей первого года жизни основными возбудителями пневмонии являются пневмококк и гемофильная палочка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468360" y="0"/>
            <a:ext cx="73436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Рентгенодиагностик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тгенодиагностика крупозных или фокальных пневмоний в дошкольном и школьном возрасте облегчается типичной картиной однородного уплотнения величиной от субсегмента до долевого поражения с вовлечением плевры на пораженном участке. При ликвидации П. в последнюю очередь исчезает перисциссуральное уплотнение. На участке после исчезновения пневмонического уплотнения в течение 5—10 дней сохраняется измененный сосудистый рисунок и полоска уплотненной плевр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D:\Users\КГМУ\Desktop\Острой пневмщнии.jpg"/>
          <p:cNvPicPr/>
          <p:nvPr/>
        </p:nvPicPr>
        <p:blipFill>
          <a:blip r:embed="rId1"/>
          <a:stretch/>
        </p:blipFill>
        <p:spPr>
          <a:xfrm>
            <a:off x="741240" y="1357200"/>
            <a:ext cx="6423120" cy="5024520"/>
          </a:xfrm>
          <a:prstGeom prst="rect">
            <a:avLst/>
          </a:prstGeom>
          <a:ln w="0">
            <a:noFill/>
          </a:ln>
        </p:spPr>
      </p:pic>
      <p:pic>
        <p:nvPicPr>
          <p:cNvPr id="228" name="Rectangle 7" descr=""/>
          <p:cNvPicPr/>
          <p:nvPr/>
        </p:nvPicPr>
        <p:blipFill>
          <a:blip r:embed="rId2"/>
          <a:stretch/>
        </p:blipFill>
        <p:spPr>
          <a:xfrm>
            <a:off x="317520" y="-6480"/>
            <a:ext cx="85215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285840" y="214200"/>
            <a:ext cx="7599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Рентгенограмма легких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исследование (при поступлении в стационар): сливная инфильтрация легочной ткани с более интенсивной тенью слева в нижнем медиальном отделе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исследование (через 2 дня) затемнение усилилось – тотальная левосторонняя пневмония, плащевидный плеврит (рис. 1, 2)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Documents and Settings\Admin\Рабочий стол\Новая папка\Абсцедирующая.jpg"/>
          <p:cNvPicPr/>
          <p:nvPr/>
        </p:nvPicPr>
        <p:blipFill>
          <a:blip r:embed="rId1"/>
          <a:stretch/>
        </p:blipFill>
        <p:spPr>
          <a:xfrm>
            <a:off x="755640" y="1197000"/>
            <a:ext cx="7197840" cy="49482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285840" y="28584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Абсцедирующая пневмо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D:\Users\КГМУ\Desktop\hlamidiynye-pnevmonii-u-detey.jpg"/>
          <p:cNvPicPr/>
          <p:nvPr/>
        </p:nvPicPr>
        <p:blipFill>
          <a:blip r:embed="rId1"/>
          <a:stretch/>
        </p:blipFill>
        <p:spPr>
          <a:xfrm>
            <a:off x="611280" y="1197000"/>
            <a:ext cx="7181640" cy="5021280"/>
          </a:xfrm>
          <a:prstGeom prst="rect">
            <a:avLst/>
          </a:prstGeom>
          <a:ln w="0">
            <a:noFill/>
          </a:ln>
        </p:spPr>
      </p:pic>
      <p:pic>
        <p:nvPicPr>
          <p:cNvPr id="233" name="Заголовок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82425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5:28:14Z</dcterms:created>
  <dc:creator>Фоора</dc:creator>
  <dc:description/>
  <dc:language>en-US</dc:language>
  <cp:lastModifiedBy>RePack by SPecialiST</cp:lastModifiedBy>
  <dcterms:modified xsi:type="dcterms:W3CDTF">2014-10-02T15:21:26Z</dcterms:modified>
  <cp:revision>34</cp:revision>
  <dc:subject/>
  <dc:title>Карагандинский Госудаственный Медицинский Университет  кафедра патологической физиологии  СРС Тема: «Патофизиология инфекционного процесса»</dc:title>
</cp:coreProperties>
</file>