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011-1B68-47F2-B6F8-773473BF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B2E-A20C-4330-BC36-E113008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48E-2AD9-40B9-AB89-E36AEAC9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8F8-4116-4BB1-B643-359EF119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264-BCA6-4CEE-AFB5-3EABF53C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CA3-D156-41D7-91CE-08AF03F0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FA0-2FA2-4E9F-9FD8-9AF5D4AA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2DC-4AD2-4836-8939-49C9B955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A80-EF73-492D-B0D7-2C9B9A95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8BA-D67A-464B-91E4-1511199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189-F389-45A0-982A-FBFE286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0CF-6117-424E-B1B2-5AED177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EC8-C3B3-44D9-9038-596AB6221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КОНОМИКА: искусство ведения хозяй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ubBanner"/>
          <p:cNvSpPr/>
          <p:nvPr/>
        </p:nvSpPr>
        <p:spPr>
          <a:xfrm>
            <a:off x="1332000" y="1413000"/>
            <a:ext cx="6840360" cy="2303280"/>
          </a:xfrm>
          <a:custGeom>
            <a:avLst/>
            <a:gdLst>
              <a:gd name="textAreaLeft" fmla="*/ 1313640 w 6840360"/>
              <a:gd name="textAreaRight" fmla="*/ 5526720 w 6840360"/>
              <a:gd name="textAreaTop" fmla="*/ 442440 h 2303280"/>
              <a:gd name="textAreaBottom" fmla="*/ 18608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0" y="11620"/>
                </a:lnTo>
                <a:lnTo>
                  <a:pt x="198" y="12861"/>
                </a:lnTo>
                <a:lnTo>
                  <a:pt x="1758" y="13393"/>
                </a:lnTo>
                <a:lnTo>
                  <a:pt x="786" y="14846"/>
                </a:lnTo>
                <a:lnTo>
                  <a:pt x="2495" y="15216"/>
                </a:lnTo>
                <a:lnTo>
                  <a:pt x="1742" y="16682"/>
                </a:lnTo>
                <a:lnTo>
                  <a:pt x="3490" y="16719"/>
                </a:lnTo>
                <a:lnTo>
                  <a:pt x="3163" y="18437"/>
                </a:lnTo>
                <a:lnTo>
                  <a:pt x="4754" y="18005"/>
                </a:lnTo>
                <a:lnTo>
                  <a:pt x="4761" y="19754"/>
                </a:lnTo>
                <a:lnTo>
                  <a:pt x="6240" y="19027"/>
                </a:lnTo>
                <a:lnTo>
                  <a:pt x="6580" y="20741"/>
                </a:lnTo>
                <a:lnTo>
                  <a:pt x="8050" y="19795"/>
                </a:lnTo>
                <a:lnTo>
                  <a:pt x="8555" y="21364"/>
                </a:lnTo>
                <a:lnTo>
                  <a:pt x="9817" y="20154"/>
                </a:lnTo>
                <a:lnTo>
                  <a:pt x="10800" y="21600"/>
                </a:lnTo>
                <a:lnTo>
                  <a:pt x="11620" y="20170"/>
                </a:lnTo>
                <a:lnTo>
                  <a:pt x="12861" y="21402"/>
                </a:lnTo>
                <a:lnTo>
                  <a:pt x="13393" y="19842"/>
                </a:lnTo>
                <a:lnTo>
                  <a:pt x="14846" y="20814"/>
                </a:lnTo>
                <a:lnTo>
                  <a:pt x="15216" y="19105"/>
                </a:lnTo>
                <a:lnTo>
                  <a:pt x="16682" y="19858"/>
                </a:lnTo>
                <a:lnTo>
                  <a:pt x="16719" y="18110"/>
                </a:lnTo>
                <a:lnTo>
                  <a:pt x="18437" y="18437"/>
                </a:lnTo>
                <a:lnTo>
                  <a:pt x="18005" y="16846"/>
                </a:lnTo>
                <a:lnTo>
                  <a:pt x="19754" y="16839"/>
                </a:lnTo>
                <a:lnTo>
                  <a:pt x="19027" y="15360"/>
                </a:lnTo>
                <a:lnTo>
                  <a:pt x="20741" y="15020"/>
                </a:lnTo>
                <a:lnTo>
                  <a:pt x="19795" y="13550"/>
                </a:lnTo>
                <a:lnTo>
                  <a:pt x="21364" y="13045"/>
                </a:lnTo>
                <a:lnTo>
                  <a:pt x="20154" y="11783"/>
                </a:lnTo>
                <a:lnTo>
                  <a:pt x="21600" y="10800"/>
                </a:lnTo>
                <a:lnTo>
                  <a:pt x="20170" y="9980"/>
                </a:lnTo>
                <a:lnTo>
                  <a:pt x="21402" y="8739"/>
                </a:lnTo>
                <a:lnTo>
                  <a:pt x="19842" y="8207"/>
                </a:lnTo>
                <a:lnTo>
                  <a:pt x="20814" y="6754"/>
                </a:lnTo>
                <a:lnTo>
                  <a:pt x="19105" y="6384"/>
                </a:lnTo>
                <a:lnTo>
                  <a:pt x="19858" y="4918"/>
                </a:lnTo>
                <a:lnTo>
                  <a:pt x="18110" y="4881"/>
                </a:lnTo>
                <a:lnTo>
                  <a:pt x="18437" y="3163"/>
                </a:lnTo>
                <a:lnTo>
                  <a:pt x="16846" y="3595"/>
                </a:lnTo>
                <a:lnTo>
                  <a:pt x="16839" y="1846"/>
                </a:lnTo>
                <a:lnTo>
                  <a:pt x="15360" y="2573"/>
                </a:lnTo>
                <a:lnTo>
                  <a:pt x="15020" y="859"/>
                </a:lnTo>
                <a:lnTo>
                  <a:pt x="13550" y="1805"/>
                </a:lnTo>
                <a:lnTo>
                  <a:pt x="13045" y="236"/>
                </a:lnTo>
                <a:lnTo>
                  <a:pt x="11783" y="1446"/>
                </a:lnTo>
                <a:lnTo>
                  <a:pt x="10800" y="0"/>
                </a:lnTo>
                <a:lnTo>
                  <a:pt x="9980" y="1430"/>
                </a:lnTo>
                <a:lnTo>
                  <a:pt x="8739" y="198"/>
                </a:lnTo>
                <a:lnTo>
                  <a:pt x="8207" y="1758"/>
                </a:lnTo>
                <a:lnTo>
                  <a:pt x="6754" y="786"/>
                </a:lnTo>
                <a:lnTo>
                  <a:pt x="6384" y="2495"/>
                </a:lnTo>
                <a:lnTo>
                  <a:pt x="4918" y="1742"/>
                </a:lnTo>
                <a:lnTo>
                  <a:pt x="4881" y="3490"/>
                </a:lnTo>
                <a:lnTo>
                  <a:pt x="3163" y="3163"/>
                </a:lnTo>
                <a:lnTo>
                  <a:pt x="3595" y="4754"/>
                </a:lnTo>
                <a:lnTo>
                  <a:pt x="1846" y="4761"/>
                </a:lnTo>
                <a:lnTo>
                  <a:pt x="2573" y="6240"/>
                </a:lnTo>
                <a:lnTo>
                  <a:pt x="859" y="6580"/>
                </a:lnTo>
                <a:lnTo>
                  <a:pt x="1805" y="8050"/>
                </a:lnTo>
                <a:lnTo>
                  <a:pt x="236" y="8555"/>
                </a:lnTo>
                <a:lnTo>
                  <a:pt x="1446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ЕДПРИНИМ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еятельность по организации и управлению производством, которые связаны с новаторством, р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484360" y="4005360"/>
            <a:ext cx="4103640" cy="1295280"/>
          </a:xfrm>
          <a:prstGeom prst="downArrow">
            <a:avLst>
              <a:gd name="adj1" fmla="val 51102"/>
              <a:gd name="adj2" fmla="val 468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а з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3059280" y="5516640"/>
            <a:ext cx="3014640" cy="761760"/>
          </a:xfrm>
          <a:custGeom>
            <a:avLst/>
            <a:gdLst>
              <a:gd name="textAreaLeft" fmla="*/ 753480 w 3014640"/>
              <a:gd name="textAreaRight" fmla="*/ 2261160 w 3014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ы трудов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личие сознательно поставленной це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ходимость средств тру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местные усилия (общественный характер труд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деление труда (распределение и закрепление занятий между участникам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щение, позволяющее координировать людям сво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фессионализм, квалификация, специализ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1280" y="5372280"/>
            <a:ext cx="2737080" cy="1152360"/>
          </a:xfrm>
          <a:prstGeom prst="wedgeRectCallout">
            <a:avLst>
              <a:gd name="adj1" fmla="val 40314"/>
              <a:gd name="adj2" fmla="val -7424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ство и грамотность выполнения трудов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987640" y="5372280"/>
            <a:ext cx="3313080" cy="1412640"/>
          </a:xfrm>
          <a:prstGeom prst="wedgeRectCallout">
            <a:avLst>
              <a:gd name="adj1" fmla="val -6157"/>
              <a:gd name="adj2" fmla="val -721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рофессиональная подготовка, необходимая для выполнения слож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588000" y="5373720"/>
            <a:ext cx="2160720" cy="1224000"/>
          </a:xfrm>
          <a:prstGeom prst="wedgeRectCallout">
            <a:avLst>
              <a:gd name="adj1" fmla="val -48750"/>
              <a:gd name="adj2" fmla="val -7282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одной или несколь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бровольное, сознательное соблюдение правил и порядка поведения в коллективе, добросовестное исполнение своих обязанностей, высокое качество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0429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957" y="-2523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55087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43" y="-25236"/>
                </a:moveTo>
                <a:lnTo>
                  <a:pt x="-737" y="3117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324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окупность материальных и духовных средств, с помощью которых люди осуществляют материально-производственну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4000" y="3141720"/>
          <a:ext cx="4762440" cy="2913120"/>
        </p:xfrm>
        <a:graphic>
          <a:graphicData uri="http://schemas.openxmlformats.org/drawingml/2006/table">
            <a:tbl>
              <a:tblPr/>
              <a:tblGrid>
                <a:gridCol w="47624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роизво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обм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распреде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отре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гуманизация и гуманизация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39640" y="1916280"/>
            <a:ext cx="4680000" cy="93636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еслен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оздает вещь от нач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конца, оттачивает свое ма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708360" y="3068640"/>
            <a:ext cx="4248360" cy="1584360"/>
          </a:xfrm>
          <a:prstGeom prst="flowChartMultidocumen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ет только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и, машины домин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ли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116000" y="4508640"/>
            <a:ext cx="2016000" cy="649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12"/>
          <p:cNvCxnSpPr>
            <a:stCxn id="123" idx="1"/>
            <a:endCxn id="124" idx="0"/>
          </p:cNvCxnSpPr>
          <p:nvPr/>
        </p:nvCxnSpPr>
        <p:spPr>
          <a:xfrm flipV="1" rot="10800000">
            <a:off x="2123280" y="3860640"/>
            <a:ext cx="1585080" cy="648360"/>
          </a:xfrm>
          <a:prstGeom prst="curved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AutoShape 13"/>
          <p:cNvSpPr/>
          <p:nvPr/>
        </p:nvSpPr>
        <p:spPr>
          <a:xfrm>
            <a:off x="3564000" y="5300640"/>
            <a:ext cx="2592360" cy="1130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16"/>
          <p:cNvCxnSpPr>
            <a:stCxn id="126" idx="0"/>
            <a:endCxn id="123" idx="2"/>
          </p:cNvCxnSpPr>
          <p:nvPr/>
        </p:nvCxnSpPr>
        <p:spPr>
          <a:xfrm flipH="1" flipV="1" rot="5400000">
            <a:off x="4960080" y="4428000"/>
            <a:ext cx="773640" cy="972000"/>
          </a:xfrm>
          <a:prstGeom prst="curvedConnector5">
            <a:avLst>
              <a:gd name="adj1" fmla="val 41852"/>
              <a:gd name="adj2" fmla="val 49981"/>
              <a:gd name="adj3" fmla="val 41852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17"/>
          <p:cNvSpPr/>
          <p:nvPr/>
        </p:nvSpPr>
        <p:spPr>
          <a:xfrm>
            <a:off x="250920" y="5516640"/>
            <a:ext cx="316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ение факторов, угрожающих здоровью и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6372360" y="5516640"/>
            <a:ext cx="244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изац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деятельности людей по производству, распределению, обмену и потреблени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а, изучающая эффективные способы использования ограниченных ресурсов для производств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6948360" y="1989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6516720" y="2133720"/>
            <a:ext cx="23828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ы и у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потребн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щиеся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граниченном коли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4"/>
          <p:cNvSpPr/>
          <p:nvPr/>
        </p:nvSpPr>
        <p:spPr>
          <a:xfrm flipV="1">
            <a:off x="4284720" y="270792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5"/>
          <p:cNvSpPr/>
          <p:nvPr/>
        </p:nvSpPr>
        <p:spPr>
          <a:xfrm flipV="1">
            <a:off x="6084720" y="4149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1264320" y="1628640"/>
            <a:ext cx="65329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продуктов и усл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х материальные потреб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4"/>
          <p:cNvSpPr/>
          <p:nvPr/>
        </p:nvSpPr>
        <p:spPr>
          <a:xfrm>
            <a:off x="1258920" y="2565360"/>
            <a:ext cx="65530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ухов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духовных цен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оторых человек меняет свое со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6"/>
          <p:cNvSpPr/>
          <p:nvPr/>
        </p:nvSpPr>
        <p:spPr>
          <a:xfrm>
            <a:off x="2987640" y="3789360"/>
            <a:ext cx="2952720" cy="934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произв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ько и потре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8"/>
          <p:cNvSpPr/>
          <p:nvPr/>
        </p:nvSpPr>
        <p:spPr>
          <a:xfrm>
            <a:off x="1547640" y="4869000"/>
            <a:ext cx="6120000" cy="1008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ся больше, чем потреб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9"/>
          <p:cNvSpPr/>
          <p:nvPr/>
        </p:nvSpPr>
        <p:spPr>
          <a:xfrm>
            <a:off x="1403280" y="142920"/>
            <a:ext cx="4390920" cy="349200"/>
          </a:xfrm>
          <a:prstGeom prst="wedgeRectCallout">
            <a:avLst>
              <a:gd name="adj1" fmla="val 7916"/>
              <a:gd name="adj2" fmla="val 1036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создания материальных б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роизводства = Производительные силы +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924360" y="71280"/>
            <a:ext cx="4535280" cy="609840"/>
          </a:xfrm>
          <a:prstGeom prst="wedgeRectCallout">
            <a:avLst>
              <a:gd name="adj1" fmla="val -85703"/>
              <a:gd name="adj2" fmla="val 557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как люди производят средства к жизни в тот или иной период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124000" y="2492280"/>
            <a:ext cx="2879640" cy="1297080"/>
          </a:xfrm>
          <a:prstGeom prst="wedgeRectCallout">
            <a:avLst>
              <a:gd name="adj1" fmla="val 35060"/>
              <a:gd name="adj2" fmla="val -97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 средства производства: орудия труда, предметы и средств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5364000" y="2492280"/>
            <a:ext cx="2880000" cy="1297080"/>
          </a:xfrm>
          <a:prstGeom prst="wedgeRectCallout">
            <a:avLst>
              <a:gd name="adj1" fmla="val 24476"/>
              <a:gd name="adj2" fmla="val -9443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людей в процессе производства, обмена, распределения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324000" y="4076640"/>
            <a:ext cx="2571480" cy="934920"/>
          </a:xfrm>
          <a:prstGeom prst="cloudCallout">
            <a:avLst>
              <a:gd name="adj1" fmla="val 71050"/>
              <a:gd name="adj2" fmla="val -72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940360" y="4149720"/>
            <a:ext cx="2571840" cy="934920"/>
          </a:xfrm>
          <a:prstGeom prst="cloudCallout">
            <a:avLst>
              <a:gd name="adj1" fmla="val -18518"/>
              <a:gd name="adj2" fmla="val -83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619280" y="5084640"/>
            <a:ext cx="4967280" cy="1440000"/>
          </a:xfrm>
          <a:prstGeom prst="irregularSeal2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ая ре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696000" y="5373720"/>
            <a:ext cx="2411640" cy="934920"/>
          </a:xfrm>
          <a:prstGeom prst="wedgeRectCallout">
            <a:avLst>
              <a:gd name="adj1" fmla="val -91476"/>
              <a:gd name="adj2" fmla="val 925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2987640" y="4221000"/>
            <a:ext cx="2879640" cy="628920"/>
          </a:xfrm>
          <a:prstGeom prst="leftRightArrow">
            <a:avLst>
              <a:gd name="adj1" fmla="val 50000"/>
              <a:gd name="adj2" fmla="val 9115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3708360" y="4724280"/>
            <a:ext cx="647640" cy="577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туральное и товарн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0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ь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довлетворения собственных потребност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о на рыно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замкнутость, консерватизм, ручной труд, медленные темпы развит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динамичность, использование техники, механизированный характ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ические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32560"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НЕОЛИТИЧЕСК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(переход от присваивающего к производящему хозяй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ПРОМЫШЛЕННАЯ</a:t>
            </a: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 (переход от мануфактуры к фабричному производ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00"/>
                </a:solidFill>
                <a:latin typeface="Arial"/>
              </a:rPr>
              <a:t>НАУЧНО-ТЕХНИЧЕСКА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996600"/>
                </a:solidFill>
                <a:latin typeface="Arial"/>
              </a:rPr>
              <a:t>(переход к постиндустриальному обще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476360" y="5668920"/>
            <a:ext cx="5338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476360" y="5186520"/>
            <a:ext cx="5338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476360" y="470376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арно-ремес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476360" y="422100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ваив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476360" y="3716280"/>
            <a:ext cx="533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в развити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7"/>
          <p:cNvGrpSpPr/>
          <p:nvPr/>
        </p:nvGrpSpPr>
        <p:grpSpPr>
          <a:xfrm>
            <a:off x="1476360" y="3716280"/>
            <a:ext cx="5338800" cy="2433600"/>
            <a:chOff x="1476360" y="3716280"/>
            <a:chExt cx="5338800" cy="2433600"/>
          </a:xfrm>
        </p:grpSpPr>
        <p:sp>
          <p:nvSpPr>
            <p:cNvPr id="75" name="Line 10"/>
            <p:cNvSpPr/>
            <p:nvPr/>
          </p:nvSpPr>
          <p:spPr>
            <a:xfrm>
              <a:off x="1476360" y="37162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1476360" y="422100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1476360" y="470376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>
              <a:off x="1476360" y="51865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4"/>
            <p:cNvSpPr/>
            <p:nvPr/>
          </p:nvSpPr>
          <p:spPr>
            <a:xfrm>
              <a:off x="1476360" y="56689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5"/>
            <p:cNvSpPr/>
            <p:nvPr/>
          </p:nvSpPr>
          <p:spPr>
            <a:xfrm>
              <a:off x="1476360" y="61498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14763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>
              <a:off x="68151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" name="AutoShape 29"/>
          <p:cNvCxnSpPr>
            <a:stCxn id="68" idx="0"/>
          </p:cNvCxnSpPr>
          <p:nvPr/>
        </p:nvCxnSpPr>
        <p:spPr>
          <a:xfrm flipH="1" rot="16200000">
            <a:off x="4022640" y="1942560"/>
            <a:ext cx="3456720" cy="2107440"/>
          </a:xfrm>
          <a:prstGeom prst="curvedConnector5">
            <a:avLst>
              <a:gd name="adj1" fmla="val -2062"/>
              <a:gd name="adj2" fmla="val 100973"/>
              <a:gd name="adj3" fmla="val -2062"/>
            </a:avLst>
          </a:prstGeom>
          <a:ln w="9360">
            <a:solidFill>
              <a:srgbClr val="cc3300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4" name="AutoShape 30"/>
          <p:cNvCxnSpPr>
            <a:stCxn id="68" idx="1"/>
            <a:endCxn id="78" idx="0"/>
          </p:cNvCxnSpPr>
          <p:nvPr/>
        </p:nvCxnSpPr>
        <p:spPr>
          <a:xfrm>
            <a:off x="250920" y="2290680"/>
            <a:ext cx="1226160" cy="2896560"/>
          </a:xfrm>
          <a:prstGeom prst="curvedConnector5">
            <a:avLst>
              <a:gd name="adj1" fmla="val 49985"/>
              <a:gd name="adj2" fmla="val 49558"/>
              <a:gd name="adj3" fmla="val 49985"/>
            </a:avLst>
          </a:prstGeom>
          <a:ln w="9360">
            <a:solidFill>
              <a:srgbClr val="0000cc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5" name="AutoShape 32"/>
          <p:cNvCxnSpPr/>
          <p:nvPr/>
        </p:nvCxnSpPr>
        <p:spPr>
          <a:xfrm>
            <a:off x="3850920" y="3141720"/>
            <a:ext cx="3026520" cy="2520000"/>
          </a:xfrm>
          <a:prstGeom prst="curvedConnector5">
            <a:avLst>
              <a:gd name="adj1" fmla="val 143587"/>
              <a:gd name="adj2" fmla="val 49992"/>
              <a:gd name="adj3" fmla="val 143587"/>
            </a:avLst>
          </a:prstGeom>
          <a:ln w="9360">
            <a:solidFill>
              <a:srgbClr val="996600"/>
            </a:solidFill>
            <a:miter/>
            <a:headEnd len="med" type="oval" w="med"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340000" y="1413000"/>
            <a:ext cx="4319640" cy="104292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ТР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ловеческие ресур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е и умственные ус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24000" y="2637000"/>
            <a:ext cx="3421080" cy="792000"/>
          </a:xfrm>
          <a:prstGeom prst="rec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843280" y="3284640"/>
            <a:ext cx="3313080" cy="1130040"/>
          </a:xfrm>
          <a:prstGeom prst="diamond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нсив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6084720" y="2565360"/>
            <a:ext cx="2664000" cy="1150920"/>
          </a:xfrm>
          <a:prstGeom prst="flowChartMultidocumen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468360" y="4508640"/>
            <a:ext cx="1942920" cy="1512720"/>
          </a:xfrm>
          <a:prstGeom prst="wedgeRectCallout">
            <a:avLst>
              <a:gd name="adj1" fmla="val 83"/>
              <a:gd name="adj2" fmla="val -119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роизведенных за единицу времени 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3635280" y="4941720"/>
            <a:ext cx="2232000" cy="1513080"/>
          </a:xfrm>
          <a:prstGeom prst="wedgeRectCallout">
            <a:avLst>
              <a:gd name="adj1" fmla="val 5759"/>
              <a:gd name="adj2" fmla="val -9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расхода умственной и физической энергии в единицу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659640" y="4508640"/>
            <a:ext cx="2160360" cy="936360"/>
          </a:xfrm>
          <a:prstGeom prst="wedgeRectCallout">
            <a:avLst>
              <a:gd name="adj1" fmla="val -47796"/>
              <a:gd name="adj2" fmla="val -135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, выплачиваемая за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324000" y="3716280"/>
            <a:ext cx="3456000" cy="216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я, станки, оборуд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использую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чение ряда ле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еп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547640" y="1341360"/>
            <a:ext cx="5616720" cy="1440000"/>
          </a:xfrm>
          <a:custGeom>
            <a:avLst/>
            <a:gdLst>
              <a:gd name="textAreaLeft" fmla="*/ 1404000 w 5616720"/>
              <a:gd name="textAreaRight" fmla="*/ 4212720 w 561672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ш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ы, зд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4067280" y="3645000"/>
            <a:ext cx="4787640" cy="21603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ны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ье, материа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ресурсы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уются за один цик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46560" y="278136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ы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17"/>
          <p:cNvCxnSpPr>
            <a:stCxn id="98" idx="1"/>
            <a:endCxn id="94" idx="0"/>
          </p:cNvCxnSpPr>
          <p:nvPr/>
        </p:nvCxnSpPr>
        <p:spPr>
          <a:xfrm flipV="1" rot="10800000">
            <a:off x="2052000" y="2979360"/>
            <a:ext cx="1296000" cy="737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19"/>
          <p:cNvCxnSpPr>
            <a:stCxn id="98" idx="3"/>
            <a:endCxn id="97" idx="0"/>
          </p:cNvCxnSpPr>
          <p:nvPr/>
        </p:nvCxnSpPr>
        <p:spPr>
          <a:xfrm>
            <a:off x="5466960" y="2979720"/>
            <a:ext cx="994680" cy="66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AutoShape 20"/>
          <p:cNvSpPr/>
          <p:nvPr/>
        </p:nvSpPr>
        <p:spPr>
          <a:xfrm>
            <a:off x="2050920" y="6058080"/>
            <a:ext cx="5185080" cy="466560"/>
          </a:xfrm>
          <a:custGeom>
            <a:avLst/>
            <a:gdLst>
              <a:gd name="textAreaLeft" fmla="*/ 70560 w 5185080"/>
              <a:gd name="textAreaRight" fmla="*/ 5114520 w 5185080"/>
              <a:gd name="textAreaTop" fmla="*/ 70560 h 466560"/>
              <a:gd name="textAreaBottom" fmla="*/ 396000 h 466560"/>
            </a:gdLst>
            <a:ahLst/>
            <a:rect l="textAreaLeft" t="textAreaTop" r="textAreaRight" b="textAreaBottom"/>
            <a:pathLst>
              <a:path w="239882" h="21600">
                <a:moveTo>
                  <a:pt x="4629" y="0"/>
                </a:moveTo>
                <a:arcTo wR="4629" hR="4629" stAng="0" swAng="5400000"/>
                <a:lnTo>
                  <a:pt x="0" y="16971"/>
                </a:lnTo>
                <a:arcTo wR="4629" hR="4629" stAng="16200000" swAng="5400000"/>
                <a:lnTo>
                  <a:pt x="235253" y="21600"/>
                </a:lnTo>
                <a:arcTo wR="4629" hR="4629" stAng="10800000" swAng="5400000"/>
                <a:lnTo>
                  <a:pt x="239882" y="4629"/>
                </a:lnTo>
                <a:arcTo wR="4629" hR="4629" stAng="5400000" swAng="5400000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лата за использование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esk1"/>
          <p:cNvSpPr/>
          <p:nvPr/>
        </p:nvSpPr>
        <p:spPr>
          <a:xfrm>
            <a:off x="1979640" y="1844640"/>
            <a:ext cx="4680000" cy="1008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ЗЕМ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риродные ресурсы производства (участки, полезные ископаемые, реки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835280" y="3933720"/>
            <a:ext cx="4895640" cy="8654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оход того, кто владеет зем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38:09Z</dcterms:created>
  <dc:creator>Сергей</dc:creator>
  <dc:description/>
  <dc:language>en-US</dc:language>
  <cp:lastModifiedBy>Admin</cp:lastModifiedBy>
  <dcterms:modified xsi:type="dcterms:W3CDTF">2017-04-26T19:53:22Z</dcterms:modified>
  <cp:revision>48</cp:revision>
  <dc:subject/>
  <dc:title>ЭКОНОМИКА</dc:title>
</cp:coreProperties>
</file>