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119-28B4-4DF7-88CB-2533553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56F-6EDB-43E0-BA20-D5B9B963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134-AF70-43CB-A0E4-0088131E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2CE-AEEC-4B38-BE85-187D3B88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D72-D237-4738-A6A2-D750B0AC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95A0-A5AB-489F-85F9-99F9583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9581-FE39-44F3-9486-D7E29A77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FCEA-F3DC-44BD-B064-5DCE3274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3B0F-C0D6-4FC9-B93D-66C51791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5F75-83CD-4481-8016-549C2F4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E194-9514-4281-8056-39EA506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5B6-98C8-4416-8340-3AFCF9C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31FC-9AE2-4905-8996-289B38E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ECBD-2D08-4344-981B-BDCB51F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918D-B0B3-4371-B277-D46520B5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3BE3-0921-4BD2-8710-7931C5C4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D04E-A2D8-4E36-B742-8E0F187C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D9B-0711-48AC-A750-92B0CBE4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171-5E98-44D4-80F5-22D03F4A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FB8-3A91-4781-8811-F197AEFD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697-4B8B-41EE-AF23-B7AF4215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3C0-04B2-4E93-A8AC-A0DD531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C83-52F0-4B52-A5C2-408254D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C50-7E31-4F4B-A1BA-D773F95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AC97-9594-404F-BA88-91CA7E6BA7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7DCD-6277-4BD1-A154-D604BCC889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езентация на тему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рт против наркот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фанова Мария 5г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орт лучш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, когда в нашей стране стремительно распространяется НАРКОМАНИЯ, становится чрезвычайно актуальным вопрос об участии спорта в борьбе с ней. Используя преобразующую природу спорта, его высокий престиж в глазах молодежи, необходимо мир спорта противопоставить миру ложных ценностей, в который погружаются потребители наркот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Угроза национальной безопасност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оследние годы проблема наркомании среди молодежи стала одной из самых острых и по своим масштабам уже угрожает национальной безопасности страны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орочные исследования школьников показывают, что к 13 годам40-50%, а к 16 годам 70-85% из них так или иначе приобщаются к приему алкоголя, а соответственно к пробам наркотиков. По данным социологических и криминологических исследований, каждый пятый из опрошенных в возрасте 15-17 лет хотя бы раз употреблял наркотики без назначения врач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ссии гораздо быстрее, чем в других странах, происходит переход от "легких" наркотиков к "тяжелым". Так только за один год число больных героиновой наркоманией среди общего количества больных, находящихся на стационарном лечении, увеличилось более чем в два раз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Тяжелые" наркотики значительно быстрее и практически безвозвратно формируют привыкание и наркозависим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авляющее число хронических наркоманов не доживает до 30 лет. Средняя продолжительность жизни ушедших из жизни наркоманов после начала употребления наркотиков - 4-4,5 года. За последние 10 лет число смертей от употребления наркотиков увеличилось в 12 раз, а среди детей - в 42 раз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-44244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орт круч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подростков употребляют наркотики с целью привлечь к себе внимание окружающих, предстать в их глазах смелыми, независимыми, более взрослыми, повысить собственную коммуникабельность. Поэтому довольно часто подростки употребляют наркотики перед тем как отправиться в места, где собираются их сверстники, или же принимают наркотики непосредственно в месте проведения разных молодежных мероприятий. К таким объектам прежде всего относятся клубы, дома культуры, иные сооружения, открытые площадки, где проводятся дискотеки, танцы, концерты, выступления популярных исполнителей, а также игротеки, бары, кафе, другие предприятия общественного питания, которые посещают несовершеннолетние, и т.д. Довольно часто подростки потребляют наркотики в подвалах, на чердаках жилых и нежилых помещений, бесхозных строений либо в квартирах, где проживают так называемые неблагополучные семь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ествует множество способов направлений борьбы с наркоманией. Но следует отметить, что приоритетным направлением в работе должно стать предупреждение, профилактика наркомании. Средства активной профилактики являются самым реальным и действенным оружием из всех возможных инструментов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профилактика молодежной наркомании не в том, чтобы постоянно провозглашать лозунги "Вредно и опасно употреблять наркотики". Профилактика - это прежде всего активная работа по предупреждению наркомании. Надо сделать так, чтобы молодые люди отказывались от предложений пробовать наркотик, сознательно противостояли вовлечению в наркоманию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спортом - это реальная альтернатива миру наркотиков. Молодежь, вовлеченная в спортивную жизнь, в меньшей степени подвержена воздействию наркобизнеса, формирующего в России рынок сбыта наркот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нь борьбы с наркотикам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июня мировое сообщество отмечает праздник всемирного значения - Международный день борьбы с наркоманией и незаконным оборотом наркотиков. Праздник Международный день борьбы с наркоманией был учрежден в 1987 году Генеральной Ассамблеей О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енбург против наркоти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жегодно практически во всех областях нашей страны проводятся спортивные мероприятия под девизом «Спорт против наркотиков!» Так в Оренбурге с 7 по 12 ноября в СК «Олимп» в спортивном комплексе на Маяке проходил областной турнир по мини-футболу «Спорт против наркотиков». Наша команда девушек играла очень уверенно и держалась до победного конца. Ну и пусть, что у нас III место – мы гордимся этим! Ведь наша команда – это девочки первого курса. Им еще есть куда р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ogk.edu.ru/sites/all/files/novosti/mini_futb_1.jpg"/>
          <p:cNvPicPr/>
          <p:nvPr/>
        </p:nvPicPr>
        <p:blipFill>
          <a:blip r:embed="rId1"/>
          <a:stretch/>
        </p:blipFill>
        <p:spPr>
          <a:xfrm>
            <a:off x="1116000" y="3500280"/>
            <a:ext cx="3333600" cy="233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ogk.edu.ru/sites/all/files/novosti/mini_futb_2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247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-228600" y="2190600"/>
            <a:ext cx="960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-228600" y="2190600"/>
            <a:ext cx="960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-228600" y="2190600"/>
          <a:ext cx="9601200" cy="517680"/>
        </p:xfrm>
        <a:graphic>
          <a:graphicData uri="http://schemas.openxmlformats.org/drawingml/2006/table">
            <a:tbl>
              <a:tblPr/>
              <a:tblGrid>
                <a:gridCol w="4800600"/>
                <a:gridCol w="4800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таповский турнир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ждый год в марте в Партизанском районе Красноярского края проводятся спортивно-массовые мероприятия, в которых участвуют школьники России, под девизом "Спорт против наркотиков", посвященные памяти Сергея Потапова. Эти соревнования называют "Потаповским турниром", в него входят соревнования по лыжным гонкам, баскетболу, шахматам, вольное борьбе. Последние занимают центральное место. В 9-ти турнирах приняло участие около тысячи юных спортсмен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Еще одна победа"/>
          <p:cNvPicPr/>
          <p:nvPr/>
        </p:nvPicPr>
        <p:blipFill>
          <a:blip r:embed="rId1"/>
          <a:stretch/>
        </p:blipFill>
        <p:spPr>
          <a:xfrm>
            <a:off x="468360" y="4292640"/>
            <a:ext cx="194292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Он знает, что такое победа!"/>
          <p:cNvPicPr/>
          <p:nvPr/>
        </p:nvPicPr>
        <p:blipFill>
          <a:blip r:embed="rId2"/>
          <a:stretch/>
        </p:blipFill>
        <p:spPr>
          <a:xfrm>
            <a:off x="2484360" y="4292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Фотография на память"/>
          <p:cNvPicPr/>
          <p:nvPr/>
        </p:nvPicPr>
        <p:blipFill>
          <a:blip r:embed="rId3"/>
          <a:stretch/>
        </p:blipFill>
        <p:spPr>
          <a:xfrm>
            <a:off x="4500720" y="4292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Церемония награждения победителей"/>
          <p:cNvPicPr/>
          <p:nvPr/>
        </p:nvPicPr>
        <p:blipFill>
          <a:blip r:embed="rId4"/>
          <a:stretch/>
        </p:blipFill>
        <p:spPr>
          <a:xfrm>
            <a:off x="6516720" y="4292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Зимний мяч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зиму в с. Богатое Самарской области проводятся турниры по мини-футболу на снегу «Зимний мяч». Девиз состязаний – «Спорт против наркотиков!». Организатором этих спортивных мероприятий выступает администрация Богатовского района при поддержке Управления Федеральной службы России по контролю за оборотом наркотиков по Самарской обла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utdet100x100"/>
          <p:cNvPicPr/>
          <p:nvPr/>
        </p:nvPicPr>
        <p:blipFill>
          <a:blip r:embed="rId1"/>
          <a:stretch/>
        </p:blipFill>
        <p:spPr>
          <a:xfrm>
            <a:off x="6588000" y="4005360"/>
            <a:ext cx="1656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4:08:26Z</dcterms:created>
  <dc:creator>User</dc:creator>
  <dc:description/>
  <dc:language>en-US</dc:language>
  <cp:lastModifiedBy>Owner</cp:lastModifiedBy>
  <dcterms:modified xsi:type="dcterms:W3CDTF">2011-07-11T08:12:57Z</dcterms:modified>
  <cp:revision>5</cp:revision>
  <dc:subject/>
  <dc:title>Презентация на тему:</dc:title>
</cp:coreProperties>
</file>