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6D2-7007-4CA4-B7DE-09F1ABD9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45B-87B5-40D9-A74B-7291CF5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4577B-B0B2-46C5-A050-3769B95D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662F8-1EF4-4F78-B64D-485F8C25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E6867-3748-4178-8A90-DEB8E64D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15AD5-7D3E-4611-8464-B9027FE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45ECF-3A5D-4A26-87E4-568A8368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C5AAB-E24C-4551-AD2F-D14E756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0CFB9-E014-40A3-A03D-E28C45F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6DE48-0FFC-4075-82A9-85393F04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A9F65-EF8B-4691-9E0A-82F70F94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FB5EE-9F0F-4D77-8C95-34E844D8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F5D-192A-4A1C-A87B-190106B8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281B6-53D3-4B47-971A-D75499E6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CAA2A-762E-49DB-933B-1CCDCDF5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8602E-EEE2-4A51-9C25-E24375B9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016CF-4100-4B40-847A-DB9C9713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A8CA5-7681-40BD-8BC3-C12AB685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84ECB-48B7-4839-A07B-A1115A3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1AD3C-20C1-40BF-A019-AEE8D57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A7728-B6DD-4C92-B052-9764DDE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03365-CFD6-4F4F-BE56-11A77550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31D80-48C9-42A5-9BA7-5FCD42DD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89E-EBD3-4F20-89FC-AA676B41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23DEC-CD3C-4BD3-B40D-D791BD45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04C5-A73A-4530-93DA-1218BE73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1A70-9396-406B-9B96-5B666DE4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F85A-9DE1-4B56-B98E-FCFA501E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1681-41EC-4BA6-9EAA-ED5C0833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0C4F-F7F7-42C8-BADC-8BBCD71E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AD00-099C-4C81-B4A2-6AC0FB2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9920-0505-4795-99E0-ACF059FE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8F4-69AA-4A38-BCED-FC146148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1558-BE85-406D-A896-5F3F892E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7098-3FBE-4BDD-B722-7611724E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0766-3EE1-44B7-AEC7-72440BE4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0E3B-F48C-4620-9EF0-2E7AC674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7813-A64D-45AA-AFD7-05189DBB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0CA6-7BBF-4976-BC44-CAD73FA1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76A7-DF98-4BAA-91C8-45862BA7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D457-4429-4485-9BDE-E2B6E5DE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2A91-5D93-4DE3-92DE-D0068F1B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1D00-8156-4A40-A646-44445795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AA9-1D1B-44A6-8B33-539067DF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1F9B1-A35D-41DC-8FE2-7BB195D5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4156-D3C3-4B8E-9758-2B868E6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FAD4-231A-4B3E-AC07-780CFFB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9D0B-F2C6-432F-B930-446C115E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01EF-9955-49BF-9D15-3D91379D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F361-82C6-48E0-98CD-E4A61437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DA47-4C64-408B-972E-2BC458C5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EE243-ACBC-43D3-B84F-DAFFF21B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090CD-50BE-4932-BBEC-7AECFC52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52B91-8292-44A8-8EE6-D580511B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B59C-9F18-4F05-85C9-7E151C1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7422C-5B6E-4A61-8D0B-4C22A7DF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8A481-2A77-469B-9D5B-7959C475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684BA-1758-4370-B854-EB8F754A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5415B-1586-4E5E-89AC-39127906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E395F-C029-438A-91CA-FEA527B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37513-1C80-4AAB-B731-66F0DAE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CCC95-BCBB-4913-88B3-D3FEB915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316F1-D62C-49F2-A1D7-01499EE9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C338B-53E4-4224-B03D-1DA6AC72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6B50-1211-4D0D-94DB-6E3DD817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960-5C33-4F3D-BD24-13F7EBB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9DB44-15EE-4AB5-8840-D072BF39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69388-BB89-4C29-9AA4-CB208A75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BA84-F011-42BA-90A4-ABF756BE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058F0-A61E-49B9-B896-761EA6F8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89742-94DC-45B9-900A-A6FF9907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B44A6-DB9A-4E31-A226-A498909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4C96-BDD9-4C12-9D64-F3C89902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B022-F4C6-4B4C-BC87-F57B0F0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A44E-8512-4E7B-A91F-58A53BA3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C9FF8-2D84-4EBF-A215-B1D2016F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BCB-80A4-40A8-A5CA-55D7B3A9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AAEF3-5499-4F1F-BADB-357D7E27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6942-19AB-48C5-A384-95ADE731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4F702-C1A0-43CE-A077-3F110E0C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6A70E-1D49-4217-B2D5-A302E910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E1D19-BBCF-44BD-ADE4-28202FE0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3ECE-D5F7-46DD-879B-CAF8ACA1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D8174-0054-4A84-8BE3-4C64BA51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4B2C7-AE47-4B3A-8243-13C375AA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34451-DBE3-4A79-8191-15A0A0A9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38645-EC6D-472B-8221-A971C01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7D1-CD3E-49A1-BBD7-5DCCC703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1BEC-4F6F-48B4-B4BC-CAAA92D8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40ADF-0E35-4F15-888C-B5E17BB2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94AA-C379-4A9B-8F45-90A8C55D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4C2EE-F3C4-4B85-99F5-42404CA4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FA156-A0F9-4283-89FA-45DB483C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17FDF-8303-4FD5-90AD-CAD5B80C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3DDEC-BDF3-4D50-B8A4-831C8BE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CFC46-DC0D-4C28-895E-A6DFB9AC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ED1D96-629E-4A9F-9BDF-24B41ABC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3C0A1-6270-4C71-8316-6E35CB42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7F9-EC99-405D-BE8C-19928D14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EE26E-DEF9-4F0D-B9F8-D074322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031C4-B6BF-4702-8AC3-113ECBAB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B6D4D-97CA-4E5F-B40C-5111C793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741D6-4430-45AE-8061-5C04A4AB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95DE6-5484-4E24-B868-0DB99A91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15660-24D8-4FC9-848D-D8862E84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97142-8D68-4EAC-8F00-61EE5E8C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1BA4A-B6C8-4C23-81E4-122E7D49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C3BCA-48B2-42EF-8ECE-82011312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30276-AC43-4E17-BC0C-2C5EB490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823-CB9D-48DB-84D7-96C901F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DAD14-9520-48F1-8CAB-151987F7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74E23-6089-4516-98FA-76D0279C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22F16-91F3-488A-9570-BA06042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80D8-EEB6-45AD-807D-5E677733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6817C-0288-4949-8170-06D68C09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16F9-681C-4E80-AF98-4478DE4A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777DB-58F1-48CC-9667-E3C73555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718A6-F7C3-4EBC-AF28-FF665465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60A0C-B6E3-4A11-829E-EE1CAE7F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6CB88-A90B-4899-B158-E7C32C4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EDE-1F10-4569-94FC-AA5F91F448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24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21D-98AE-4469-9A6A-E9CAE70254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ED6C-45AE-453D-BC40-4FFDA6CB7F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96B-49AA-481B-AA05-1734EB014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EFBA-58CC-4B69-A61F-5AF0B2865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D730-36F0-4601-817A-5A15161D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7C6-9C73-415A-8A8B-39457E6B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E752-71B0-4157-9286-31A61F82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2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53EE-783F-4CEE-BB8C-6A00B217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7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152C-F49F-463C-BF19-E3F8B718F0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Тема 2: Основы технологии умственного труда 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1 Технологии развития и поддержания интеллектуальной формы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8055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Внимание и наблюдательность – лучшая   половина интелл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Определение и типы интелл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Функции полушарий головного моз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кже в дальнейшем мы будем исходить из того, что эта способность (интеллект) личности отчаст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рожденна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но при определенных условиях может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вать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вершенствовать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При этом главное условие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ела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вол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Из чего складывается интеллект?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Психолог из Чикагского университета Л.Л.Тёрстон отмечает семь первичных умственных способносте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имание реч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чевые способ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ность к исчислению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риятие пространст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ссоциативная памя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сть восприят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ое мышл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587840" cy="379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1" name=""/>
          <p:cNvSpPr/>
          <p:nvPr/>
        </p:nvSpPr>
        <p:spPr>
          <a:xfrm flipH="1">
            <a:off x="2195640" y="2133720"/>
            <a:ext cx="1800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123640" y="3500280"/>
            <a:ext cx="7923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124000" y="4365720"/>
            <a:ext cx="1728720" cy="503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64000" y="4221000"/>
            <a:ext cx="180036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372360" y="2420640"/>
            <a:ext cx="1008000" cy="1152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2320" y="1916280"/>
            <a:ext cx="17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менная д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3240" y="328464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тылочная д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12680" y="2205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обная д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67600" y="407664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исочная д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03240" y="47480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06920" y="907920"/>
            <a:ext cx="503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ружное строение головного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34480" y="333360"/>
            <a:ext cx="72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Функции полушарий головного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736720" cy="3097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 flipH="1">
            <a:off x="2050920" y="3573360"/>
            <a:ext cx="151128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2637000"/>
            <a:ext cx="255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вое полушарие управляет правой половиной тел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авше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отвечает за логику, речь, чтение, пись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16360" y="2708280"/>
            <a:ext cx="158292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84720" y="3645000"/>
            <a:ext cx="2016000" cy="158436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00720" y="692280"/>
            <a:ext cx="284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е полушар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авляет левой половиной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авше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левше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отвечает за интуицию, абстракт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разное мышление, музыкальный ритм, интонацию, чувств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левше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здесь ещё и формируется центр «речи и пись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537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ёсткие межполушарные связи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левше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способств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стандартному мыш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в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левое полушария перерабатывают информацию и функционируют по-разн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-36360" y="1052640"/>
          <a:ext cx="9288360" cy="5761080"/>
        </p:xfrm>
        <a:graphic>
          <a:graphicData uri="http://schemas.openxmlformats.org/drawingml/2006/table">
            <a:tbl>
              <a:tblPr/>
              <a:tblGrid>
                <a:gridCol w="4679640"/>
                <a:gridCol w="4608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е (цифровой компьюте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е (аналоговый компьюте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Занимается анализом (разложени-ем целого на составляющие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перирует числами, буквами, зна-ками, символ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Запоминает слова, цифры, факты, даты последователь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Абстрактно-логические способы переработки информации.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Занимается синтезом (соедине-ние разрозненных сведений в еди-ное   цело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перирует аналогиями, образа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хватывает всю ситуация сразу    и быстро. Мышление образами, ин-стинктами, ощущениями, эмоц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Наглядно-образные и наглядно- действенные способы переработки информаци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0" y="-27000"/>
          <a:ext cx="9143640" cy="688464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68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Работает дискретно (прерывисто) и последовательно (поэтапно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корость переработки информа-ции  100 е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Функции будуще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При повреждении нарушается речь, страдает логика в суждени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ботает одновременно, синтети-чески, мгновенно схватывая много-численные свойства объектов, воспринимая их целост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корость переработки информа-ции 10 млн е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                               (в настоящем полушария работают вмест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Функции прошл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При повреждении резко обедняет-ся эмоциональная сторона жизни. Раскоординирование в пространст-ве. Снижается чувствительность те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177336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Внимание легче удаётся разу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гатому знаниями, свободному и оригинальн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ум, не снабженный материа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стывший, ординарны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яд ли сможет долго что-нибудь обдумыва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ильям Джейм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 хорошо устроенный лучше, чем хорошо заполне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юди с высоким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Q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вут дольш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.к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вень интеллекта  определяет образ 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1. Внимание и наблюдательность – лучшая половина интеллект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ипы внимания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ПРОИЗВОЛЬНОЕ ВНИМ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войственно в полном объеме всем людям и животн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0 с. в начале разговор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ИЗВОЛЬ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повторением успешных попыток вновь и вновь возвратиться мыслями к конкретной теме, что требует определённых волевых усил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859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Развитый человек усилием воли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способен направить свое внимание на предмет, вовсе для него не интересный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, и держать его на нем, пока не закрепит в своей памяти нужные сведения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Он может переносить свое внимание с более интересного предмета на менее интересный одним лишь усилием воли.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Умение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человека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 концентрировать своё  внимание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казывает  большее влияние  на  его  интеллект,  чем  даже способность  к  отвлечённым рассуждения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Интеллектуально развитый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человек почти всегда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находит в каждом предмете что-то интересное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, что и облегчает возможность сосредоточить на нем свое внимани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Неразвитый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человек, едва обладающий волевым вниманием, почти всегда бывает во власти посторонних впечатлений как маленький ребёнок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77080" y="2708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876720" y="2133720"/>
            <a:ext cx="73080" cy="7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907560"/>
            <a:ext cx="8007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вним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</a:t>
            </a: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удерж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ъекта в течение определенного времени, то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наблюдательно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ключает ещ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изучение, анали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ъ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800748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 может заниматься одновременно лишь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дним дел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но способен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ходить от одного дела к другом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 поразительной быстротой, которая заставляет предполагать, что внимание разделяется человеком между двумя и более де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 одновременно может концентрировать своё внимание 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граниченном числе объектов (7-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Определение и типы интеллект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ожденное или унаследованное качество, в отличие от способностей, приобретенных с помощью индивидуального опыта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(Британская энциклопедия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ожденное качество, в отличие от способностей, приобретенных в процессе обучения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ерберт Спенсер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ие врожденные познавательные способности.      (Сирил Берт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ность действовать целесообразно, думать рационально и действовать эффективно в отношении окружающей Среды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(Д. Векслер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обность решать проблемы незапрограммированным (творческим) образом.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Стивен Дж. Гулд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ность найти адекватный способ реагирования на ситуацию, связанную с окружающей средой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(Роберт Франкли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ность приобретать необходимые знания для решения новых проблем; уровень интеллекта измеряется скоростью, с которой человек решает проблемы.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Дональд Штерне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41554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52 ведущих психолога мира, в 1994 г. опубликовали следующее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теллект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существует как наиболее общая умственная способность, включающая способности к логическому мышлению, постановке цели, планированию, решению проблем, абстрактному мышлению, восприятию сложных идей, быстрому обучению и обучению на основе опы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8:52:19Z</dcterms:created>
  <dc:creator>Maxx</dc:creator>
  <dc:description/>
  <dc:language>en-US</dc:language>
  <cp:lastModifiedBy>Тома</cp:lastModifiedBy>
  <dcterms:modified xsi:type="dcterms:W3CDTF">2007-09-10T11:35:34Z</dcterms:modified>
  <cp:revision>29</cp:revision>
  <dc:subject/>
  <dc:title>Слайд 1</dc:title>
</cp:coreProperties>
</file>