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715-A5D4-45C8-A644-8A4798D9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7BB-B009-4AD7-B585-46E98109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09A-339C-4D5D-B97A-7DEC31BD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CD9-F9E3-413C-92F3-BC4F57F3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2C0-E523-479D-9D9B-9832EC17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531-4A55-41A4-84E1-84168344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3823-9777-4F69-BF42-E289CD0F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800-B0BE-4FA1-A6B0-F661B9F2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E56-6918-44D7-B006-1AEFC1F1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FAC-7AD6-41B1-A1BF-1007101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109F-AE62-4710-98EE-D26FF81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433-0D11-4B62-A43E-5BC3E27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6EA4-5222-404C-B483-BA7D0196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Лекция № 2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Основы физиологии локального (внутриорганного) кровообращения. Основы физиологии лимфатической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гуляция мозгового кровообращ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еличина просвета сосудов зависит в основном от метаболических факторов, в частности от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напряжения СО2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капиллярах и тканях,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концентрации ионов Н+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колососудистом пространстве и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напряжения Ог.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Увеличение напряжения СО2 сопровождается выраженным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</a:rPr>
              <a:t>расширением сосудов;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так, при возрастании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двое кровоток также примерно удваивается. Действие СО2 опосредовано ионами Н+, выделяющимися при диссоциации угольной кислоты. Другие вещества, при накоплении которых увеличивается концентрация ионов Н+ (молочная кислота и прочие продукты обмена), также усиливают мозговой кровоток. При уменьшении напряжения О2 сосуды расширяются, а при повышении несколько суживаются, хотя в целом изменения напряжения О2 оказывают меньшее влияние на кровоток, чем сдвиги напряжения СО2. В сосудах мозга хорошо выражена миогенная ауторегуляция, поэтому при изменениях положения тела мозговой кровоток остается постоянны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Таким образом, кровоснабжение головного мозга регулируется преимущественно местными миогенными и метаболическими механизмами. Влияние вегетативных нервов на мозговые сосуды имеет второстепенное и пока еще до конца не выясненное 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хема перестроек кровотока при физической нагру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6912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хема обмена жидкостью между кровеносным, лимфатическим капилляром и межклеточным простран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3280" y="83880"/>
            <a:ext cx="3527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имф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человека в сутки образуется около 2-4 л лимфы, среднее содержание белка в лимфе вариабельно и составляет около 20 г/л. Давление в терминальных лимфатических капиллярах составляет около 1-2 мм рт. 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мфатические сосуды собирают лимфу из лимфатических капилляров, далее внеорганных лимфатических сосудов, крупных лимфатических стволов и протоков, которые сообщаются с венозной системой. Лимфатические сосуды имеют цилиндрическую «четкообразную» форму и содержат многочисленные клап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асть между двумя соседними клапанами называется лимфангион (содержит мышечную манжетку и область прикрепления клапана). Лимфангион является структурно-функциональной частью лимфатическ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имф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мфангион обладает спонтанной миогенной активностью. Лимфатические сосуды обладают двигательной активностью: для них характерен тонус, фазные ритмические сокращения (10-20 в минуту) и медленные волны с продолжительностью около 2-5 минут. Лимфатические сосуды получают симпатическую (вызывает сокращение лимфатических сосудов) и парасимпатическую иннервацию (вызывает как сокращение, так и расслабление лимфатических сосуд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мфатическая система представляет собой совершенную систему интерстиция, выполняющую дренажную фу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ровообращение в миокарде (начало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 покое величина коронарного кровотока у человека составляет около 5% общего минутного объема крови. При интенсивной мышечной работе коронарный кровоток может возрастать в четыре раза и примерно во столько же раз увеличивается потребление сердцем кислорода. Даже в состоянии покоя сердце извлекает из крови намного больше кислорода, чем другие органы. При содержании О2 в артериальной крови 20 мл/дл экстракция кислорода сердцем составляет около 14 мл/д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Кровообращение в миокарде (продолжение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онарный кровоток в отличие от кровообращения в других органах претерпевает значительные колебания, соответствующие периодам сердечного цикла. Эти периодические колебания обусловлены как пульсирующим характером давления в аорте, так и изменениями напряжения в стенке сердца. Под действием этого напряжения сдавливаются сосуды внутреннего и среднего слоев миокарда. В результате, кровоток в левой коронарной артерии в начале систолы полностью прекращается, и лишь в диастоле, когда напряжение в стенке миокарда падает, он достигает высокого значения. В бассейне правой коронарной артерии внутристеночное напряжение ниже, поэтому кровоток в ней изменяется в основном в соответствии с давлением в аорте. В результате увеличения внутристеночного напряжения отток крови из коронарного синуса во время систолы резко возрастает; во время диастолы он вновь понижаетс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ровообращение в миокарде (окончание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аиболее мощным стимулом для расширения коронарных сосудов служит недостаток кислорода: дилатация коронарных сосудов наступает уже при снижении содержания кислорода в крови на 5%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 химическим факторам, вызывающим расширение коронарных сосудов, относятся также аденозин - вещество, играющее важную роль в распаде макроэргических фосфорных соединений, и повышение внеклеточной концентрации ионов К+. Факторы эндотелиального происхождения, например окись азота (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), также способствуют расширению коронарных сосудов. Их выделение из эндотелия повышается при увеличении кровотока, а также под действием различных веществ (ацетилхолина, гистамина, серотонина, норадреналина и других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Были получены факты, свидетельствующие о прямом сосудосуживающем действии симпатических нервов и сосудорасширяющем парасимпатических нерв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связи с тем что обменные процессы в сердце почти целиком зависят от образования энергии в реакциях окисления, внезапное прекращение коронарного кровотока (ишемия) уже через несколько минут приводит к тяжелым нарушениям деятельности сердца. Если аноксия продолжается больше 30 минут, происходит не только нарушение функции сердца, но и необратимые структурные изменения миокард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ровообращение в легких (начало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различных отделах сосудистого русла легких артерии и вены значительно короче и диаметр их, как правило, больше по сравнению с сосудами соответствующих отделов большого круга кровообращения. Стенки крупных артерий легких относительно тонкие, мелкие же артерии имеют толстые стенки с развитым мышечным слоем. Типичных артериол (т.е. резистивных сосудов) в легочном круге кровообращения нет. Диаметр легочных капилляров составляет примерно 8 мкм. Эти капилляры широко анастомозируют, образуя очень плотную сеть вокруг альвеол, время протекания крови через легочные капилляры составляет примерно 1 с. В условиях покоя площадь поверхности капилляров составляет около 60 кв.м, а при интенсивной работе в связи с открытием нефункционирующих капилляров она может достигать 90 кв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ровообращение в легких (окончани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У здорового человека давление в легочных сосудах относительно невелико. Систолическое давление в легочной артерии равно примерно 20 мм рт. ст., диастолическое давление составляет 9 мм рт. ст., а среднее давление - 13 мм рт. ст.. Среднее давление в легочных капиллярах составляет около 7 мм рт. ст. В норме даже в капиллярах легких наблюдаются колебания давления порядка 3-5 мм рт. ст. Эти колебания распространяются с затуханием по легочным венам. В легочном кровообращении градиенты давления между артериями и капиллярами (6 мм рт. ст.) и между капиллярами и левым предсердием (1 мм рт. ст.) значительно ниже, чем в соответствующих отделах системного кровообращения. В связи с этим сопротивление в легочных сосудах также невелико - оно примерно в 10 раз меньше общего периферического сопроти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легочном кровообращении в отличие от системного кровоток сохраняет пульсирующий характер даже в капиллярах и венах (хотя его колебания и затухают) вплоть до левого предсердия. Кроме того, поскольку размеры легких изменяются, кровообращение носит различный характер во время фазы вдоха и фазы выдох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гуляция кровообращения в легк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рвная регуляция легочного кровот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очные сосуды иннервируются симпатическими сосудосуживающими волокнами. Барорецепторы легочных артерий расположены основания легочных артерий и бифуркации легочного ствола. Функции этих рецепторов и рефлексы, возникающие при их возбуждении, в основном те же, что и у рецепторов большого круга; так, повышение давления в легочных артериях приводит к рефлекторному снижению давления в большом круге, а уменьшение давления в легочных сосудах – к увеличению системного артериального давления. С другой стороны, при возбуждении барорецепторов каротидного синуса сопротивление легочных сосудов снижается, а при раздражении хеморецепторов каротидных телец в результате гипоксии эти сосуды суживаются. Сосуды малого круга иннервированы также симпатическими сосудорасширяющими и парасимпатическими холинергическими волокнами, однако функциональное значение этого пока не я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гуляция кровообращения в легк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естная  регуляция  легочного   кровоток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При снижении парциального давления О2 или повышении парциального давления СО2 возникает местное сужение сосудов легких - как мелких прекапилляров, так и посткапилляров. Благодаря этому механизму кровоток в отдельных участках легких регулируется в соответствии с вентиляцией этих участков: кровоток в хорошо вентилируемых участках повышается за счет снижения перфузии в плохо вентилируемых областях. У человека подобные механизмы начинают действовать при падении насыщения артериальной крови кислородом ниже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ый ряд химических фактор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адреналин, норадреналин, гистамин вызывают сужение легочных сосудов, хотя их эффекты часто маскируются изменениями в трансмуральном давлении, вызванными косвенным путем, за счет действия этих веществ на другие отделы кровеносного русла и на серд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зговое кровообращени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редня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орость мозгового кровотока составляет примерно 750 мл/мин (учитывая, что мозг взрослого человека имеет массу около 1500 г). Эта величина составляет 13% общего сердечного выброса. Скорость кровотока в сером веществе, богатом нейронами, значительно выше, чем в белом. При чрезвычайно интенсивном возбуждении нейронов головного мозга (например, при генерализованных судорогах) мозговой кровоток может возрастать на 50%. Возможно также увеличение кровотока в отдельных областях головного мозга при усилении их активности, однако общий мозговой кровоток при этом изменяется незнач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38:01Z</dcterms:created>
  <dc:creator>И.В. Филиппов</dc:creator>
  <dc:description/>
  <dc:language>en-US</dc:language>
  <cp:lastModifiedBy>И.В. Филиппов</cp:lastModifiedBy>
  <dcterms:modified xsi:type="dcterms:W3CDTF">2006-12-27T15:21:52Z</dcterms:modified>
  <cp:revision>17</cp:revision>
  <dc:subject>Локальное кровообращение. Лимфатическая система</dc:subject>
  <dc:title>Лекция 27</dc:title>
</cp:coreProperties>
</file>