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CAF5-6C0D-44EE-902B-850D8220D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0EB9-8CB9-4085-9DCF-17CA16524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B694-4B12-421D-802A-DD667514D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3BD1-1D1E-4AA1-B57B-9628A575A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6F1EB-8F6D-4B4F-A1A9-3E9C19113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D4719-28A0-4858-9AB3-BBBF25BE0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32956-C486-47EB-AAB9-4910182D3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C608A-C1C2-4245-9A74-9B5D0D423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B9D23-1721-449F-8056-271BC5120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B074B-0394-4430-B180-FCA32C27A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51617-CF1F-43A5-ABE3-8EAA4DBC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CA62-A72C-4337-975D-365C116AE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5DD8B-906C-4B1E-A85A-AEEACD42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6A70D-C94F-464B-8F32-47B9692E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F0951-2375-4F90-8EF6-21A129505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63F74-30DF-43BF-853E-221B03062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9A768-E1BD-4FB7-AA76-EA316ECB1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BD7B-E814-4F45-A74E-117A8D904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2AE5-4385-41EB-8942-76E36AA98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863F-86F6-4C26-B144-61ED3AA01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FEB3-C6E0-4B95-A455-0C1BE7F59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3C3A-1313-40A4-AD9E-3D06A04B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41E9-323D-4EDA-93E7-07A38EC1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4BD0-C182-499A-8C38-7C1C6892E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C15CC-4795-4D2E-AB96-09100854317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A13FA-E93F-46CA-82B0-7B56CAC77AC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СТРОИТЕЛЬСТВО ОБНОВЛЕННОЙ ФЕДЕРАЦИИ</a:t>
            </a:r>
            <a:br>
              <a:rPr sz="3600"/>
            </a:b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Нарастание противоречий между центром и регионами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Края и области, обладавшие мощным экономическим потенциалом и значительным населением, энергично протестовали против неравенства субъектов Федерации. Встал вопрос и о гарантиях прав русских, составлявших 85% населения России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Нарастание противоречий между центром и регионами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Края и области, обладавшие мощным экономическим потенциалом и значительным населением, энергично протестовали против неравенства субъектов Федерации. Встал вопрос и о гарантиях прав русских, составлявших 85% населения России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Нарастание противоречий между центром и регионами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Наибольшее беспокойство вызывало развитие ситуации в Татарстане и Чечне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Президенту Татарстана М. Ш. Шаймиеву удалось взять ситуацию под контроль. Он оговорил особый статус Татарстана в составе Российской Федерации. В феврале 1994 г. Татарстан подписал с федеральными властями договор о разграничении полномочий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Иной курс выбрало руководство Чечни. Отношения с ней приобрели крайне напряженный, драматический характер. Центральная власть постепенно склонялась к силовому решению «чеченской проблемы»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Чеченский кризис.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0 августа 1994 г. съезд чеченского народа в Грозном поддержал решение президента самопровозглашенной «Чеченской Республики Ичкерия» генерала Д. Дудаева об объявлении всеобщей мобилизации и о начале «священной 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войны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 с Россией за независимость»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Чеченский кризис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 декабря 1994 г. Президент Ельцин предъявил Дудаеву ультиматум. Одновременно российские армейские подразделения начали сосредоточиваться на границе с Чечней. Чеченские власти выполнить требования Президента отказались. 10 декабря 1994 г. регулярные части Российской армии вошли в Чечню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Чеченский кризис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К лету 1995 г. отряды сепаратистов были блокированы в горных районах республики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В январе 1996 г. в момент обострения военных действий чеченцы вновь захватили заложников, па этот раз в Дагестане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В августе 1996 г. в канун торжественного вступления Ельцина в должность Президента вооруженные формирования чеченцев атаковали Грозный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Чеченский кризис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В сентябре 1996 г. в Хасавюрте были подписаны соглашения о выводе российских войск из Чечни и проведении свободных выборов. Решение вопроса о будущем Чечни откладывалось на пять лет. Хасавьюртские соглашения были неоднозначно восприняты в российском обществе, но боевые действия после них били прекращены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Чеченский кризис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Война в Чечне стала крупнейшим военным столкновением на территории нашей страны со времен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Великой Отечественной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 войны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Результаты федеративного строительства в 90-е гг.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Удалось воссоздать Российскую Федерацию, сохранить ее целостность, утвердить новые принципы федеративного устройства страны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Роль федерального центра в отношениях с регионами была ослаблена. Между тем национальный вопрос приобретал все большее значение. Оживилось русское национальное движение, лидеры которого выражали недовольство невниманием власти к проблемам русских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Снижение экономического и политического значения центра ослабляло связи между регионами, создавало ощущение, что все вопросы можно решить и без участия федеральной власти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Неудача в Чечне вдохновляла сепаратистов в других регионах страны. Возникла острая необходимость изменения национальной 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политики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Содержание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Verdana"/>
              </a:rPr>
              <a:t>1.Народы и регионы России накануне и после распада СССР.  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Verdana"/>
              </a:rPr>
              <a:t>2.Федеративный договор.   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Verdana"/>
              </a:rPr>
              <a:t>3.Конституция 1993 г. о принципах федеративного устройства России.   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Verdana"/>
              </a:rPr>
              <a:t>4.Нарастание противоречий между центром и регионами. 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Verdana"/>
              </a:rPr>
              <a:t>5.Чеченский </a:t>
            </a:r>
            <a:r>
              <a:rPr b="1" i="1" lang="en-US" sz="2500" spc="-1" strike="noStrike">
                <a:solidFill>
                  <a:srgbClr val="000000"/>
                </a:solidFill>
                <a:latin typeface="Verdana"/>
              </a:rPr>
              <a:t>кризис</a:t>
            </a:r>
            <a:r>
              <a:rPr b="0" i="1" lang="en-US" sz="2500" spc="-1" strike="noStrike">
                <a:solidFill>
                  <a:srgbClr val="000000"/>
                </a:solidFill>
                <a:latin typeface="Verdana"/>
              </a:rPr>
              <a:t>.   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Verdana"/>
              </a:rPr>
              <a:t>6.Результаты федеративного строительства в 90-е гг.  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66"/>
                </a:solidFill>
                <a:uFillTx/>
                <a:latin typeface="Arial"/>
              </a:rPr>
              <a:t>Народы и регионы России накануне и после распада СССР.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Строительство обновленной Федерации было одной из самых неотложных и очень трудных задач, стоявших перед нашей страной в начале 90-х гг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В канун президентских выборов 1991 г. Б. Н. Ельцин призвал региональных руководителей брать как можно больше самостоятельности и заключить Федеративный договор с центром. Это заявление дало ему поддержку на выборах, но вместе с тем усилило сепаратистские тенденции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66"/>
                </a:solidFill>
                <a:uFillTx/>
                <a:latin typeface="Arial"/>
              </a:rPr>
              <a:t>Народы и регионы России накануне и после распада СССР.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Национальные движения Татарии, Башкирии, Якутии, Бурятии, Тувы, Чечни и др. на своих съездах поставили вопрос о выходе из состава РСФСР или о заключении с центром договоров об особом статусе их республик. В ноябре 1992 г. Общенациональный конгресс чеченского народа заявил о разделении Чечено-Ингушетии на Чечню и Ингушетию и о выходе Чечни из состава 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России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. В Чечне началось формирование собственных воинских частей и отрядов народного ополчения. Перестали действовать конституционные органы власти, а Верховный Совет был распущен. В Татарии в противовес Верховному Совету был созван курултай татарского народа. В начале февраля 1992 г. он провозгласил государственную независимость Татарстана от России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66"/>
                </a:solidFill>
                <a:uFillTx/>
                <a:latin typeface="Arial"/>
              </a:rPr>
              <a:t>Народы и регионы России накануне и после распада СССР.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Все это заставляло центральную власть ускорить заключение Федеративного договора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Предстоял долгий и трудный процесс «собирания России»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Федеративный договор.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31 марта 1992 г. был подписан Федеративный договор представителями всех республик, краев и областей в составе РСФСР, кроме Татарстана и Чечни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66"/>
                </a:solidFill>
                <a:uFillTx/>
                <a:latin typeface="Arial"/>
              </a:rPr>
              <a:t>Конституция 1993 г. о принципах федеративного устройства России.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Конституция 1993 года провозгласила Россию федеративным государством. Она закрепила основные принципы федеративного устройства страны: государственная целостность России, единство системы государственной власти, разграничение полномочий между федеральными органами власти и органами власти субъектов Федерации, равноправие и право на самоопределение проживающих в ней народов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Нарастание противоречий между центром и регионами.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Федеративный договор и Конституция не устранили всех противоречий в государственном устройстве России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)Неравенство субъектов Федерации сохранялось. 2)Российская Федерация состоит из республик, краев, областей, городов федерального значения, автономной области и автономных округов. Они равноправны, но это равенство оставалось во многом формальным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3)Полномочия, ответственность, возможности одних регионов России существенно отличались от полномочий и возможностей других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Нарастание противоречий между центром и регионами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Принятые в некоторых республиках государственные акты не только противоречили Конституции и федеральным законам, но и нарушали принципы федеративного устройства России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6T12:21:05Z</dcterms:created>
  <dc:creator>ДАН</dc:creator>
  <dc:description/>
  <dc:language>en-US</dc:language>
  <cp:lastModifiedBy>ДАН</cp:lastModifiedBy>
  <dcterms:modified xsi:type="dcterms:W3CDTF">2013-05-19T09:25:30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