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D5B3-C74F-453E-A5DD-D508B1AF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675A-C853-481D-BACD-757F7587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7135-5247-466D-8943-E1D8104A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747F-9404-4F6B-BF56-E1A56E81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2A6E-E55C-4EF9-BC37-211229BC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12FB-C842-435C-B054-39223489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E9C4-6C6A-4B73-9FC7-6BF61E62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8786-37B9-44C5-A3C7-CFC415B8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843B-236E-42D2-8196-A2D51B28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C20E-F851-4771-9BA1-FA08127A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4A57-3921-41E4-B7D1-501AC0FB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AD9B-F0D8-4FE9-AB99-8179D114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76CE-4117-441D-9013-9EAE6B12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C176-2CF5-400A-B058-E2B62755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575F-5D73-4F55-995C-4D8016FD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D24E-B5D2-4A40-A436-C9CFFE36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2C75-29E4-4B3E-A255-B79D6538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6DC8-708C-4DB3-A86C-8F1C5961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C38D-2AB8-4A68-8F4B-28400172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7368-EABA-4266-94DF-D06FC29E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AABD-8FD8-4E80-88BE-ACEB2EFD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E578-E305-4FB6-946C-F2F27FE9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19C-CA2F-4332-BDE1-65F58428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3FBB-1370-40C5-83F8-19337E78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BAF7-A60C-4F12-A266-82B1CB642C4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3260-8EB4-4487-B326-69570EFAB9F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Жорж Бизе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403280" y="764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(1838-1875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2771640" y="1773360"/>
            <a:ext cx="3565800" cy="471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лекса́ндр Сеза́р Леопо́льд Бизе́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ександр Сезар Леопольд Бизе – полное имя композитора. При крещении он получил имя Жорж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.Бизе не только французский композитор, он еще и автор оркестровых произведений, романсов, фортепианных пьес, а также опер, самой известной из которых стала «Кармен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Биограф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зе родился 25 октября 1838 года в Париже в семье учителя пения. Он был зарегистрирован под именем Александр – Сезар -Леопольд Бизе, но при крещении получил имя Жорж, под которым и был известен в дальнейшем. Бизе можно назвать вундеркиндом: поступил в Парижскую консерваторию за две недели до того, как ему исполнилось десять л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 1857 году он разделил с Шарлем Лекоком премию на конкурсе, организованном Жаком Оффенбахом, за оперетту «Чудесный доктор» и получил Римскую премию, что позволило ему прожить в Риме в течение трёх лет, сочиняя музыку и занимаясь своим образованием. Отчётным произведением (написание которого было обязательным для всех лауреатов Римской премии) стала опера «Дон Прокопио». За исключением проведённого в Риме периода, Бизе прожил всю свою жизнь в Париж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абота над операм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 пребывания в Риме он вернулся в Париж, где посвятил себя написанию музыки. В 1863 году он написал оперу «Искатели жемчуга». В этот же период он написал «Пертскую красавицу», музыку к пьесе Альфонса Доде «Арлезианка» и произведение для фортепиано «Детские игры». Также он написал романтическую оперу «Джамиле», обычно рассматриваемую, как предшественницу «Кармен». Сам Бизе забыл о ней, и о симфонии не вспоминали до 1835 года, когда она была обнаружена в библиотеке консерватории. При первом же представлении эта работа получила похвалы раннего романтического периода. Симфония замечательна своим стилистическим сходством с музыкой Франца Шуберта, которая в тот период почти не была известна в Париже, за исключением, быть может, нескольких песен. В 1874—1875 годах композитор работал над «Кармен». Премьера оперы состоялась в парижском театре «Опера-Комик» 3 марта 1875 года и закончилась провалом. Свою Вторую симфонию, «Рим», Бизе не заверши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ичная жизн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 июня 1869 года Бизе женился на младшей дочери своего покойного учителя Жака Фроменталя Галеви — Женевьев Галеви, которая приходилась кузиной либреттисту Бизе Людовику Галеви. Их сын — Жак Бизе , названный в честь деда, был близким другом, одноклассником и конфидантом Марселя Пруста, а сама Женевьев послужила одним из прототипом куртизанки Одетты де Креси и герцогини Орианы де Германт в многотомном романе Пруста «В поисках утраченного времени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мер Жорж Бизе 3 июня 1875 года от сердечного приступ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пе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Анастасия и Дмитрий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Дон Прокопио» (опера-буффа, на итальянском языке, 1858—1859, поставлена 1906, Монте-Карло), существует также в оркестровке Леонида Фейги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Любовь-художница» (фр. </a:t>
            </a:r>
            <a:r>
              <a:rPr b="0" i="1" lang="fr-FR" sz="1600" spc="-1" strike="noStrike">
                <a:solidFill>
                  <a:srgbClr val="ffffff"/>
                </a:solidFill>
                <a:latin typeface="Tahoma"/>
              </a:rPr>
              <a:t>L’Amour peintre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либретто Бизе, по Ж. Б. Мольеру, 1860, не окончена, не опубликована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Гузла Эмира» (комическая опера, 1861—62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Искатели жемчуга» (фр. </a:t>
            </a:r>
            <a:r>
              <a:rPr b="0" i="1" lang="fr-FR" sz="1600" spc="-1" strike="noStrike">
                <a:solidFill>
                  <a:srgbClr val="ffffff"/>
                </a:solidFill>
                <a:latin typeface="Tahoma"/>
              </a:rPr>
              <a:t>Les Pecheurs de perle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1862—63, поставлена 1863, «Театр лирик», Париж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Иван Грозный» (фр. </a:t>
            </a:r>
            <a:r>
              <a:rPr b="0" i="1" lang="fr-FR" sz="1600" spc="-1" strike="noStrike">
                <a:solidFill>
                  <a:srgbClr val="ffffff"/>
                </a:solidFill>
                <a:latin typeface="Tahoma"/>
              </a:rPr>
              <a:t>Ivan le Terrible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1865, поставлена, 1946, Замок Мюринген, Вюртемберг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Никола Фламель» (1866?, фрагменты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Пертская красавица» (фр. </a:t>
            </a:r>
            <a:r>
              <a:rPr b="0" i="1" lang="fr-FR" sz="1600" spc="-1" strike="noStrike">
                <a:solidFill>
                  <a:srgbClr val="ffffff"/>
                </a:solidFill>
                <a:latin typeface="Tahoma"/>
              </a:rPr>
              <a:t>La Jolie fille du Perth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1866, поставлена 1867, «Театр лирик», Париж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Кубок Фульского короля» (фр. </a:t>
            </a:r>
            <a:r>
              <a:rPr b="0" i="1" lang="fr-FR" sz="1600" spc="-1" strike="noStrike">
                <a:solidFill>
                  <a:srgbClr val="ffffff"/>
                </a:solidFill>
                <a:latin typeface="Tahoma"/>
              </a:rPr>
              <a:t>La Coupe du roi de Thule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1868, фрагменты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Кларисса Гарлоу» (комическая опера, 1870—71, фрагменты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Каландарь» (комическая опера, 1870), Гризельда (комическая опера, 1870—71, не окончена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Джамиле» (комическая опера, 1871, поставлена 1872, театр «Опера комик», Париж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Дон Родриго» (1873, не окончена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Кармен» (драматическая опера, 1873—74, поставлена 1875, театр «Опера комик», Париж; речитативы написаны Э. Гиро, после смерти Бизе, для постановки в Вене, 1875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перет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стасия и Дмитр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льбрук в поход собрался (Malbrough s’en va-t-en guerre, 1867, театр «Атеней», Париж; Бизе принадлежит 1-е действие, другие 3 действия — И. Э. Легуи, Э. Жонасу, Л. Делибу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ль-си-ре-пиф-пан (1872, театр «Шато-д’о», П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гел и Товия (L’Ange et Tobia, около 1855-5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лоиза де Монфор (1855-5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чарованный рыцарь (Le Chevalier enchanté, 1855-5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рминия (1855—185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вращение Виргинии (Le Retour de Virginie, около 1855—185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вид (185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ловис и Клотильда (185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ктор Миракль (185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сня веку (Carmen seculaire, по Горацию, 186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енитьба Прометея (Les Noces de Promethee, 1867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2:31:33Z</dcterms:created>
  <dc:creator>Ирина</dc:creator>
  <dc:description/>
  <dc:language>en-US</dc:language>
  <cp:lastModifiedBy>Ирина</cp:lastModifiedBy>
  <dcterms:modified xsi:type="dcterms:W3CDTF">2012-12-04T12:59:16Z</dcterms:modified>
  <cp:revision>2</cp:revision>
  <dc:subject/>
  <dc:title>Жорж Бизе</dc:title>
</cp:coreProperties>
</file>