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CF0-D0FD-4044-9C21-709BACF7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DBE-80CB-4470-A222-1D97C651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FE6-E130-4D51-981C-FE954D9E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A91-9DF4-4AF5-81EF-591A8F20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0B6-4B25-4766-A323-D51E61B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07-94D9-4272-AC2C-B317725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285-BD18-4E18-9CDC-9B7883A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30D-DE24-4A30-8600-ADB2B1F5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760-EBE4-480C-8B6E-0AB96708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E82-970A-409D-920B-A5535D2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23A-0BD8-4CFF-837D-E24FAE3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EB6-98E0-4E6C-AFC5-504B1F1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5d4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0CF2-DF87-494F-B4DF-51D3D9DE3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Жан Жак Русс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64347"/>
          <p:cNvPicPr/>
          <p:nvPr/>
        </p:nvPicPr>
        <p:blipFill>
          <a:blip r:embed="rId1"/>
          <a:stretch/>
        </p:blipFill>
        <p:spPr>
          <a:xfrm>
            <a:off x="2340000" y="2205000"/>
            <a:ext cx="4176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a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уссо решил проблему эффективности средств контроля за деятельностью правительства, обосновал разумность принятия законов самим народом, рассмотрел проблему социального неравенства и признал возможность её законодательного решен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 без влияния идей Руссо возникли такие новые демократические институты, как референдум, народная законодательная инициатива и такие политические требования, как возможное сокращение срока депутатских полномочий, обязательный мандат, отзыв депутатов избира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c6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Новая Элоиз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«Письме к д'Аламберу» Руссо называет «Клариссу Гарло» лучшим из романов. Его «Новая Элоиза» написана под очевидным влиянием Ричардсона. Руссо не только взял аналогичный сюжет — трагическую судьбу героини, погибающей в борьбе целомудрия с любовью или соблазном, но и усвоил себе самый стиль чувствительного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овая Элоиза» имела невероятный успех; ею везде зачитывались, над нею проливали слезы, обоготворяли её ав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а ром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пистолярная; он состоит из 163 писем и эпилога. В настоящее время эта форма в значительной степени умаляет интерес чтения, но читателям XVIII века она нравилась, так как письма представляли лучший повод к бесконечным рассуждениям и излияниям во вкусе того времени. То же самое можно было сказать и о произведениях Сэмюэла Ричардс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ecf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Благодарность – долг, который надо оплатить, но который никто не имеет права ожида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3205f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205f1"/>
                </a:solidFill>
                <a:latin typeface="Monotype Corsiva"/>
              </a:rPr>
              <a:t>Важно знать не то, что есть, а то, что полез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Вам не удастся никогда создать мудрецов, если вы будете убивать в детях шалун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3205f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205f1"/>
                </a:solidFill>
                <a:latin typeface="Monotype Corsiva"/>
              </a:rPr>
              <a:t>Вся нравственность человека заключается в его намерения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Воздержанность и труд - вот два истинных врача человека: труд обостряет аппетит, а воздержанность мешает злоупотреблять и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ecfa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850"/>
              </a:spcBef>
              <a:buClr>
                <a:srgbClr val="3205f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205f1"/>
                </a:solidFill>
                <a:latin typeface="Monotype Corsiva"/>
              </a:rPr>
              <a:t>Деньги, которыми обладаешь, - орудие свободы; те, за которыми гонишься, - орудие рабств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Единственное искусство быть счастливым - сознавать, что счастье в твоих рука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50"/>
              </a:spcBef>
              <a:buClr>
                <a:srgbClr val="3205f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205f1"/>
                </a:solidFill>
                <a:latin typeface="Monotype Corsiva"/>
              </a:rPr>
              <a:t>Если мы будем искать счастья, не зная, где оно, мы рискуем с ним разойтис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Жить - это не значит дышать, это значит действовать. Не тот человек больше всего жил, который может насчитать больше лет, а тот, кто больше всего чувствовал жизн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Жан Жак Руссо – французский писатель, мыслитель. Разработал прямую форму правления народа государством — прямую демократию, которая используется и по сей день, например в Швейцарии. Также дилетант-музыковед, композитор и бота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Жан Жак Руссо родился 28 июня 1712 года в Женеве во французской семь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Мать, Сюзанна Бернар, внучка женевского пастора, умерла при родах. Отец — Исаак Руссо (1672—1747), часовщик и учитель танцев, остро переживал потерю жены. Жан-Жак был любимым ребёнком в сем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c64"/>
            </a:gs>
            <a:gs pos="50000">
              <a:srgbClr val="ffffff"/>
            </a:gs>
            <a:gs pos="100000">
              <a:srgbClr val="f1fc6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1267920"/>
            <a:ext cx="332244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, где родился Русс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00px-Rousseau_Geneve_House"/>
          <p:cNvPicPr/>
          <p:nvPr/>
        </p:nvPicPr>
        <p:blipFill>
          <a:blip r:embed="rId1"/>
          <a:stretch/>
        </p:blipFill>
        <p:spPr>
          <a:xfrm>
            <a:off x="0" y="189000"/>
            <a:ext cx="4594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205f1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3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Жена и дет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urlz MT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urlz MT"/>
              </a:rPr>
              <a:t>Не имея средств к существованию, Руссо вступил в связь со служанкой гостиницы, в которой жил, Терезой Левассер, молодой крестьянкой, некрасивой, неграмотной, ограниченной — она не могла научиться узнавать, который час — и весьма вульгарной. Он признавался, что никогда не питал к ней ни малейшей любви, но обвенчался с ней спустя двадца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urlz MT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urlz MT"/>
              </a:rPr>
              <a:t>Вместе с ней он должен был держать у себя её родителей и их родню. У него было 5 детей, которые все были отданы в воспитательный дом. Руссо оправдывался тем, что не имел средств их вскормить, что они не давали бы ему спокойно заниматься и что он предпочитает сделать из них крестьян, чем искателей приключений, каким был он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Monotype Corsiva"/>
              </a:rPr>
              <a:t>Издание романов</a:t>
            </a:r>
            <a:br>
              <a:rPr sz="3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1761 г. появилась в печати «Новая Элоиза», весной следующего года — «Эмиль», а несколько недель спустя — «Общественный договор».Во время печатания «Эмиля» Руссо был в большом страхе: он имел сильных покровителей, но подозревал, что книгопродавец продаст рукопись иезуитам и что его враги исказят её текст. «Эмиль», однако, вышел в свет; гроза разразилась несколько позж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арижский парламент, готовясь произнести приговор над иезуитами, счёл нужным осудить и философов, и приговорил «Эмиля», за религиозное вольнодумство и неприличия, к сожжению рукой палача, а автора его — к заключению. Принц Конти дал об этом знать в Монморанси; герцогиня Люксембургская велела разбудить Руссо и уговаривала его немедленно уехать. Руссо, однако, промешкал целый день и едва не стал жертвой своей медленности; на дороге он встретил посланных за ним судебных приставов, которые с ним вежливо раскла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етом 1777 г. состояние здоровья Руссо стало внушать его друзьям опасения. Весною 1778 г. один из них, маркиз де Жирарден, увёз его к себе на дачу в Шато де Эрменонвиль. В конце июня для него был устроен концерт на острове среди парка; Руссо просил похоронить его в этом месте. 2 июля Руссо внезапно скончался на руках Тер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го желание было исполнено; его могила на острове «Ив» стала привлекать сотни поклонников, видевших в нём жертву общественной тирании и мученика гуманности — представление, выраженное юношей Шиллером в известных стихах, сопоставляющих с Сократом, погибшем от софистов, Руссо, пострадавшего от христиан, которых он пытался сделать людьми. Во время Конвента тело Руссо, одновременно с останками Вольтера, было перенесено в Пантеон, но 20 лет спустя, во время реставрации, два фанатика тайно ночью похитили прах Руссо и бросили его в яму с известью. Однако, есть другой факт смерти Руссо. В швейцарском городе Биле/Бьенне, недалеко от Невшателя, в центре старого города, на доме 12 по улице Унтергассе, висит табличка: «В этом доме Ж. Ж. Руссо нашел свою кончину в октябре 1765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4e3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05f1"/>
                </a:solidFill>
                <a:latin typeface="Times New Roman"/>
              </a:rPr>
              <a:t>Надгробие Руссо в парижском Панте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Russo_Panteon"/>
          <p:cNvPicPr/>
          <p:nvPr/>
        </p:nvPicPr>
        <p:blipFill>
          <a:blip r:embed="rId1"/>
          <a:stretch/>
        </p:blipFill>
        <p:spPr>
          <a:xfrm>
            <a:off x="826920" y="260280"/>
            <a:ext cx="731520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a7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274680"/>
            <a:ext cx="6624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лавные философские произведения Руссо, где изложены его общественные и политические идеалы: «Новая Элоиза», «Эмиль» и «Общественный договор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уссо впервые в политической философии попытался объяснить причины социального неравенства и его виды, иначе осмыслить договорный способ происхождения государства. Он полагал, что государство возникает в результате общественного договора. Согласно общественному договору верховная власть в государстве принадлежит всему народ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уверенитет народа неотчуждаем, неделим, непогрешим и абсолюте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кон как выражение общей воли выступает гарантией индивидов от произвола со стороны правительства, которое не может действовать, нарушая требования закона. Благодаря закон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 выражению общей воли можно добиться и относительного имущественного равенст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usseau-2"/>
          <p:cNvPicPr/>
          <p:nvPr/>
        </p:nvPicPr>
        <p:blipFill>
          <a:blip r:embed="rId1"/>
          <a:stretch/>
        </p:blipFill>
        <p:spPr>
          <a:xfrm>
            <a:off x="0" y="0"/>
            <a:ext cx="2317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9:32:27Z</dcterms:created>
  <dc:creator>User</dc:creator>
  <dc:description/>
  <dc:language>en-US</dc:language>
  <cp:lastModifiedBy>Valerii</cp:lastModifiedBy>
  <dcterms:modified xsi:type="dcterms:W3CDTF">2016-06-06T10:44:13Z</dcterms:modified>
  <cp:revision>2</cp:revision>
  <dc:subject/>
  <dc:title>Жан Жак Руссо</dc:title>
</cp:coreProperties>
</file>