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BD3-D132-4C1C-B588-034A626C83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4C7-05DA-40F7-98E5-0B856836E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7EF-FACE-4606-90BB-F95EAEF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700-6CBD-44B9-B8EC-FCC8A793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1EC-59BE-485F-B23C-E39C60E0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76F-0374-4013-9485-E40B1C7C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E4A-FE11-43A1-941D-7483E9E4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C6BA-77F3-48D8-9935-5F2F8004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FF12-490A-4589-B89C-AA4D7B6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9022-C6BF-4609-8E3D-9E3F2AF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C06-239F-4731-A979-91C1E65D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06F-2240-4905-A288-BE85798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37E9-A8AD-49AE-A9BF-D796B4C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702-18C4-4CEB-B30B-13CFE70E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02A1-7FF8-4EFA-9B23-E97F885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44CB-F0C6-4164-AED2-C9E857B4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63C-0717-4D5B-BC7B-549887A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F6AB-0578-4F53-B674-21813757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49C-860B-4FA3-85C7-C950E734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FC5-EFB6-43BD-8D64-3C14B8E1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9F4-8DA4-42B5-B5B4-BE8F54D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B8D-9666-472C-8C59-911580A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D5B-77B1-42BB-B75A-0C7E049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653-CAE1-4FDC-9918-FC7E4BE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DAC-8B4F-4F01-9B62-A0DBA09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F57-EF59-44C2-AD69-00A10D6D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FC9-0B4D-4757-81DD-70D266FAB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0B8-6E15-4806-B3F7-06F8B6EBD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0000" y="5084280"/>
            <a:ext cx="474804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Кабанов М.В.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Группа 1011(ГМУ)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2013/2014 уч.год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г. Санкт-Петербур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-360"/>
            <a:ext cx="64008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ОУ ,, Институт Правоведения и предпринимательства,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79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ЦИЗМ – ГЕРМАНСКИЙ  ФАШ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56000" y="134136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оциал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-национализм по су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ойны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за мировое господ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рийцы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– избранная раса госп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трогая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централизация и милитари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оталитарное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пользовали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раскол рабочего дви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льт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насилия и вож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тисемитизм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и антикоммуни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Орёл фашистов пр"/>
          <p:cNvPicPr/>
          <p:nvPr/>
        </p:nvPicPr>
        <p:blipFill>
          <a:blip r:embed="rId1"/>
          <a:stretch/>
        </p:blipFill>
        <p:spPr>
          <a:xfrm>
            <a:off x="3348000" y="4724280"/>
            <a:ext cx="3024360" cy="2032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уман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уман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мировоззрение , в центре которого находится идея человека как высшей ц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Users\Максим\Desktop\original.jpg"/>
          <p:cNvPicPr/>
          <p:nvPr/>
        </p:nvPicPr>
        <p:blipFill>
          <a:blip r:embed="rId1"/>
          <a:stretch/>
        </p:blipFill>
        <p:spPr>
          <a:xfrm>
            <a:off x="6783480" y="2938320"/>
            <a:ext cx="2360520" cy="390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Максим\Desktop\48760946.png"/>
          <p:cNvPicPr/>
          <p:nvPr/>
        </p:nvPicPr>
        <p:blipFill>
          <a:blip r:embed="rId2"/>
          <a:stretch/>
        </p:blipFill>
        <p:spPr>
          <a:xfrm>
            <a:off x="14400" y="4016520"/>
            <a:ext cx="527832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Наталья\Desktop\0_650c3_ba16aadf_XL.jpg"/>
          <p:cNvPicPr/>
          <p:nvPr/>
        </p:nvPicPr>
        <p:blipFill>
          <a:blip r:embed="rId1"/>
          <a:stretch/>
        </p:blipFill>
        <p:spPr>
          <a:xfrm>
            <a:off x="214200" y="214200"/>
            <a:ext cx="2264040" cy="294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Наталья\Desktop\pic27166841.jpg"/>
          <p:cNvPicPr/>
          <p:nvPr/>
        </p:nvPicPr>
        <p:blipFill>
          <a:blip r:embed="rId2"/>
          <a:stretch/>
        </p:blipFill>
        <p:spPr>
          <a:xfrm>
            <a:off x="6643800" y="214200"/>
            <a:ext cx="2160360" cy="3000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5"/>
          <p:cNvSpPr/>
          <p:nvPr/>
        </p:nvSpPr>
        <p:spPr>
          <a:xfrm>
            <a:off x="437400" y="32148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А.С.Пушкин - поэ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6364800" y="328608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Ю.А.Гагарин- космонав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1\Desktop\main.jpg"/>
          <p:cNvPicPr/>
          <p:nvPr/>
        </p:nvPicPr>
        <p:blipFill>
          <a:blip r:embed="rId3"/>
          <a:stretch/>
        </p:blipFill>
        <p:spPr>
          <a:xfrm>
            <a:off x="3286080" y="214200"/>
            <a:ext cx="2357640" cy="30304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9"/>
          <p:cNvSpPr/>
          <p:nvPr/>
        </p:nvSpPr>
        <p:spPr>
          <a:xfrm>
            <a:off x="3986640" y="328608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Анна Курников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теннисис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Users\1\Desktop\1283105_html_m1668a420.jpg"/>
          <p:cNvPicPr/>
          <p:nvPr/>
        </p:nvPicPr>
        <p:blipFill>
          <a:blip r:embed="rId4"/>
          <a:stretch/>
        </p:blipFill>
        <p:spPr>
          <a:xfrm>
            <a:off x="500040" y="3714840"/>
            <a:ext cx="1643040" cy="24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Наталья\Desktop\pugacheva_200907291435150.jpg"/>
          <p:cNvPicPr/>
          <p:nvPr/>
        </p:nvPicPr>
        <p:blipFill>
          <a:blip r:embed="rId5"/>
          <a:stretch/>
        </p:blipFill>
        <p:spPr>
          <a:xfrm>
            <a:off x="3857760" y="3929040"/>
            <a:ext cx="2071440" cy="1974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2"/>
          <p:cNvSpPr/>
          <p:nvPr/>
        </p:nvSpPr>
        <p:spPr>
          <a:xfrm>
            <a:off x="3793320" y="607212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А.Б.Пугачева - пев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6950880" y="607212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М.В.Ломоносов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поэт и уче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:\Users\1\Desktop\s10-1.jpg"/>
          <p:cNvPicPr/>
          <p:nvPr/>
        </p:nvPicPr>
        <p:blipFill>
          <a:blip r:embed="rId6"/>
          <a:stretch/>
        </p:blipFill>
        <p:spPr>
          <a:xfrm>
            <a:off x="6929280" y="3714840"/>
            <a:ext cx="1716120" cy="22464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5"/>
          <p:cNvSpPr/>
          <p:nvPr/>
        </p:nvSpPr>
        <p:spPr>
          <a:xfrm>
            <a:off x="447840" y="621504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Calibri"/>
              </a:rPr>
              <a:t>древнегреческий вр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1214280" y="278604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ни подарили  людям свой талант, знания, твор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Как распорядиться жизнью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просите себя сами! Вспомните о своих предках , о своих пращурах! Помните , кто вы есть! Не забывайте своих корней и живите ДОСТОЙНОЙ жизнью , чтобы ваши Прадеды не стыдились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1\Desktop\00475467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2000160" y="2000160"/>
            <a:ext cx="607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nstantia"/>
              </a:rPr>
              <a:t>Жизнь человека – высшая нравственная ц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Тема : Жизнь как высшая нравственная цен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5229360"/>
            <a:ext cx="43959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bbb59"/>
                </a:solidFill>
                <a:latin typeface="Calibri"/>
              </a:rPr>
              <a:t>Этика Государственного и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равственные ценности челове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хема 3" descr=""/>
          <p:cNvPicPr/>
          <p:nvPr/>
        </p:nvPicPr>
        <p:blipFill>
          <a:blip r:embed="rId1"/>
          <a:stretch/>
        </p:blipFill>
        <p:spPr>
          <a:xfrm>
            <a:off x="201600" y="914400"/>
            <a:ext cx="85820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иту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 на жизнь (ст. 20 Конституции Росс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 на жизнь является важнейшим личным правом человека, приобретаемым им в силу факта его р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юди часто задумываютс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, Зачем они живут ? ,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духовная формация, особый тип отношения человека к миру и самому себе, обусловленный представлениями об инобытии как доминирующей по отношению к обыденному существованию реа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Самопозна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мысление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25920"/>
            <a:ext cx="70009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  2  с  половиной  тысячи  лет  назад  в  Гималаях жил  человек,  которого  звали  Будда – «просветленный».  Он  был  царевичем,  но оставил  свое  царство,  чтобы  путешествовать.  Узнавая  мир,  он  познал  много  горя  и зла  среди  людей.  Будда  захотел научить  людей  быть  счастливыми,  показать  им  путь  к  счастью.  Будда  считал,  что  к  счастью  нужно  идти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 дороге  добрых  мыслей,  добрых  слов  и  добрых  дел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да  учит  на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Не  дел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ругим  того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 сам  считаеш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ло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1\Desktop\0_80205_1611dc98_XL.jpg"/>
          <p:cNvPicPr/>
          <p:nvPr/>
        </p:nvPicPr>
        <p:blipFill>
          <a:blip r:embed="rId1"/>
          <a:stretch/>
        </p:blipFill>
        <p:spPr>
          <a:xfrm>
            <a:off x="3071880" y="2714760"/>
            <a:ext cx="5689440" cy="381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1\Desktop\1296727004_budda.jpg"/>
          <p:cNvPicPr/>
          <p:nvPr/>
        </p:nvPicPr>
        <p:blipFill>
          <a:blip r:embed="rId2"/>
          <a:stretch/>
        </p:blipFill>
        <p:spPr>
          <a:xfrm>
            <a:off x="7077240" y="0"/>
            <a:ext cx="20667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0" y="0"/>
            <a:ext cx="4714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 в  то  же  время  в  царстве  Лу  в  Китае  жил  великий  философ  Конфуций  (или  учитель  Кун).  Он  тоже  хотел  научить  людей  правильно  жить,  не  совершать  ошибок,  не  делать  зла.  Он  говорил,  что  хочет  добиться  того,  «чтобы  старики  жили  в  покое,  все  друзья  были  верными,  а  молодежь  любила  старши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720" y="4645800"/>
            <a:ext cx="56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уций  говорил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Только  добро  ведет  к  счасть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C:\Users\1\Desktop\kitayskiy-mudrets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3264480" y="324468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мысление самого себ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5:40:54Z</dcterms:created>
  <dc:creator>Kesha Krutou</dc:creator>
  <dc:description/>
  <dc:language>en-US</dc:language>
  <cp:lastModifiedBy>Home</cp:lastModifiedBy>
  <dcterms:modified xsi:type="dcterms:W3CDTF">2016-01-04T10:13:53Z</dcterms:modified>
  <cp:revision>8</cp:revision>
  <dc:subject/>
  <dc:title>Кабанов М.В. Группа 1011(ГМУ) 2013/2014 уч.год г. Санкт-Петербург</dc:title>
</cp:coreProperties>
</file>