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11CE6-6A59-4EEE-9A97-4770E8772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8A7A-4E85-4359-A662-2F8CF2E7F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11D18-F7CC-4888-A4B8-90AD11E93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88BA2-4B12-45CC-88BA-8166CD0C1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31305-5C63-471A-B75E-800FA19B9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8B2AC-7C74-4749-B8E1-95A9433AC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DCA9A-B731-4549-B5DA-8B4AEF5E0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591FE-B466-4929-9A0C-04687B434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28558-689E-4A47-A9BF-E4F931998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846D5-269B-41ED-872B-0D9D47936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15607-855A-46E2-9570-4F8CE7371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75C10-2217-4F83-986C-6DDF7407F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54A44-BF41-4289-AA3D-57FD78E77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A180-FD5C-4B91-BF8E-92D564933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81A23-3CEF-4707-AF0C-6963736E0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A36DB-D89A-43AA-878F-E849930F8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F6711-E1E8-4E58-8A82-A71BAD12B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E455-279E-4BB8-89EB-B9435B9C2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3855-DD26-4DA4-B079-C54EAE0A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36A1E-C865-4C42-A593-3B544B12E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10DFB-A518-4E0B-8565-E23FE7139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8FD0C-4373-4FAB-B1D3-7736A4DC1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2DD5-13D7-438B-8A3A-74ABC2C2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991F-F187-4412-B44C-CAED9976F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B4ED-F34B-43AE-B207-D0616F93DD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1898-FBF2-4020-A69F-0BB6D1FD87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86920" y="189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Аристотель</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4140360" y="1773360"/>
            <a:ext cx="4125600" cy="425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11280" y="148392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ким образом, Аристотель внес свою лепту в развитие теории чувственного образа. Он трактовал сенсорный образ как запечатление формы предмета (а не его материи, как полагали Эмпедокл и Демокрит). По его словам, «ощущение есть то, что способно принимать формы чувственно воспринимаемых предметов без их материи, подобно тому, как воск принимает оттиск печати без железа и без золота». Решение Аристотеля составляет одну из граней современного представления о работе сенсорной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Детство и юность</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истотель родился в Стагире, греческой колонии в Халкидиках, недалеко от Афонской горы, в 384 г. до нашей эры. Отца Аристотеля звали Никомах, он был врачом при дворе Аминты III, царя Македонского. Никомах происходил из семьи потомственных лекарей, в которой врачебное искусство передавалось из поколения в поколение. Отец был первым наставником Аристотеля. Уже в детстве Аристотель познакомился с Филиппом, будущим отцом Александра Македонского, что сыграло не последнюю роль в его будущем назначении воспитателем Александра.</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369 году до н. э. Аристотель лишился родителей. Опекуном юного философа стал Проксен (впоследствии Аристотель тепло отзывался о нём, а когда Проксен умер, усыновил его сына Никанора). Аристотель наследовал от отца значительные средства, это дало ему возможность продолжать образование под руководством Проксена. Книги тогда были очень дороги, но Проксен покупал ему даже самые редкие. Таким образом, Аристотель в юности пристрастился к чтению. Под руководством своего опекуна Аристотель изучал растения и животных, что в будущем развилось в отдельную работу «О возникновении животны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640" y="333360"/>
            <a:ext cx="7772400" cy="6337440"/>
          </a:xfrm>
          <a:prstGeom prst="rect">
            <a:avLst/>
          </a:prstGeom>
          <a:noFill/>
          <a:ln w="0">
            <a:noFill/>
          </a:ln>
        </p:spPr>
        <p:txBody>
          <a:bodyPr lIns="90000" rIns="90000" tIns="46800" bIns="46800" anchor="t">
            <a:normAutofit/>
          </a:bodyPr>
          <a:p>
            <a:pPr marL="343080" indent="-343080">
              <a:lnSpc>
                <a:spcPct val="9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утешествуя, Аристотель побывал в Македонии, у царя Филиппа. Здесь ему довелось быть воспитателем сына Филиппа — Александра Македонского. Обучая Александра и имея на царя определенное влияние, Аристотель попросил восстановить родной город, разрушенный Филиппом, и добился этого. Он же написал законы для его жителей.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Александр Македонский, великий ученик Аристотеля, во время своих завоевательных походов приказывал отправлять своему старому учителю в Афины образцы растений и животных из завоеванных стран, что являлось ценным источником для естественнонаучных исследований ученого</a:t>
            </a:r>
            <a:r>
              <a:rPr b="0" lang="en-US" sz="14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 descr=""/>
          <p:cNvPicPr/>
          <p:nvPr/>
        </p:nvPicPr>
        <p:blipFill>
          <a:blip r:embed="rId1"/>
          <a:stretch/>
        </p:blipFill>
        <p:spPr>
          <a:xfrm>
            <a:off x="1619280" y="4267080"/>
            <a:ext cx="1714320" cy="2590920"/>
          </a:xfrm>
          <a:prstGeom prst="rect">
            <a:avLst/>
          </a:prstGeom>
          <a:ln w="0">
            <a:noFill/>
          </a:ln>
        </p:spPr>
      </p:pic>
      <p:pic>
        <p:nvPicPr>
          <p:cNvPr id="103" name="" descr=""/>
          <p:cNvPicPr/>
          <p:nvPr/>
        </p:nvPicPr>
        <p:blipFill>
          <a:blip r:embed="rId2"/>
          <a:stretch/>
        </p:blipFill>
        <p:spPr>
          <a:xfrm>
            <a:off x="6443640" y="1197000"/>
            <a:ext cx="150012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00000" y="33300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ристотель прожил 62 года и, по некоторым источникам, покончил с собой, выпив аконит. Прожил он жизнь весьма интересную, многое повидал, многому научился сам и многих выучил. По словам Диогена Лаэртского, у Аристотеля Стагирского было много учеников; более всего из них выделялся Феофаст. Таким образом, учение Аристотеля и его психологические воззрения не канули в веках и были использованы многими учеными-психологами не только древности, но Средневековья и Нового времени.</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3419640" y="3213000"/>
            <a:ext cx="2557440" cy="36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Психологическое учение</a:t>
            </a:r>
            <a:endParaRPr b="0" lang="en-US" sz="4200" spc="-1" strike="noStrike">
              <a:solidFill>
                <a:srgbClr val="330033"/>
              </a:solidFill>
              <a:latin typeface="Times New Roman"/>
            </a:endParaRPr>
          </a:p>
        </p:txBody>
      </p:sp>
      <p:sp>
        <p:nvSpPr>
          <p:cNvPr id="107" name="PlaceHolder 2"/>
          <p:cNvSpPr>
            <a:spLocks noGrp="1"/>
          </p:cNvSpPr>
          <p:nvPr>
            <p:ph/>
          </p:nvPr>
        </p:nvSpPr>
        <p:spPr>
          <a:xfrm>
            <a:off x="826920" y="1557000"/>
            <a:ext cx="77724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сихологическое учение Аристотеля строилось на обобщении биологических фактов, которое, в свою очередь, привело к преобразованию главных объяснительных принципов психологии организации (системности), развития и причинности.</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Аристотель приходит к выводу о том, что душа «как начало живых существ» (общее мнение древних) есть форма реализации способного к жизни тела «Необходимо душу признать сущностью, своего рода формой естественного тела, потенциально одаренного жизнью». «Правильно думают те, кому представляется, что душа не может существовать без тела и не является телом». Решительным итогом размышлений Аристотеля является его вывод «души от тела отделить нельзя», что сделало бессмысленным все проблемы, стоявшие в центре учения Платона (о прошлом и будущем души, способах ее соединения с телом и т.д.).</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аботы ученого</a:t>
            </a:r>
            <a:endParaRPr b="0" lang="en-US" sz="4200" spc="-1" strike="noStrike">
              <a:solidFill>
                <a:srgbClr val="330033"/>
              </a:solidFill>
              <a:latin typeface="Times New Roman"/>
            </a:endParaRPr>
          </a:p>
        </p:txBody>
      </p:sp>
      <p:sp>
        <p:nvSpPr>
          <p:cNvPr id="109" name="PlaceHolder 2"/>
          <p:cNvSpPr>
            <a:spLocks noGrp="1"/>
          </p:cNvSpPr>
          <p:nvPr>
            <p:ph/>
          </p:nvPr>
        </p:nvSpPr>
        <p:spPr>
          <a:xfrm>
            <a:off x="684360" y="1268280"/>
            <a:ext cx="7772400" cy="453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шедшие до нас сочинения Аристотеля делятся по содержанию на 7 груп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огические трактат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ологические трактаты: «История животных», «О частях животных», «О возникновении животных», «О движении животных»;</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актат «О душ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чинение о «первой философии»; рассматривающее сущее как таковое и получившее впоследствии название «Метафизи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ические сочинения – так называемые «Никомахова этика» (посвящённая Никомаху, сыну Аристотеля) и «Эвдемова этика» (посвящённая Эвдему, ученику Аристотеля);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циально-политические и исторические сочинения: «Политика», «Афинская полития».</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4788000" y="4734000"/>
            <a:ext cx="2519280" cy="2124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1800" spc="-1" strike="noStrike">
                <a:solidFill>
                  <a:srgbClr val="000000"/>
                </a:solidFill>
                <a:latin typeface="Arial"/>
              </a:rPr>
              <a:t>В своих трактатах «О душе», «О частях животных» и второстепенных психологических сочинениях («О памяти», «О сновидениях» и др.) Аристотель изложил систему психологических понятий, выработанных на основе объективного и генетического методов. Во всех случаях он рассматривал сложные и более высокие проявления жизнедеятельности как продукт развития элементарных структур.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огласно Аристотелю, душа — это целесообразно работающая органическая система «Если бы глаз был живым существом, душою его было бы зрение». Таким образом, он определил душу как энтелехию (присущую органическим телам целостность и целесообразность поведения), целеполагающее начало.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Функции души</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Функции души, по Аристотелю, являются уровнями ее развития. В связи с этим идея развития вводилась в психологию в качестве важного объяснительного принципа. Функции души располагались в виде «лестницы форм», где из низшей и на ее основе возникает функция более высокого уровня (за вегетативной — растительной — формируется способность ощущать, из которой развивается способность мыслить). </a:t>
            </a:r>
            <a:endParaRPr b="0" lang="en-US" sz="2000" spc="-1" strike="noStrike">
              <a:solidFill>
                <a:srgbClr val="000000"/>
              </a:solidFill>
              <a:latin typeface="Arial"/>
            </a:endParaRPr>
          </a:p>
        </p:txBody>
      </p:sp>
      <p:pic>
        <p:nvPicPr>
          <p:cNvPr id="114" name="" descr=""/>
          <p:cNvPicPr/>
          <p:nvPr/>
        </p:nvPicPr>
        <p:blipFill>
          <a:blip r:embed="rId1"/>
          <a:stretch/>
        </p:blipFill>
        <p:spPr>
          <a:xfrm>
            <a:off x="3492360" y="4508640"/>
            <a:ext cx="2521080" cy="21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Мозг не является органом психики</a:t>
            </a:r>
            <a:endParaRPr b="0" lang="en-US" sz="3800" spc="-1" strike="noStrike">
              <a:solidFill>
                <a:srgbClr val="330033"/>
              </a:solidFill>
              <a:latin typeface="Times New Roman"/>
            </a:endParaRPr>
          </a:p>
        </p:txBody>
      </p:sp>
      <p:sp>
        <p:nvSpPr>
          <p:cNvPr id="116" name="PlaceHolder 2"/>
          <p:cNvSpPr>
            <a:spLocks noGrp="1"/>
          </p:cNvSpPr>
          <p:nvPr>
            <p:ph/>
          </p:nvPr>
        </p:nvSpPr>
        <p:spPr>
          <a:xfrm>
            <a:off x="250920" y="1196640"/>
            <a:ext cx="5400720" cy="453060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зг, по мнению Стагирита, не орган психики, а аппарат, охлаждающий жар крови. Будучи вымышленными, с точки зрения физиологической реальности, эти представления вносили новый момент в трактовку центрального органа психической деятельности. Аристотелю принадлежит понятие об «общем чувствилище», корни которого уходят в область прямых связей организма со свойствами среды (сухим и влажным). С этим связана первая попытка определить физиологический механизм ассоциаций. Он полагал, что душа обладает способностью посредством центрального ощущающего органа — «общего чувствилища» — восстанавливать в органах чувств в уменьшенном объеме следы прежних движений и впечатлений в том порядке, в каком они производились внешними объектами. </a:t>
            </a:r>
            <a:endParaRPr b="0" lang="en-US" sz="1800" spc="-1" strike="noStrike">
              <a:solidFill>
                <a:srgbClr val="000000"/>
              </a:solidFill>
              <a:latin typeface="Arial"/>
            </a:endParaRPr>
          </a:p>
        </p:txBody>
      </p:sp>
      <p:pic>
        <p:nvPicPr>
          <p:cNvPr id="117" name="" descr=""/>
          <p:cNvPicPr/>
          <p:nvPr/>
        </p:nvPicPr>
        <p:blipFill>
          <a:blip r:embed="rId1"/>
          <a:stretch/>
        </p:blipFill>
        <p:spPr>
          <a:xfrm>
            <a:off x="5651640" y="1989000"/>
            <a:ext cx="3132000" cy="31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23:15:01Z</dcterms:created>
  <dc:creator>tamara</dc:creator>
  <dc:description/>
  <dc:language>en-US</dc:language>
  <cp:lastModifiedBy>tamara</cp:lastModifiedBy>
  <dcterms:modified xsi:type="dcterms:W3CDTF">2003-11-20T20:10:54Z</dcterms:modified>
  <cp:revision>7</cp:revision>
  <dc:subject/>
  <dc:title>Аристотель</dc:title>
</cp:coreProperties>
</file>